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B29AA-B95E-4D24-8CBF-7103ECD4E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6345F-2B7F-4CB4-ABB4-8197EA94F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D4F5D-9599-4576-977C-94C067526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85AF2-CB3E-4E0A-94B6-12CBF71DA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D67AA-FA94-44AA-921B-A996B6D03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7C8A8-D6E8-4C6C-8AAE-556A61F92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15E41-CA70-4330-A307-231546683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33C29-DAC8-4ED8-A9D2-8AFA8AA20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E437C-47E6-41A3-B3A9-906CC0193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E1F83-5B37-45BD-BBF5-4755CC9E6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5D2F4-FDEC-4432-A5BE-AEBA6041F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B27E6-D551-40ED-9755-FB6EA99EF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E9CDB-C891-4A03-ADBC-B23C7C005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581C6-D61E-4340-A1D9-9276D6FBC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1C1F4-0356-4704-8B75-573EB5F13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9E3B6-0F80-4A6A-BDCE-DDE1A18AA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9D533-E3D5-42DB-90D9-41815B00A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5DB0A-83D9-4B00-BA20-3A17CFAA7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DE688-7604-4D28-BC7E-353AC28DC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D2088-2F12-4A8B-AC45-F495F66C8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38C74-6F9E-4F53-86C9-707D22A9E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883A4-2B24-40BB-8964-7422DD32D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56078-F704-4B9F-89F3-3F7AFCD54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B58E-CE4B-4100-B64C-B20AE98F9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9FC0-B9A0-4242-B9D4-A7714B9F6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168D-923A-4D8A-9F6A-BB5867D06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04560" y="228600"/>
            <a:ext cx="8458200" cy="63244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Arial"/>
              </a:rPr>
              <a:t>October 4, 2011  Warm-up</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ff"/>
                </a:solidFill>
                <a:latin typeface="Arial"/>
              </a:rPr>
              <a:t>Complete the </a:t>
            </a:r>
            <a:r>
              <a:rPr b="1" lang="en-US" sz="2600" spc="-1" strike="noStrike">
                <a:solidFill>
                  <a:srgbClr val="ff6600"/>
                </a:solidFill>
                <a:latin typeface="Arial"/>
              </a:rPr>
              <a:t>prime factorization </a:t>
            </a:r>
            <a:r>
              <a:rPr b="1" lang="en-US" sz="2600" spc="-1" strike="noStrike">
                <a:solidFill>
                  <a:srgbClr val="3399ff"/>
                </a:solidFill>
                <a:latin typeface="Arial"/>
              </a:rPr>
              <a:t>of each number below.  (Write using exponents if needed.)</a:t>
            </a:r>
            <a:endParaRPr b="0" lang="en-US" sz="2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1.)</a:t>
            </a:r>
            <a:r>
              <a:rPr b="1" lang="en-US" sz="2400" spc="-1" strike="noStrike">
                <a:solidFill>
                  <a:srgbClr val="33ccff"/>
                </a:solidFill>
                <a:latin typeface="Arial"/>
              </a:rPr>
              <a:t>  </a:t>
            </a:r>
            <a:r>
              <a:rPr b="1" lang="en-US" sz="2400" spc="-1" strike="noStrike">
                <a:solidFill>
                  <a:srgbClr val="000000"/>
                </a:solidFill>
                <a:latin typeface="Arial"/>
              </a:rPr>
              <a:t>65</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3399ff"/>
                </a:solidFill>
                <a:latin typeface="Arial"/>
              </a:rPr>
              <a:t>2.)</a:t>
            </a:r>
            <a:r>
              <a:rPr b="1" lang="en-US" sz="2400" spc="-1" strike="noStrike">
                <a:solidFill>
                  <a:srgbClr val="33ccff"/>
                </a:solidFill>
                <a:latin typeface="Arial"/>
              </a:rPr>
              <a:t>  </a:t>
            </a:r>
            <a:r>
              <a:rPr b="1" lang="en-US" sz="2400" spc="-1" strike="noStrike">
                <a:solidFill>
                  <a:srgbClr val="000000"/>
                </a:solidFill>
                <a:latin typeface="Arial"/>
              </a:rPr>
              <a:t>80</a:t>
            </a:r>
            <a:r>
              <a:rPr b="1" lang="en-US" sz="2400" spc="-1" strike="noStrike">
                <a:solidFill>
                  <a:srgbClr val="000000"/>
                </a:solidFill>
                <a:latin typeface="Arial"/>
              </a:rPr>
              <a:t>	</a:t>
            </a:r>
            <a:r>
              <a:rPr b="1" lang="en-US" sz="2400" spc="-1" strike="noStrike">
                <a:solidFill>
                  <a:srgbClr val="33ccff"/>
                </a:solidFill>
                <a:latin typeface="Arial"/>
              </a:rPr>
              <a:t>	</a:t>
            </a:r>
            <a:r>
              <a:rPr b="1" lang="en-US" sz="2400" spc="-1" strike="noStrike">
                <a:solidFill>
                  <a:srgbClr val="3399ff"/>
                </a:solidFill>
                <a:latin typeface="Arial"/>
              </a:rPr>
              <a:t>3.)</a:t>
            </a:r>
            <a:r>
              <a:rPr b="1" lang="en-US" sz="2400" spc="-1" strike="noStrike">
                <a:solidFill>
                  <a:srgbClr val="33ccff"/>
                </a:solidFill>
                <a:latin typeface="Arial"/>
              </a:rPr>
              <a:t>  </a:t>
            </a:r>
            <a:r>
              <a:rPr b="1" lang="en-US" sz="2400" spc="-1" strike="noStrike">
                <a:solidFill>
                  <a:srgbClr val="000000"/>
                </a:solidFill>
                <a:latin typeface="Arial"/>
              </a:rPr>
              <a:t>29</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4.)</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33ccff"/>
                </a:solidFill>
                <a:latin typeface="Arial"/>
              </a:rPr>
              <a:t>	</a:t>
            </a:r>
            <a:r>
              <a:rPr b="1" lang="en-US" sz="2400" spc="-1" strike="noStrike">
                <a:solidFill>
                  <a:srgbClr val="3399ff"/>
                </a:solidFill>
                <a:latin typeface="Arial"/>
              </a:rPr>
              <a:t>5.)</a:t>
            </a:r>
            <a:r>
              <a:rPr b="1" lang="en-US" sz="2400" spc="-1" strike="noStrike">
                <a:solidFill>
                  <a:srgbClr val="33ccff"/>
                </a:solidFill>
                <a:latin typeface="Arial"/>
              </a:rPr>
              <a:t> </a:t>
            </a:r>
            <a:r>
              <a:rPr b="1" lang="en-US" sz="2400" spc="-1" strike="noStrike">
                <a:solidFill>
                  <a:srgbClr val="000000"/>
                </a:solidFill>
                <a:latin typeface="Arial"/>
              </a:rPr>
              <a:t>66</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3399ff"/>
                </a:solidFill>
                <a:latin typeface="Arial"/>
              </a:rPr>
              <a:t>6.)</a:t>
            </a:r>
            <a:r>
              <a:rPr b="1" lang="en-US" sz="2400" spc="-1" strike="noStrike">
                <a:solidFill>
                  <a:srgbClr val="dddddd"/>
                </a:solidFill>
                <a:latin typeface="Arial"/>
              </a:rPr>
              <a:t>  </a:t>
            </a:r>
            <a:r>
              <a:rPr b="1" lang="en-US" sz="2400" spc="-1" strike="noStrike">
                <a:solidFill>
                  <a:srgbClr val="000000"/>
                </a:solidFill>
                <a:latin typeface="Arial"/>
              </a:rPr>
              <a:t>320</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66"/>
                </a:solidFill>
                <a:latin typeface="Arial"/>
              </a:rPr>
              <a:t>	</a:t>
            </a:r>
            <a:r>
              <a:rPr b="0" lang="en-US" sz="1400" spc="-1" strike="noStrike">
                <a:solidFill>
                  <a:srgbClr val="00cc66"/>
                </a:solidFill>
                <a:latin typeface="Arial"/>
              </a:rPr>
              <a:t>	</a:t>
            </a:r>
            <a:endParaRPr b="0" lang="en-US" sz="1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838080"/>
            <a:ext cx="80010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Unit 2 </a:t>
            </a:r>
            <a:r>
              <a:rPr b="0" lang="en-US" sz="4400" spc="-1" strike="noStrike">
                <a:solidFill>
                  <a:srgbClr val="f6fcac"/>
                </a:solidFill>
                <a:latin typeface="Arial"/>
              </a:rPr>
              <a:t>	</a:t>
            </a:r>
            <a:endParaRPr b="0" lang="en-US" sz="4400" spc="-1" strike="noStrike">
              <a:solidFill>
                <a:srgbClr val="000000"/>
              </a:solidFill>
              <a:latin typeface="Arial"/>
            </a:endParaRPr>
          </a:p>
        </p:txBody>
      </p:sp>
      <p:sp>
        <p:nvSpPr>
          <p:cNvPr id="213" name="PlaceHolder 2"/>
          <p:cNvSpPr>
            <a:spLocks noGrp="1"/>
          </p:cNvSpPr>
          <p:nvPr>
            <p:ph type="subTitle"/>
          </p:nvPr>
        </p:nvSpPr>
        <p:spPr>
          <a:xfrm>
            <a:off x="304560" y="3428640"/>
            <a:ext cx="8305560" cy="25909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xponential Notation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tudents will write whole numbers using exponential form with powers of 10.</a:t>
            </a:r>
            <a:endParaRPr b="0" lang="en-US" sz="2000" spc="-1" strike="noStrike">
              <a:solidFill>
                <a:srgbClr val="000000"/>
              </a:solidFill>
              <a:latin typeface="Arial"/>
            </a:endParaRPr>
          </a:p>
        </p:txBody>
      </p:sp>
      <p:sp>
        <p:nvSpPr>
          <p:cNvPr id="214" name=""/>
          <p:cNvSpPr/>
          <p:nvPr/>
        </p:nvSpPr>
        <p:spPr>
          <a:xfrm>
            <a:off x="7527960" y="4727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4249800" y="5295960"/>
            <a:ext cx="1590480" cy="61920"/>
          </a:xfrm>
          <a:custGeom>
            <a:avLst/>
            <a:gdLst/>
            <a:ahLst/>
            <a:rect l="l" t="t" r="r" b="b"/>
            <a:pathLst>
              <a:path w="4416" h="175">
                <a:moveTo>
                  <a:pt x="11807" y="14883"/>
                </a:moveTo>
                <a:cubicBezTo>
                  <a:pt x="12032" y="14883"/>
                  <a:pt x="12255" y="14892"/>
                  <a:pt x="12477" y="14858"/>
                </a:cubicBezTo>
                <a:cubicBezTo>
                  <a:pt x="12691" y="14825"/>
                  <a:pt x="12907" y="14829"/>
                  <a:pt x="13122" y="14808"/>
                </a:cubicBezTo>
                <a:cubicBezTo>
                  <a:pt x="13334" y="14787"/>
                  <a:pt x="13558" y="14763"/>
                  <a:pt x="13767" y="14734"/>
                </a:cubicBezTo>
                <a:cubicBezTo>
                  <a:pt x="13908" y="14714"/>
                  <a:pt x="14042" y="14734"/>
                  <a:pt x="14188" y="14734"/>
                </a:cubicBezTo>
                <a:cubicBezTo>
                  <a:pt x="14342" y="14734"/>
                  <a:pt x="14486" y="14742"/>
                  <a:pt x="14635" y="14759"/>
                </a:cubicBezTo>
                <a:cubicBezTo>
                  <a:pt x="14774" y="14775"/>
                  <a:pt x="14918" y="14766"/>
                  <a:pt x="15056" y="14784"/>
                </a:cubicBezTo>
                <a:cubicBezTo>
                  <a:pt x="15228" y="14806"/>
                  <a:pt x="15378" y="14787"/>
                  <a:pt x="15553" y="14784"/>
                </a:cubicBezTo>
                <a:cubicBezTo>
                  <a:pt x="15749" y="14781"/>
                  <a:pt x="16007" y="14723"/>
                  <a:pt x="16197" y="14759"/>
                </a:cubicBezTo>
                <a:cubicBezTo>
                  <a:pt x="16220" y="14782"/>
                  <a:pt x="16231" y="14790"/>
                  <a:pt x="16197" y="14784"/>
                </a:cubicBezTo>
              </a:path>
            </a:pathLst>
          </a:custGeom>
          <a:noFill/>
          <a:ln cap="rnd" w="1908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7"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8052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tudents will write whole numbers using exponential form with powers of 10.</a:t>
            </a:r>
            <a:endParaRPr b="0" lang="en-US" sz="2000" spc="-1" strike="noStrike">
              <a:solidFill>
                <a:srgbClr val="000000"/>
              </a:solidFill>
              <a:latin typeface="Arial"/>
            </a:endParaRPr>
          </a:p>
        </p:txBody>
      </p:sp>
      <p:sp>
        <p:nvSpPr>
          <p:cNvPr id="217" name="PlaceHolder 2"/>
          <p:cNvSpPr>
            <a:spLocks noGrp="1"/>
          </p:cNvSpPr>
          <p:nvPr>
            <p:ph/>
          </p:nvPr>
        </p:nvSpPr>
        <p:spPr>
          <a:xfrm>
            <a:off x="304920" y="1600200"/>
            <a:ext cx="8229600" cy="46483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cabulary</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	</a:t>
            </a:r>
            <a:r>
              <a:rPr b="0" lang="en-US" sz="2800" spc="-1" strike="noStrike" u="sng">
                <a:solidFill>
                  <a:srgbClr val="ff6600"/>
                </a:solidFill>
                <a:uFillTx/>
                <a:latin typeface="Arial"/>
              </a:rPr>
              <a:t>Standard form</a:t>
            </a:r>
            <a:r>
              <a:rPr b="0" lang="en-US" sz="2800" spc="-1" strike="noStrike">
                <a:solidFill>
                  <a:srgbClr val="ff6600"/>
                </a:solidFill>
                <a:latin typeface="Arial"/>
              </a:rPr>
              <a:t> – Written as a number (ex. 352)</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r>
              <a:rPr b="0" lang="en-US" sz="2800" spc="-1" strike="noStrike" u="sng">
                <a:solidFill>
                  <a:srgbClr val="ff6600"/>
                </a:solidFill>
                <a:uFillTx/>
                <a:latin typeface="Arial"/>
              </a:rPr>
              <a:t>Expanded form</a:t>
            </a:r>
            <a:r>
              <a:rPr b="0" lang="en-US" sz="2800" spc="-1" strike="noStrike">
                <a:solidFill>
                  <a:srgbClr val="ff6600"/>
                </a:solidFill>
                <a:latin typeface="Arial"/>
              </a:rPr>
              <a:t> – Broken down by place value </a:t>
            </a:r>
            <a:r>
              <a:rPr b="0" lang="en-US" sz="2800" spc="-1" strike="noStrike">
                <a:solidFill>
                  <a:srgbClr val="ff6600"/>
                </a:solidFill>
                <a:latin typeface="Arial"/>
              </a:rPr>
              <a:t>	</a:t>
            </a:r>
            <a:r>
              <a:rPr b="0" lang="en-US" sz="2800" spc="-1" strike="noStrike">
                <a:solidFill>
                  <a:srgbClr val="ff6600"/>
                </a:solidFill>
                <a:latin typeface="Arial"/>
              </a:rPr>
              <a:t>	</a:t>
            </a:r>
            <a:r>
              <a:rPr b="0" lang="en-US" sz="2800" spc="-1" strike="noStrike">
                <a:solidFill>
                  <a:srgbClr val="ff6600"/>
                </a:solidFill>
                <a:latin typeface="Arial"/>
              </a:rPr>
              <a:t>	</a:t>
            </a:r>
            <a:r>
              <a:rPr b="0" lang="en-US" sz="2800" spc="-1" strike="noStrike">
                <a:solidFill>
                  <a:srgbClr val="ff6600"/>
                </a:solidFill>
                <a:latin typeface="Arial"/>
              </a:rPr>
              <a:t>	</a:t>
            </a:r>
            <a:r>
              <a:rPr b="0" lang="en-US" sz="2800" spc="-1" strike="noStrike">
                <a:solidFill>
                  <a:srgbClr val="ff6600"/>
                </a:solidFill>
                <a:latin typeface="Arial"/>
              </a:rPr>
              <a:t>(ex. 300 + 50 + 2)</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r>
              <a:rPr b="0" lang="en-US" sz="2800" spc="-1" strike="noStrike" u="sng">
                <a:solidFill>
                  <a:srgbClr val="ff6600"/>
                </a:solidFill>
                <a:uFillTx/>
                <a:latin typeface="Arial"/>
              </a:rPr>
              <a:t>Exponential</a:t>
            </a:r>
            <a:r>
              <a:rPr b="0" lang="en-US" sz="2800" spc="-1" strike="noStrike">
                <a:solidFill>
                  <a:srgbClr val="ff6600"/>
                </a:solidFill>
                <a:latin typeface="Arial"/>
              </a:rPr>
              <a:t> form– Written using powers of 10 </a:t>
            </a:r>
            <a:r>
              <a:rPr b="0" lang="en-US" sz="2800" spc="-1" strike="noStrike">
                <a:solidFill>
                  <a:srgbClr val="ff6600"/>
                </a:solidFill>
                <a:latin typeface="Arial"/>
              </a:rPr>
              <a:t>	</a:t>
            </a:r>
            <a:r>
              <a:rPr b="0" lang="en-US" sz="2800" spc="-1" strike="noStrike">
                <a:solidFill>
                  <a:srgbClr val="ff6600"/>
                </a:solidFill>
                <a:latin typeface="Arial"/>
              </a:rPr>
              <a:t>	</a:t>
            </a:r>
            <a:r>
              <a:rPr b="0" lang="en-US" sz="2800" spc="-1" strike="noStrike">
                <a:solidFill>
                  <a:srgbClr val="ff6600"/>
                </a:solidFill>
                <a:latin typeface="Arial"/>
              </a:rPr>
              <a:t>(ex. (3 x 10</a:t>
            </a:r>
            <a:r>
              <a:rPr b="0" lang="en-US" sz="2800" spc="-1" strike="noStrike" baseline="30000">
                <a:solidFill>
                  <a:srgbClr val="ff6600"/>
                </a:solidFill>
                <a:latin typeface="Arial"/>
              </a:rPr>
              <a:t>2)</a:t>
            </a:r>
            <a:r>
              <a:rPr b="0" lang="en-US" sz="2800" spc="-1" strike="noStrike">
                <a:solidFill>
                  <a:srgbClr val="ff6600"/>
                </a:solidFill>
                <a:latin typeface="Arial"/>
              </a:rPr>
              <a:t> + (5 x 10</a:t>
            </a:r>
            <a:r>
              <a:rPr b="0" lang="en-US" sz="2800" spc="-1" strike="noStrike" baseline="30000">
                <a:solidFill>
                  <a:srgbClr val="ff6600"/>
                </a:solidFill>
                <a:latin typeface="Arial"/>
              </a:rPr>
              <a:t>1</a:t>
            </a:r>
            <a:r>
              <a:rPr b="0" lang="en-US" sz="2800" spc="-1" strike="noStrike">
                <a:solidFill>
                  <a:srgbClr val="ff6600"/>
                </a:solidFill>
                <a:latin typeface="Arial"/>
              </a:rPr>
              <a:t>) + (2 x 10</a:t>
            </a:r>
            <a:r>
              <a:rPr b="0" lang="en-US" sz="2800" spc="-1" strike="noStrike" baseline="30000">
                <a:solidFill>
                  <a:srgbClr val="ff6600"/>
                </a:solidFill>
                <a:latin typeface="Arial"/>
              </a:rPr>
              <a:t>0</a:t>
            </a:r>
            <a:r>
              <a:rPr b="0" lang="en-US" sz="2800" spc="-1" strike="noStrike">
                <a:solidFill>
                  <a:srgbClr val="ff6600"/>
                </a:solidFill>
                <a:latin typeface="Arial"/>
              </a:rPr>
              <a:t>)</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r>
              <a:rPr b="0" lang="en-US" sz="2800" spc="-1" strike="noStrike" u="sng">
                <a:solidFill>
                  <a:srgbClr val="ff6600"/>
                </a:solidFill>
                <a:uFillTx/>
                <a:latin typeface="Arial"/>
              </a:rPr>
              <a:t>Notation</a:t>
            </a:r>
            <a:r>
              <a:rPr b="0" lang="en-US" sz="2800" spc="-1" strike="noStrike">
                <a:solidFill>
                  <a:srgbClr val="ff6600"/>
                </a:solidFill>
                <a:latin typeface="Arial"/>
              </a:rPr>
              <a:t> - Way of writing</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Exponential</a:t>
            </a:r>
            <a:r>
              <a:rPr b="1" lang="en-US" sz="2800" spc="-1" strike="noStrike">
                <a:solidFill>
                  <a:srgbClr val="3399ff"/>
                </a:solidFill>
                <a:latin typeface="Arial"/>
              </a:rPr>
              <a:t> notation is how you learn to write numbers after </a:t>
            </a:r>
            <a:r>
              <a:rPr b="1" lang="en-US" sz="2800" spc="-1" strike="noStrike">
                <a:solidFill>
                  <a:srgbClr val="ff6600"/>
                </a:solidFill>
                <a:latin typeface="Arial"/>
              </a:rPr>
              <a:t>expanded</a:t>
            </a:r>
            <a:r>
              <a:rPr b="1" lang="en-US" sz="2800" spc="-1" strike="noStrike">
                <a:solidFill>
                  <a:srgbClr val="3399ff"/>
                </a:solidFill>
                <a:latin typeface="Arial"/>
              </a:rPr>
              <a:t> form and before </a:t>
            </a:r>
            <a:r>
              <a:rPr b="1" lang="en-US" sz="2800" spc="-1" strike="noStrike">
                <a:solidFill>
                  <a:srgbClr val="ff6600"/>
                </a:solidFill>
                <a:latin typeface="Arial"/>
              </a:rPr>
              <a:t>scientific</a:t>
            </a:r>
            <a:r>
              <a:rPr b="1" lang="en-US" sz="2800" spc="-1" strike="noStrike">
                <a:solidFill>
                  <a:srgbClr val="3399ff"/>
                </a:solidFill>
                <a:latin typeface="Arial"/>
              </a:rPr>
              <a:t> notation.</a:t>
            </a:r>
            <a:r>
              <a:rPr b="0" lang="en-US" sz="2800" spc="-1" strike="noStrike">
                <a:solidFill>
                  <a:srgbClr val="336699"/>
                </a:solidFill>
                <a:latin typeface="Arial"/>
              </a:rPr>
              <a:t>  </a:t>
            </a: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347760" y="2303640"/>
            <a:ext cx="215640" cy="90360"/>
          </a:xfrm>
          <a:custGeom>
            <a:avLst/>
            <a:gdLst/>
            <a:ahLst/>
            <a:rect l="l" t="t" r="r" b="b"/>
            <a:pathLst>
              <a:path w="597" h="249">
                <a:moveTo>
                  <a:pt x="1215" y="6573"/>
                </a:moveTo>
                <a:cubicBezTo>
                  <a:pt x="1270" y="6573"/>
                  <a:pt x="1306" y="6558"/>
                  <a:pt x="1364" y="6548"/>
                </a:cubicBezTo>
                <a:cubicBezTo>
                  <a:pt x="1438" y="6536"/>
                  <a:pt x="1538" y="6524"/>
                  <a:pt x="1538" y="6524"/>
                </a:cubicBezTo>
                <a:cubicBezTo>
                  <a:pt x="1378" y="6558"/>
                  <a:pt x="1159" y="6566"/>
                  <a:pt x="1017" y="6648"/>
                </a:cubicBezTo>
                <a:cubicBezTo>
                  <a:pt x="893" y="6720"/>
                  <a:pt x="1299" y="6601"/>
                  <a:pt x="1439" y="6573"/>
                </a:cubicBezTo>
                <a:cubicBezTo>
                  <a:pt x="1717" y="6517"/>
                  <a:pt x="1173" y="6548"/>
                  <a:pt x="1166" y="6548"/>
                </a:cubicBezTo>
                <a:cubicBezTo>
                  <a:pt x="1108" y="6548"/>
                  <a:pt x="1050" y="6548"/>
                  <a:pt x="992" y="6548"/>
                </a:cubicBezTo>
                <a:cubicBezTo>
                  <a:pt x="835" y="6548"/>
                  <a:pt x="1257" y="6548"/>
                  <a:pt x="1414" y="6548"/>
                </a:cubicBezTo>
                <a:cubicBezTo>
                  <a:pt x="1581" y="6548"/>
                  <a:pt x="1282" y="6510"/>
                  <a:pt x="1116" y="6499"/>
                </a:cubicBezTo>
                <a:cubicBezTo>
                  <a:pt x="780" y="6476"/>
                  <a:pt x="1173" y="6492"/>
                  <a:pt x="1265" y="6474"/>
                </a:cubicBezTo>
                <a:cubicBezTo>
                  <a:pt x="1331" y="6457"/>
                  <a:pt x="1397" y="6441"/>
                  <a:pt x="1463" y="6424"/>
                </a:cubicBezTo>
                <a:cubicBezTo>
                  <a:pt x="1665" y="6341"/>
                  <a:pt x="1207" y="6439"/>
                  <a:pt x="1141" y="6449"/>
                </a:cubicBezTo>
                <a:cubicBezTo>
                  <a:pt x="1141" y="6485"/>
                  <a:pt x="1342" y="6432"/>
                  <a:pt x="1439" y="6424"/>
                </a:cubicBezTo>
                <a:cubicBezTo>
                  <a:pt x="1497" y="6424"/>
                  <a:pt x="1538" y="6424"/>
                  <a:pt x="1488" y="6424"/>
                </a:cubicBezTo>
              </a:path>
            </a:pathLst>
          </a:custGeom>
          <a:noFill/>
          <a:ln cap="rnd" w="1908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
          <p:cNvSpPr/>
          <p:nvPr/>
        </p:nvSpPr>
        <p:spPr>
          <a:xfrm>
            <a:off x="374760" y="2776680"/>
            <a:ext cx="214200" cy="98280"/>
          </a:xfrm>
          <a:custGeom>
            <a:avLst/>
            <a:gdLst/>
            <a:ahLst/>
            <a:rect l="l" t="t" r="r" b="b"/>
            <a:pathLst>
              <a:path w="596" h="274">
                <a:moveTo>
                  <a:pt x="1116" y="7938"/>
                </a:moveTo>
                <a:cubicBezTo>
                  <a:pt x="1116" y="7872"/>
                  <a:pt x="1201" y="7811"/>
                  <a:pt x="1265" y="7789"/>
                </a:cubicBezTo>
                <a:cubicBezTo>
                  <a:pt x="1368" y="7754"/>
                  <a:pt x="1644" y="7715"/>
                  <a:pt x="1538" y="7739"/>
                </a:cubicBezTo>
                <a:cubicBezTo>
                  <a:pt x="1378" y="7776"/>
                  <a:pt x="1206" y="7778"/>
                  <a:pt x="1042" y="7789"/>
                </a:cubicBezTo>
                <a:cubicBezTo>
                  <a:pt x="1207" y="7812"/>
                  <a:pt x="1305" y="7774"/>
                  <a:pt x="1463" y="7739"/>
                </a:cubicBezTo>
                <a:cubicBezTo>
                  <a:pt x="1580" y="7713"/>
                  <a:pt x="1332" y="7788"/>
                  <a:pt x="1215" y="7813"/>
                </a:cubicBezTo>
                <a:cubicBezTo>
                  <a:pt x="1108" y="7831"/>
                  <a:pt x="1100" y="7839"/>
                  <a:pt x="1042" y="7838"/>
                </a:cubicBezTo>
                <a:cubicBezTo>
                  <a:pt x="1239" y="7818"/>
                  <a:pt x="1419" y="7753"/>
                  <a:pt x="1612" y="7714"/>
                </a:cubicBezTo>
                <a:cubicBezTo>
                  <a:pt x="1782" y="7680"/>
                  <a:pt x="1330" y="7807"/>
                  <a:pt x="1166" y="7863"/>
                </a:cubicBezTo>
                <a:cubicBezTo>
                  <a:pt x="1021" y="7912"/>
                  <a:pt x="1315" y="7902"/>
                  <a:pt x="1463" y="7863"/>
                </a:cubicBezTo>
                <a:cubicBezTo>
                  <a:pt x="1505" y="7846"/>
                  <a:pt x="1546" y="7830"/>
                  <a:pt x="1588" y="7813"/>
                </a:cubicBezTo>
                <a:cubicBezTo>
                  <a:pt x="1596" y="7813"/>
                  <a:pt x="1604" y="7813"/>
                  <a:pt x="1612" y="7813"/>
                </a:cubicBezTo>
                <a:cubicBezTo>
                  <a:pt x="1452" y="7822"/>
                  <a:pt x="1238" y="7814"/>
                  <a:pt x="1116" y="7938"/>
                </a:cubicBezTo>
                <a:cubicBezTo>
                  <a:pt x="1026" y="8029"/>
                  <a:pt x="1486" y="7735"/>
                  <a:pt x="1488" y="7863"/>
                </a:cubicBezTo>
                <a:cubicBezTo>
                  <a:pt x="1488" y="7884"/>
                  <a:pt x="1057" y="7973"/>
                  <a:pt x="1116" y="7987"/>
                </a:cubicBezTo>
                <a:cubicBezTo>
                  <a:pt x="1218" y="8012"/>
                  <a:pt x="1429" y="7817"/>
                  <a:pt x="1265" y="7938"/>
                </a:cubicBezTo>
                <a:cubicBezTo>
                  <a:pt x="1257" y="7946"/>
                  <a:pt x="1248" y="7954"/>
                  <a:pt x="1240" y="796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724280" y="1847880"/>
            <a:ext cx="3527640" cy="1527120"/>
          </a:xfrm>
          <a:custGeom>
            <a:avLst/>
            <a:gdLst/>
            <a:ahLst/>
            <a:rect l="l" t="t" r="r" b="b"/>
            <a:pathLst>
              <a:path w="9799" h="4242">
                <a:moveTo>
                  <a:pt x="20166" y="6846"/>
                </a:moveTo>
                <a:cubicBezTo>
                  <a:pt x="20222" y="6854"/>
                  <a:pt x="20272" y="6869"/>
                  <a:pt x="20340" y="6871"/>
                </a:cubicBezTo>
                <a:cubicBezTo>
                  <a:pt x="20487" y="6875"/>
                  <a:pt x="20641" y="6902"/>
                  <a:pt x="20786" y="6921"/>
                </a:cubicBezTo>
                <a:cubicBezTo>
                  <a:pt x="20960" y="6944"/>
                  <a:pt x="21131" y="6966"/>
                  <a:pt x="21307" y="6970"/>
                </a:cubicBezTo>
                <a:cubicBezTo>
                  <a:pt x="21584" y="6976"/>
                  <a:pt x="21878" y="6993"/>
                  <a:pt x="22151" y="6945"/>
                </a:cubicBezTo>
                <a:cubicBezTo>
                  <a:pt x="22292" y="6920"/>
                  <a:pt x="22426" y="6896"/>
                  <a:pt x="22547" y="6821"/>
                </a:cubicBezTo>
                <a:cubicBezTo>
                  <a:pt x="22641" y="6762"/>
                  <a:pt x="22736" y="6618"/>
                  <a:pt x="22796" y="6524"/>
                </a:cubicBezTo>
                <a:cubicBezTo>
                  <a:pt x="22861" y="6423"/>
                  <a:pt x="22876" y="6312"/>
                  <a:pt x="22895" y="6201"/>
                </a:cubicBezTo>
                <a:cubicBezTo>
                  <a:pt x="22917" y="6072"/>
                  <a:pt x="22916" y="6005"/>
                  <a:pt x="22870" y="5879"/>
                </a:cubicBezTo>
                <a:cubicBezTo>
                  <a:pt x="22813" y="5724"/>
                  <a:pt x="22752" y="5657"/>
                  <a:pt x="22622" y="5556"/>
                </a:cubicBezTo>
                <a:cubicBezTo>
                  <a:pt x="22482" y="5448"/>
                  <a:pt x="22371" y="5343"/>
                  <a:pt x="22200" y="5283"/>
                </a:cubicBezTo>
                <a:cubicBezTo>
                  <a:pt x="22080" y="5241"/>
                  <a:pt x="21951" y="5215"/>
                  <a:pt x="21828" y="5184"/>
                </a:cubicBezTo>
                <a:cubicBezTo>
                  <a:pt x="21658" y="5141"/>
                  <a:pt x="21457" y="5138"/>
                  <a:pt x="21282" y="5135"/>
                </a:cubicBezTo>
                <a:cubicBezTo>
                  <a:pt x="21098" y="5131"/>
                  <a:pt x="20919" y="5171"/>
                  <a:pt x="20737" y="5184"/>
                </a:cubicBezTo>
                <a:cubicBezTo>
                  <a:pt x="20587" y="5195"/>
                  <a:pt x="20439" y="5207"/>
                  <a:pt x="20290" y="5234"/>
                </a:cubicBezTo>
                <a:cubicBezTo>
                  <a:pt x="20139" y="5262"/>
                  <a:pt x="19987" y="5303"/>
                  <a:pt x="19844" y="5358"/>
                </a:cubicBezTo>
                <a:cubicBezTo>
                  <a:pt x="19708" y="5410"/>
                  <a:pt x="19600" y="5489"/>
                  <a:pt x="19472" y="5556"/>
                </a:cubicBezTo>
                <a:cubicBezTo>
                  <a:pt x="19255" y="5670"/>
                  <a:pt x="19038" y="5765"/>
                  <a:pt x="18852" y="5928"/>
                </a:cubicBezTo>
                <a:cubicBezTo>
                  <a:pt x="18777" y="5994"/>
                  <a:pt x="18676" y="6091"/>
                  <a:pt x="18628" y="6176"/>
                </a:cubicBezTo>
                <a:cubicBezTo>
                  <a:pt x="18555" y="6305"/>
                  <a:pt x="18533" y="6418"/>
                  <a:pt x="18529" y="6573"/>
                </a:cubicBezTo>
                <a:cubicBezTo>
                  <a:pt x="18526" y="6693"/>
                  <a:pt x="18575" y="6782"/>
                  <a:pt x="18653" y="6871"/>
                </a:cubicBezTo>
                <a:cubicBezTo>
                  <a:pt x="18756" y="6989"/>
                  <a:pt x="18842" y="7031"/>
                  <a:pt x="19000" y="7069"/>
                </a:cubicBezTo>
                <a:cubicBezTo>
                  <a:pt x="19193" y="7115"/>
                  <a:pt x="19398" y="7094"/>
                  <a:pt x="19596" y="7094"/>
                </a:cubicBezTo>
                <a:cubicBezTo>
                  <a:pt x="19781" y="7094"/>
                  <a:pt x="19981" y="7086"/>
                  <a:pt x="20166" y="7069"/>
                </a:cubicBezTo>
                <a:cubicBezTo>
                  <a:pt x="20374" y="7050"/>
                  <a:pt x="20576" y="7045"/>
                  <a:pt x="20786" y="7045"/>
                </a:cubicBezTo>
                <a:cubicBezTo>
                  <a:pt x="20910" y="7045"/>
                  <a:pt x="21034" y="7045"/>
                  <a:pt x="21158" y="7045"/>
                </a:cubicBezTo>
              </a:path>
              <a:path w="9799" h="4242">
                <a:moveTo>
                  <a:pt x="13122" y="9376"/>
                </a:moveTo>
                <a:cubicBezTo>
                  <a:pt x="13208" y="9361"/>
                  <a:pt x="13281" y="9353"/>
                  <a:pt x="13370" y="9351"/>
                </a:cubicBezTo>
                <a:cubicBezTo>
                  <a:pt x="13584" y="9346"/>
                  <a:pt x="13807" y="9396"/>
                  <a:pt x="14015" y="9376"/>
                </a:cubicBezTo>
                <a:cubicBezTo>
                  <a:pt x="14095" y="9368"/>
                  <a:pt x="14184" y="9380"/>
                  <a:pt x="14263" y="9376"/>
                </a:cubicBezTo>
                <a:cubicBezTo>
                  <a:pt x="14387" y="9369"/>
                  <a:pt x="14484" y="9366"/>
                  <a:pt x="14610" y="9376"/>
                </a:cubicBezTo>
                <a:cubicBezTo>
                  <a:pt x="14718" y="9384"/>
                  <a:pt x="14848" y="9363"/>
                  <a:pt x="14957" y="9351"/>
                </a:cubicBezTo>
                <a:cubicBezTo>
                  <a:pt x="15067" y="9339"/>
                  <a:pt x="15167" y="9329"/>
                  <a:pt x="15280" y="9327"/>
                </a:cubicBezTo>
                <a:cubicBezTo>
                  <a:pt x="15430" y="9324"/>
                  <a:pt x="15581" y="9310"/>
                  <a:pt x="15726" y="9302"/>
                </a:cubicBezTo>
                <a:cubicBezTo>
                  <a:pt x="15917" y="9291"/>
                  <a:pt x="16111" y="9290"/>
                  <a:pt x="16297" y="9277"/>
                </a:cubicBezTo>
                <a:cubicBezTo>
                  <a:pt x="16495" y="9263"/>
                  <a:pt x="16696" y="9267"/>
                  <a:pt x="16892" y="9252"/>
                </a:cubicBezTo>
                <a:cubicBezTo>
                  <a:pt x="17246" y="9225"/>
                  <a:pt x="17613" y="9291"/>
                  <a:pt x="17959" y="9277"/>
                </a:cubicBezTo>
                <a:cubicBezTo>
                  <a:pt x="18032" y="9274"/>
                  <a:pt x="18131" y="9260"/>
                  <a:pt x="18207" y="9252"/>
                </a:cubicBezTo>
                <a:cubicBezTo>
                  <a:pt x="18324" y="9239"/>
                  <a:pt x="18435" y="9230"/>
                  <a:pt x="18554" y="9227"/>
                </a:cubicBezTo>
                <a:cubicBezTo>
                  <a:pt x="18620" y="9225"/>
                  <a:pt x="18686" y="9227"/>
                  <a:pt x="18752" y="922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03120" y="3633840"/>
            <a:ext cx="955800" cy="1081080"/>
          </a:xfrm>
          <a:custGeom>
            <a:avLst/>
            <a:gdLst/>
            <a:ahLst/>
            <a:rect l="l" t="t" r="r" b="b"/>
            <a:pathLst>
              <a:path w="2655" h="3002">
                <a:moveTo>
                  <a:pt x="1042" y="10120"/>
                </a:moveTo>
                <a:cubicBezTo>
                  <a:pt x="1167" y="10109"/>
                  <a:pt x="1287" y="10096"/>
                  <a:pt x="1414" y="10096"/>
                </a:cubicBezTo>
                <a:cubicBezTo>
                  <a:pt x="1272" y="10111"/>
                  <a:pt x="1104" y="10091"/>
                  <a:pt x="967" y="10120"/>
                </a:cubicBezTo>
                <a:cubicBezTo>
                  <a:pt x="854" y="10144"/>
                  <a:pt x="1003" y="10145"/>
                  <a:pt x="1042" y="10145"/>
                </a:cubicBezTo>
                <a:cubicBezTo>
                  <a:pt x="1161" y="10145"/>
                  <a:pt x="1453" y="10136"/>
                  <a:pt x="1339" y="10170"/>
                </a:cubicBezTo>
                <a:cubicBezTo>
                  <a:pt x="1248" y="10197"/>
                  <a:pt x="853" y="10236"/>
                  <a:pt x="1017" y="10269"/>
                </a:cubicBezTo>
                <a:cubicBezTo>
                  <a:pt x="1099" y="10244"/>
                  <a:pt x="1616" y="10140"/>
                  <a:pt x="1290" y="10195"/>
                </a:cubicBezTo>
                <a:cubicBezTo>
                  <a:pt x="1286" y="10196"/>
                  <a:pt x="804" y="10264"/>
                  <a:pt x="1042" y="10220"/>
                </a:cubicBezTo>
                <a:cubicBezTo>
                  <a:pt x="1193" y="10195"/>
                  <a:pt x="1244" y="10186"/>
                  <a:pt x="1339" y="10145"/>
                </a:cubicBezTo>
                <a:cubicBezTo>
                  <a:pt x="1441" y="10145"/>
                  <a:pt x="1093" y="10200"/>
                  <a:pt x="1017" y="10220"/>
                </a:cubicBezTo>
                <a:cubicBezTo>
                  <a:pt x="958" y="10220"/>
                  <a:pt x="983" y="10213"/>
                  <a:pt x="1116" y="10195"/>
                </a:cubicBezTo>
              </a:path>
              <a:path w="2655" h="3002">
                <a:moveTo>
                  <a:pt x="1042" y="12353"/>
                </a:moveTo>
                <a:cubicBezTo>
                  <a:pt x="1042" y="12328"/>
                  <a:pt x="1042" y="12320"/>
                  <a:pt x="1017" y="12328"/>
                </a:cubicBezTo>
                <a:cubicBezTo>
                  <a:pt x="1017" y="12455"/>
                  <a:pt x="1075" y="12606"/>
                  <a:pt x="1116" y="12725"/>
                </a:cubicBezTo>
                <a:cubicBezTo>
                  <a:pt x="1143" y="12805"/>
                  <a:pt x="1166" y="12861"/>
                  <a:pt x="1215" y="12923"/>
                </a:cubicBezTo>
              </a:path>
              <a:path w="2655" h="3002">
                <a:moveTo>
                  <a:pt x="893" y="12774"/>
                </a:moveTo>
                <a:cubicBezTo>
                  <a:pt x="974" y="12671"/>
                  <a:pt x="1083" y="12579"/>
                  <a:pt x="1191" y="12502"/>
                </a:cubicBezTo>
              </a:path>
              <a:path w="2655" h="3002">
                <a:moveTo>
                  <a:pt x="1141" y="12254"/>
                </a:moveTo>
                <a:cubicBezTo>
                  <a:pt x="1028" y="12344"/>
                  <a:pt x="1026" y="12504"/>
                  <a:pt x="1017" y="12650"/>
                </a:cubicBezTo>
                <a:cubicBezTo>
                  <a:pt x="1015" y="12683"/>
                  <a:pt x="1017" y="12717"/>
                  <a:pt x="1017" y="12750"/>
                </a:cubicBezTo>
              </a:path>
              <a:path w="2655" h="3002">
                <a:moveTo>
                  <a:pt x="843" y="12601"/>
                </a:moveTo>
                <a:cubicBezTo>
                  <a:pt x="975" y="12618"/>
                  <a:pt x="1141" y="12641"/>
                  <a:pt x="1265" y="12700"/>
                </a:cubicBezTo>
                <a:cubicBezTo>
                  <a:pt x="1273" y="12708"/>
                  <a:pt x="1282" y="12717"/>
                  <a:pt x="1290" y="12725"/>
                </a:cubicBezTo>
              </a:path>
              <a:path w="2655" h="3002">
                <a:moveTo>
                  <a:pt x="2282" y="13097"/>
                </a:moveTo>
                <a:cubicBezTo>
                  <a:pt x="2499" y="13097"/>
                  <a:pt x="2711" y="13098"/>
                  <a:pt x="2927" y="13072"/>
                </a:cubicBezTo>
                <a:cubicBezTo>
                  <a:pt x="3115" y="13050"/>
                  <a:pt x="3263" y="13087"/>
                  <a:pt x="3448" y="13097"/>
                </a:cubicBezTo>
                <a:cubicBezTo>
                  <a:pt x="3494" y="13099"/>
                  <a:pt x="3499" y="13113"/>
                  <a:pt x="3473" y="13072"/>
                </a:cubicBezTo>
                <a:cubicBezTo>
                  <a:pt x="3384" y="13042"/>
                  <a:pt x="3344" y="13034"/>
                  <a:pt x="3274" y="1304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94040" y="3741840"/>
            <a:ext cx="4848120" cy="571320"/>
          </a:xfrm>
          <a:custGeom>
            <a:avLst/>
            <a:gdLst/>
            <a:ahLst/>
            <a:rect l="l" t="t" r="r" b="b"/>
            <a:pathLst>
              <a:path w="13470" h="1589">
                <a:moveTo>
                  <a:pt x="16743" y="10542"/>
                </a:moveTo>
                <a:cubicBezTo>
                  <a:pt x="16809" y="10511"/>
                  <a:pt x="16890" y="10459"/>
                  <a:pt x="16966" y="10443"/>
                </a:cubicBezTo>
                <a:cubicBezTo>
                  <a:pt x="17076" y="10420"/>
                  <a:pt x="17156" y="10431"/>
                  <a:pt x="17264" y="10443"/>
                </a:cubicBezTo>
                <a:cubicBezTo>
                  <a:pt x="17344" y="10452"/>
                  <a:pt x="17407" y="10406"/>
                  <a:pt x="17487" y="10418"/>
                </a:cubicBezTo>
                <a:cubicBezTo>
                  <a:pt x="17601" y="10435"/>
                  <a:pt x="17712" y="10418"/>
                  <a:pt x="17835" y="10418"/>
                </a:cubicBezTo>
                <a:cubicBezTo>
                  <a:pt x="18052" y="10418"/>
                  <a:pt x="18264" y="10410"/>
                  <a:pt x="18479" y="10393"/>
                </a:cubicBezTo>
                <a:cubicBezTo>
                  <a:pt x="18609" y="10383"/>
                  <a:pt x="18725" y="10414"/>
                  <a:pt x="18852" y="10418"/>
                </a:cubicBezTo>
                <a:cubicBezTo>
                  <a:pt x="18938" y="10421"/>
                  <a:pt x="19039" y="10427"/>
                  <a:pt x="19124" y="10443"/>
                </a:cubicBezTo>
                <a:cubicBezTo>
                  <a:pt x="19249" y="10466"/>
                  <a:pt x="19366" y="10468"/>
                  <a:pt x="19496" y="10468"/>
                </a:cubicBezTo>
                <a:cubicBezTo>
                  <a:pt x="19639" y="10468"/>
                  <a:pt x="19800" y="10476"/>
                  <a:pt x="19943" y="10492"/>
                </a:cubicBezTo>
                <a:cubicBezTo>
                  <a:pt x="20143" y="10514"/>
                  <a:pt x="20336" y="10517"/>
                  <a:pt x="20538" y="10517"/>
                </a:cubicBezTo>
                <a:cubicBezTo>
                  <a:pt x="20716" y="10517"/>
                  <a:pt x="20884" y="10505"/>
                  <a:pt x="21059" y="10492"/>
                </a:cubicBezTo>
                <a:cubicBezTo>
                  <a:pt x="21206" y="10481"/>
                  <a:pt x="21358" y="10492"/>
                  <a:pt x="21506" y="10492"/>
                </a:cubicBezTo>
              </a:path>
              <a:path w="13470" h="1589">
                <a:moveTo>
                  <a:pt x="8037" y="11981"/>
                </a:moveTo>
                <a:cubicBezTo>
                  <a:pt x="8108" y="11974"/>
                  <a:pt x="8163" y="11959"/>
                  <a:pt x="8235" y="11956"/>
                </a:cubicBezTo>
                <a:cubicBezTo>
                  <a:pt x="8427" y="11948"/>
                  <a:pt x="8617" y="11938"/>
                  <a:pt x="8806" y="11931"/>
                </a:cubicBezTo>
                <a:cubicBezTo>
                  <a:pt x="8957" y="11926"/>
                  <a:pt x="9105" y="11912"/>
                  <a:pt x="9252" y="11906"/>
                </a:cubicBezTo>
                <a:cubicBezTo>
                  <a:pt x="9742" y="11888"/>
                  <a:pt x="10230" y="11913"/>
                  <a:pt x="10716" y="11881"/>
                </a:cubicBezTo>
                <a:cubicBezTo>
                  <a:pt x="10795" y="11876"/>
                  <a:pt x="10858" y="11860"/>
                  <a:pt x="10939" y="11857"/>
                </a:cubicBezTo>
                <a:cubicBezTo>
                  <a:pt x="11239" y="11848"/>
                  <a:pt x="11534" y="11851"/>
                  <a:pt x="11832" y="11832"/>
                </a:cubicBezTo>
                <a:cubicBezTo>
                  <a:pt x="11950" y="11824"/>
                  <a:pt x="12062" y="11810"/>
                  <a:pt x="12179" y="11807"/>
                </a:cubicBezTo>
                <a:cubicBezTo>
                  <a:pt x="12319" y="11803"/>
                  <a:pt x="12470" y="11787"/>
                  <a:pt x="12601" y="11782"/>
                </a:cubicBezTo>
                <a:cubicBezTo>
                  <a:pt x="12679" y="11779"/>
                  <a:pt x="12782" y="11785"/>
                  <a:pt x="12874" y="11782"/>
                </a:cubicBezTo>
                <a:cubicBezTo>
                  <a:pt x="13134" y="11773"/>
                  <a:pt x="13386" y="11799"/>
                  <a:pt x="13643" y="11807"/>
                </a:cubicBezTo>
                <a:cubicBezTo>
                  <a:pt x="13902" y="11815"/>
                  <a:pt x="14155" y="11829"/>
                  <a:pt x="14412" y="11832"/>
                </a:cubicBezTo>
                <a:cubicBezTo>
                  <a:pt x="14665" y="11835"/>
                  <a:pt x="14909" y="11848"/>
                  <a:pt x="15156" y="11857"/>
                </a:cubicBezTo>
                <a:cubicBezTo>
                  <a:pt x="15447" y="11868"/>
                  <a:pt x="15742" y="11842"/>
                  <a:pt x="16024" y="11832"/>
                </a:cubicBezTo>
                <a:cubicBezTo>
                  <a:pt x="16170" y="11827"/>
                  <a:pt x="16307" y="11821"/>
                  <a:pt x="16446" y="11807"/>
                </a:cubicBezTo>
                <a:cubicBezTo>
                  <a:pt x="16555" y="11796"/>
                  <a:pt x="16660" y="11795"/>
                  <a:pt x="16768" y="11782"/>
                </a:cubicBezTo>
                <a:cubicBezTo>
                  <a:pt x="16825" y="11775"/>
                  <a:pt x="16857" y="11764"/>
                  <a:pt x="16917" y="11757"/>
                </a:cubicBezTo>
                <a:cubicBezTo>
                  <a:pt x="16978" y="11750"/>
                  <a:pt x="17027" y="11736"/>
                  <a:pt x="17090" y="11733"/>
                </a:cubicBezTo>
                <a:cubicBezTo>
                  <a:pt x="17243" y="11726"/>
                  <a:pt x="17389" y="11713"/>
                  <a:pt x="17537" y="11708"/>
                </a:cubicBezTo>
                <a:cubicBezTo>
                  <a:pt x="18012" y="11691"/>
                  <a:pt x="18466" y="11742"/>
                  <a:pt x="18926" y="11807"/>
                </a:cubicBezTo>
                <a:cubicBezTo>
                  <a:pt x="18986" y="11815"/>
                  <a:pt x="19043" y="11825"/>
                  <a:pt x="19100" y="11832"/>
                </a:cubicBezTo>
                <a:cubicBezTo>
                  <a:pt x="19255" y="11852"/>
                  <a:pt x="19414" y="11852"/>
                  <a:pt x="19571" y="11857"/>
                </a:cubicBezTo>
                <a:cubicBezTo>
                  <a:pt x="19934" y="11869"/>
                  <a:pt x="20309" y="11844"/>
                  <a:pt x="20662" y="11832"/>
                </a:cubicBezTo>
                <a:cubicBezTo>
                  <a:pt x="20836" y="11826"/>
                  <a:pt x="21016" y="11815"/>
                  <a:pt x="21183" y="11807"/>
                </a:cubicBezTo>
                <a:cubicBezTo>
                  <a:pt x="21224" y="11805"/>
                  <a:pt x="21266" y="11811"/>
                  <a:pt x="21307" y="118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17">
                                            <p:txEl>
                                              <p:pRg st="1" end="1"/>
                                            </p:txEl>
                                          </p:spTgt>
                                        </p:tgtEl>
                                        <p:attrNameLst>
                                          <p:attrName>style.visibility</p:attrName>
                                        </p:attrNameLst>
                                      </p:cBhvr>
                                      <p:to>
                                        <p:strVal val="visible"/>
                                      </p:to>
                                    </p:set>
                                    <p:animEffect filter="checkerboard(across)" transition="in">
                                      <p:cBhvr additive="repl">
                                        <p:cTn id="14" dur="500"/>
                                        <p:tgtEl>
                                          <p:spTgt spid="217">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17">
                                            <p:txEl>
                                              <p:pRg st="2" end="2"/>
                                            </p:txEl>
                                          </p:spTgt>
                                        </p:tgtEl>
                                        <p:attrNameLst>
                                          <p:attrName>style.visibility</p:attrName>
                                        </p:attrNameLst>
                                      </p:cBhvr>
                                      <p:to>
                                        <p:strVal val="visible"/>
                                      </p:to>
                                    </p:set>
                                    <p:animEffect filter="checkerboard(across)" transition="in">
                                      <p:cBhvr additive="repl">
                                        <p:cTn id="19" dur="500"/>
                                        <p:tgtEl>
                                          <p:spTgt spid="217">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17">
                                            <p:txEl>
                                              <p:pRg st="2" end="2"/>
                                            </p:txEl>
                                          </p:spTgt>
                                        </p:tgtEl>
                                        <p:attrNameLst>
                                          <p:attrName>style.visibility</p:attrName>
                                        </p:attrNameLst>
                                      </p:cBhvr>
                                      <p:to>
                                        <p:strVal val="visible"/>
                                      </p:to>
                                    </p:set>
                                    <p:animEffect filter="checkerboard(across)" transition="in">
                                      <p:cBhvr additive="repl">
                                        <p:cTn id="24" dur="500"/>
                                        <p:tgtEl>
                                          <p:spTgt spid="21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17">
                                            <p:txEl>
                                              <p:pRg st="2" end="2"/>
                                            </p:txEl>
                                          </p:spTgt>
                                        </p:tgtEl>
                                        <p:attrNameLst>
                                          <p:attrName>style.visibility</p:attrName>
                                        </p:attrNameLst>
                                      </p:cBhvr>
                                      <p:to>
                                        <p:strVal val="visible"/>
                                      </p:to>
                                    </p:set>
                                    <p:animEffect filter="checkerboard(across)" transition="in">
                                      <p:cBhvr additive="repl">
                                        <p:cTn id="29"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udy the patterns below… </a:t>
            </a:r>
            <a:r>
              <a:rPr b="1" lang="en-US" sz="3100" spc="-1" strike="noStrike">
                <a:solidFill>
                  <a:srgbClr val="336699"/>
                </a:solidFill>
                <a:latin typeface="Arial"/>
              </a:rPr>
              <a:t> </a:t>
            </a:r>
            <a:endParaRPr b="0" lang="en-US" sz="31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xponent of 10 tells how many </a:t>
            </a:r>
            <a:r>
              <a:rPr b="1" lang="en-US" sz="2000" spc="-1" strike="noStrike" u="sng">
                <a:solidFill>
                  <a:srgbClr val="000000"/>
                </a:solidFill>
                <a:uFillTx/>
                <a:latin typeface="Arial"/>
              </a:rPr>
              <a:t>	</a:t>
            </a:r>
            <a:r>
              <a:rPr b="1" lang="en-US" sz="2000" spc="-1" strike="noStrike">
                <a:solidFill>
                  <a:srgbClr val="000000"/>
                </a:solidFill>
                <a:latin typeface="Arial"/>
              </a:rPr>
              <a:t> there are in the standard form of the number. </a:t>
            </a:r>
            <a:endParaRPr b="0" lang="en-US" sz="2000" spc="-1" strike="noStrike">
              <a:solidFill>
                <a:srgbClr val="000000"/>
              </a:solidFill>
              <a:latin typeface="Arial"/>
            </a:endParaRPr>
          </a:p>
        </p:txBody>
      </p:sp>
      <p:graphicFrame>
        <p:nvGraphicFramePr>
          <p:cNvPr id="224" name=""/>
          <p:cNvGraphicFramePr/>
          <p:nvPr/>
        </p:nvGraphicFramePr>
        <p:xfrm>
          <a:off x="990720" y="1676520"/>
          <a:ext cx="6553080" cy="3636720"/>
        </p:xfrm>
        <a:graphic>
          <a:graphicData uri="http://schemas.openxmlformats.org/drawingml/2006/table">
            <a:tbl>
              <a:tblPr/>
              <a:tblGrid>
                <a:gridCol w="2184120"/>
                <a:gridCol w="2484360"/>
                <a:gridCol w="1884600"/>
              </a:tblGrid>
              <a:tr h="591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n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d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ff66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ff66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ff66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x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ff6600"/>
                          </a:solidFill>
                          <a:latin typeface="Arial"/>
                        </a:rPr>
                        <a:t>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ff66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x10x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ff6600"/>
                          </a:solidFill>
                          <a:latin typeface="Arial"/>
                        </a:rPr>
                        <a:t>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ff66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x10x10x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ff6600"/>
                          </a:solidFill>
                          <a:latin typeface="Arial"/>
                        </a:rPr>
                        <a:t>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000160" y="1401840"/>
            <a:ext cx="169920" cy="250920"/>
          </a:xfrm>
          <a:custGeom>
            <a:avLst/>
            <a:gdLst/>
            <a:ahLst/>
            <a:rect l="l" t="t" r="r" b="b"/>
            <a:pathLst>
              <a:path w="473" h="696">
                <a:moveTo>
                  <a:pt x="5705" y="3919"/>
                </a:moveTo>
                <a:cubicBezTo>
                  <a:pt x="5684" y="3855"/>
                  <a:pt x="5694" y="3977"/>
                  <a:pt x="5705" y="4043"/>
                </a:cubicBezTo>
                <a:cubicBezTo>
                  <a:pt x="5732" y="4208"/>
                  <a:pt x="5738" y="4356"/>
                  <a:pt x="5779" y="4514"/>
                </a:cubicBezTo>
                <a:cubicBezTo>
                  <a:pt x="5779" y="4522"/>
                  <a:pt x="5779" y="4531"/>
                  <a:pt x="5779" y="4539"/>
                </a:cubicBezTo>
              </a:path>
              <a:path w="473" h="696">
                <a:moveTo>
                  <a:pt x="5556" y="4291"/>
                </a:moveTo>
                <a:cubicBezTo>
                  <a:pt x="5626" y="4384"/>
                  <a:pt x="5719" y="4481"/>
                  <a:pt x="5755" y="4589"/>
                </a:cubicBezTo>
                <a:cubicBezTo>
                  <a:pt x="5846" y="4542"/>
                  <a:pt x="5917" y="4392"/>
                  <a:pt x="6003" y="4316"/>
                </a:cubicBezTo>
                <a:cubicBezTo>
                  <a:pt x="6011" y="4316"/>
                  <a:pt x="6020" y="4316"/>
                  <a:pt x="6028" y="431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231920" y="2678040"/>
            <a:ext cx="125280" cy="46080"/>
          </a:xfrm>
          <a:custGeom>
            <a:avLst/>
            <a:gdLst/>
            <a:ahLst/>
            <a:rect l="l" t="t" r="r" b="b"/>
            <a:pathLst>
              <a:path w="348" h="125">
                <a:moveTo>
                  <a:pt x="3473" y="7466"/>
                </a:moveTo>
                <a:cubicBezTo>
                  <a:pt x="3552" y="7466"/>
                  <a:pt x="3619" y="7447"/>
                  <a:pt x="3696" y="7441"/>
                </a:cubicBezTo>
                <a:cubicBezTo>
                  <a:pt x="3757" y="7436"/>
                  <a:pt x="3467" y="7533"/>
                  <a:pt x="3448" y="7541"/>
                </a:cubicBezTo>
                <a:cubicBezTo>
                  <a:pt x="3440" y="7549"/>
                  <a:pt x="3431" y="7557"/>
                  <a:pt x="3423" y="7565"/>
                </a:cubicBezTo>
                <a:cubicBezTo>
                  <a:pt x="3538" y="7540"/>
                  <a:pt x="3887" y="7516"/>
                  <a:pt x="3770" y="7516"/>
                </a:cubicBezTo>
                <a:cubicBezTo>
                  <a:pt x="3711" y="7516"/>
                  <a:pt x="3596" y="7541"/>
                  <a:pt x="3547" y="7565"/>
                </a:cubicBezTo>
                <a:cubicBezTo>
                  <a:pt x="3555" y="7565"/>
                  <a:pt x="3564" y="7565"/>
                  <a:pt x="3572" y="7565"/>
                </a:cubicBezTo>
                <a:cubicBezTo>
                  <a:pt x="3640" y="7560"/>
                  <a:pt x="3789" y="7541"/>
                  <a:pt x="3721" y="7541"/>
                </a:cubicBezTo>
                <a:cubicBezTo>
                  <a:pt x="3699" y="7541"/>
                  <a:pt x="3561" y="7565"/>
                  <a:pt x="3621" y="7565"/>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7" name=""/>
          <p:cNvSpPr/>
          <p:nvPr/>
        </p:nvSpPr>
        <p:spPr>
          <a:xfrm>
            <a:off x="1089000" y="2357280"/>
            <a:ext cx="189000" cy="322560"/>
          </a:xfrm>
          <a:custGeom>
            <a:avLst/>
            <a:gdLst/>
            <a:ahLst/>
            <a:rect l="l" t="t" r="r" b="b"/>
            <a:pathLst>
              <a:path w="522" h="894">
                <a:moveTo>
                  <a:pt x="3274" y="6573"/>
                </a:moveTo>
                <a:cubicBezTo>
                  <a:pt x="3240" y="6472"/>
                  <a:pt x="3120" y="6650"/>
                  <a:pt x="3076" y="6747"/>
                </a:cubicBezTo>
                <a:cubicBezTo>
                  <a:pt x="2986" y="6946"/>
                  <a:pt x="3027" y="7236"/>
                  <a:pt x="3150" y="7417"/>
                </a:cubicBezTo>
                <a:cubicBezTo>
                  <a:pt x="3174" y="7452"/>
                  <a:pt x="3247" y="7422"/>
                  <a:pt x="3274" y="7417"/>
                </a:cubicBezTo>
              </a:path>
              <a:path w="522" h="894">
                <a:moveTo>
                  <a:pt x="3473" y="6747"/>
                </a:moveTo>
                <a:cubicBezTo>
                  <a:pt x="3473" y="6866"/>
                  <a:pt x="3509" y="6977"/>
                  <a:pt x="3522" y="7094"/>
                </a:cubicBezTo>
                <a:cubicBezTo>
                  <a:pt x="3528" y="7152"/>
                  <a:pt x="3500" y="7202"/>
                  <a:pt x="3547" y="72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438200" y="2394000"/>
            <a:ext cx="115920" cy="187200"/>
          </a:xfrm>
          <a:custGeom>
            <a:avLst/>
            <a:gdLst/>
            <a:ahLst/>
            <a:rect l="l" t="t" r="r" b="b"/>
            <a:pathLst>
              <a:path w="323" h="522">
                <a:moveTo>
                  <a:pt x="3994" y="6772"/>
                </a:moveTo>
                <a:cubicBezTo>
                  <a:pt x="4092" y="6822"/>
                  <a:pt x="4182" y="6926"/>
                  <a:pt x="4291" y="6970"/>
                </a:cubicBezTo>
                <a:cubicBezTo>
                  <a:pt x="4299" y="6970"/>
                  <a:pt x="4308" y="6970"/>
                  <a:pt x="4316" y="6970"/>
                </a:cubicBezTo>
              </a:path>
              <a:path w="323" h="522">
                <a:moveTo>
                  <a:pt x="4217" y="6648"/>
                </a:moveTo>
                <a:cubicBezTo>
                  <a:pt x="4185" y="6830"/>
                  <a:pt x="4164" y="6998"/>
                  <a:pt x="4093" y="71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394000" y="2313000"/>
            <a:ext cx="123840" cy="428760"/>
          </a:xfrm>
          <a:custGeom>
            <a:avLst/>
            <a:gdLst/>
            <a:ahLst/>
            <a:rect l="l" t="t" r="r" b="b"/>
            <a:pathLst>
              <a:path w="348" h="1192">
                <a:moveTo>
                  <a:pt x="6648" y="6424"/>
                </a:moveTo>
                <a:cubicBezTo>
                  <a:pt x="6915" y="6742"/>
                  <a:pt x="7013" y="6947"/>
                  <a:pt x="6945" y="7367"/>
                </a:cubicBezTo>
                <a:cubicBezTo>
                  <a:pt x="6932" y="7449"/>
                  <a:pt x="6867" y="7572"/>
                  <a:pt x="6896" y="76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009800" y="2017800"/>
            <a:ext cx="3151080" cy="3876480"/>
          </a:xfrm>
          <a:custGeom>
            <a:avLst/>
            <a:gdLst/>
            <a:ahLst/>
            <a:rect l="l" t="t" r="r" b="b"/>
            <a:pathLst>
              <a:path w="8757" h="10766">
                <a:moveTo>
                  <a:pt x="11559" y="5606"/>
                </a:moveTo>
                <a:lnTo>
                  <a:pt x="11559" y="5606"/>
                </a:lnTo>
              </a:path>
              <a:path w="8757" h="10766">
                <a:moveTo>
                  <a:pt x="2803" y="15850"/>
                </a:moveTo>
                <a:cubicBezTo>
                  <a:pt x="2897" y="16028"/>
                  <a:pt x="3003" y="16196"/>
                  <a:pt x="3101" y="16371"/>
                </a:cubicBezTo>
              </a:path>
              <a:path w="8757" h="10766">
                <a:moveTo>
                  <a:pt x="3770" y="9872"/>
                </a:moveTo>
                <a:lnTo>
                  <a:pt x="3770" y="9872"/>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340160" y="1401840"/>
            <a:ext cx="177840" cy="268200"/>
          </a:xfrm>
          <a:custGeom>
            <a:avLst/>
            <a:gdLst/>
            <a:ahLst/>
            <a:rect l="l" t="t" r="r" b="b"/>
            <a:pathLst>
              <a:path w="497" h="745">
                <a:moveTo>
                  <a:pt x="12154" y="3894"/>
                </a:moveTo>
                <a:cubicBezTo>
                  <a:pt x="12167" y="4118"/>
                  <a:pt x="12197" y="4339"/>
                  <a:pt x="12204" y="4564"/>
                </a:cubicBezTo>
                <a:cubicBezTo>
                  <a:pt x="12204" y="4572"/>
                  <a:pt x="12204" y="4581"/>
                  <a:pt x="12204" y="4589"/>
                </a:cubicBezTo>
              </a:path>
              <a:path w="497" h="745">
                <a:moveTo>
                  <a:pt x="12055" y="4291"/>
                </a:moveTo>
                <a:cubicBezTo>
                  <a:pt x="12074" y="4425"/>
                  <a:pt x="12135" y="4524"/>
                  <a:pt x="12204" y="4638"/>
                </a:cubicBezTo>
                <a:cubicBezTo>
                  <a:pt x="12334" y="4536"/>
                  <a:pt x="12436" y="4391"/>
                  <a:pt x="12551" y="42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98960" y="3867120"/>
            <a:ext cx="687240" cy="142920"/>
          </a:xfrm>
          <a:custGeom>
            <a:avLst/>
            <a:gdLst/>
            <a:ahLst/>
            <a:rect l="l" t="t" r="r" b="b"/>
            <a:pathLst>
              <a:path w="1911" h="398">
                <a:moveTo>
                  <a:pt x="11385" y="10864"/>
                </a:moveTo>
                <a:cubicBezTo>
                  <a:pt x="11464" y="10943"/>
                  <a:pt x="11505" y="11011"/>
                  <a:pt x="11609" y="11063"/>
                </a:cubicBezTo>
                <a:cubicBezTo>
                  <a:pt x="11840" y="11178"/>
                  <a:pt x="12110" y="11132"/>
                  <a:pt x="12353" y="11088"/>
                </a:cubicBezTo>
                <a:cubicBezTo>
                  <a:pt x="12633" y="11038"/>
                  <a:pt x="12912" y="10929"/>
                  <a:pt x="13171" y="10815"/>
                </a:cubicBezTo>
                <a:cubicBezTo>
                  <a:pt x="13272" y="10771"/>
                  <a:pt x="13253" y="10771"/>
                  <a:pt x="13295" y="107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321080" y="3330720"/>
            <a:ext cx="270000" cy="19080"/>
          </a:xfrm>
          <a:custGeom>
            <a:avLst/>
            <a:gdLst/>
            <a:ahLst/>
            <a:rect l="l" t="t" r="r" b="b"/>
            <a:pathLst>
              <a:path w="746" h="51">
                <a:moveTo>
                  <a:pt x="12005" y="9302"/>
                </a:moveTo>
                <a:cubicBezTo>
                  <a:pt x="12019" y="9261"/>
                  <a:pt x="12215" y="9254"/>
                  <a:pt x="12254" y="9252"/>
                </a:cubicBezTo>
                <a:cubicBezTo>
                  <a:pt x="12418" y="9244"/>
                  <a:pt x="12585" y="9252"/>
                  <a:pt x="12750" y="9252"/>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4" name=""/>
          <p:cNvSpPr/>
          <p:nvPr/>
        </p:nvSpPr>
        <p:spPr>
          <a:xfrm>
            <a:off x="3830760" y="4429080"/>
            <a:ext cx="1268280" cy="169920"/>
          </a:xfrm>
          <a:custGeom>
            <a:avLst/>
            <a:gdLst/>
            <a:ahLst/>
            <a:rect l="l" t="t" r="r" b="b"/>
            <a:pathLst>
              <a:path w="3523" h="472">
                <a:moveTo>
                  <a:pt x="10641" y="12502"/>
                </a:moveTo>
                <a:cubicBezTo>
                  <a:pt x="10705" y="12597"/>
                  <a:pt x="10758" y="12689"/>
                  <a:pt x="10889" y="12725"/>
                </a:cubicBezTo>
                <a:cubicBezTo>
                  <a:pt x="11156" y="12799"/>
                  <a:pt x="11464" y="12781"/>
                  <a:pt x="11733" y="12725"/>
                </a:cubicBezTo>
                <a:cubicBezTo>
                  <a:pt x="11894" y="12692"/>
                  <a:pt x="12071" y="12654"/>
                  <a:pt x="12204" y="12551"/>
                </a:cubicBezTo>
                <a:cubicBezTo>
                  <a:pt x="12240" y="12523"/>
                  <a:pt x="12281" y="12474"/>
                  <a:pt x="12303" y="12452"/>
                </a:cubicBezTo>
                <a:cubicBezTo>
                  <a:pt x="12342" y="12504"/>
                  <a:pt x="12355" y="12506"/>
                  <a:pt x="12402" y="12551"/>
                </a:cubicBezTo>
                <a:cubicBezTo>
                  <a:pt x="12514" y="12659"/>
                  <a:pt x="12691" y="12712"/>
                  <a:pt x="12849" y="12725"/>
                </a:cubicBezTo>
                <a:cubicBezTo>
                  <a:pt x="13114" y="12746"/>
                  <a:pt x="13374" y="12693"/>
                  <a:pt x="13618" y="12601"/>
                </a:cubicBezTo>
                <a:cubicBezTo>
                  <a:pt x="13827" y="12522"/>
                  <a:pt x="14000" y="12452"/>
                  <a:pt x="14163" y="1230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251080" y="3178080"/>
            <a:ext cx="54000" cy="19080"/>
          </a:xfrm>
          <a:custGeom>
            <a:avLst/>
            <a:gdLst/>
            <a:ahLst/>
            <a:rect l="l" t="t" r="r" b="b"/>
            <a:pathLst>
              <a:path w="150" h="51">
                <a:moveTo>
                  <a:pt x="6251" y="8830"/>
                </a:moveTo>
                <a:cubicBezTo>
                  <a:pt x="6304" y="8830"/>
                  <a:pt x="6450" y="8873"/>
                  <a:pt x="6400" y="8855"/>
                </a:cubicBezTo>
                <a:cubicBezTo>
                  <a:pt x="6339" y="8835"/>
                  <a:pt x="6324" y="8816"/>
                  <a:pt x="6300" y="8855"/>
                </a:cubicBezTo>
                <a:cubicBezTo>
                  <a:pt x="6349" y="8855"/>
                  <a:pt x="6355" y="8849"/>
                  <a:pt x="6375" y="8880"/>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
          <p:cNvSpPr/>
          <p:nvPr/>
        </p:nvSpPr>
        <p:spPr>
          <a:xfrm>
            <a:off x="2241720" y="3803760"/>
            <a:ext cx="115560" cy="46080"/>
          </a:xfrm>
          <a:custGeom>
            <a:avLst/>
            <a:gdLst/>
            <a:ahLst/>
            <a:rect l="l" t="t" r="r" b="b"/>
            <a:pathLst>
              <a:path w="323" h="125">
                <a:moveTo>
                  <a:pt x="6276" y="10641"/>
                </a:moveTo>
                <a:cubicBezTo>
                  <a:pt x="6192" y="10613"/>
                  <a:pt x="6356" y="10593"/>
                  <a:pt x="6375" y="10592"/>
                </a:cubicBezTo>
                <a:cubicBezTo>
                  <a:pt x="6449" y="10586"/>
                  <a:pt x="6573" y="10592"/>
                  <a:pt x="6499" y="10592"/>
                </a:cubicBezTo>
                <a:cubicBezTo>
                  <a:pt x="6482" y="10592"/>
                  <a:pt x="6466" y="10592"/>
                  <a:pt x="6449" y="10592"/>
                </a:cubicBezTo>
                <a:cubicBezTo>
                  <a:pt x="6441" y="10590"/>
                  <a:pt x="6218" y="10567"/>
                  <a:pt x="6350" y="10567"/>
                </a:cubicBezTo>
                <a:cubicBezTo>
                  <a:pt x="6432" y="10600"/>
                  <a:pt x="6532" y="10589"/>
                  <a:pt x="6524" y="10592"/>
                </a:cubicBezTo>
                <a:cubicBezTo>
                  <a:pt x="6420" y="10629"/>
                  <a:pt x="6155" y="10587"/>
                  <a:pt x="6251" y="10641"/>
                </a:cubicBezTo>
                <a:cubicBezTo>
                  <a:pt x="6310" y="10675"/>
                  <a:pt x="6502" y="10666"/>
                  <a:pt x="6474" y="10666"/>
                </a:cubicBezTo>
                <a:cubicBezTo>
                  <a:pt x="6249" y="10666"/>
                  <a:pt x="6255" y="10679"/>
                  <a:pt x="6474" y="10691"/>
                </a:cubicBezTo>
                <a:cubicBezTo>
                  <a:pt x="6603" y="10691"/>
                  <a:pt x="6369" y="10663"/>
                  <a:pt x="6325" y="10666"/>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7" name=""/>
          <p:cNvSpPr/>
          <p:nvPr/>
        </p:nvSpPr>
        <p:spPr>
          <a:xfrm>
            <a:off x="2268360" y="4411800"/>
            <a:ext cx="106560" cy="1440"/>
          </a:xfrm>
          <a:custGeom>
            <a:avLst/>
            <a:gdLst/>
            <a:ahLst/>
            <a:rect l="l" t="t" r="r" b="b"/>
            <a:pathLst>
              <a:path w="299" h="1">
                <a:moveTo>
                  <a:pt x="6300" y="12254"/>
                </a:moveTo>
                <a:cubicBezTo>
                  <a:pt x="6399" y="12254"/>
                  <a:pt x="6499" y="12254"/>
                  <a:pt x="6598" y="12254"/>
                </a:cubicBez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a:off x="2143080" y="4680000"/>
            <a:ext cx="295200" cy="338040"/>
          </a:xfrm>
          <a:custGeom>
            <a:avLst/>
            <a:gdLst/>
            <a:ahLst/>
            <a:rect l="l" t="t" r="r" b="b"/>
            <a:pathLst>
              <a:path w="820" h="943">
                <a:moveTo>
                  <a:pt x="6300" y="13866"/>
                </a:moveTo>
                <a:cubicBezTo>
                  <a:pt x="6324" y="13795"/>
                  <a:pt x="6559" y="13885"/>
                  <a:pt x="6499" y="13841"/>
                </a:cubicBezTo>
                <a:cubicBezTo>
                  <a:pt x="6417" y="13820"/>
                  <a:pt x="6401" y="13812"/>
                  <a:pt x="6350" y="13816"/>
                </a:cubicBezTo>
                <a:cubicBezTo>
                  <a:pt x="6428" y="13827"/>
                  <a:pt x="6494" y="13836"/>
                  <a:pt x="6573" y="13841"/>
                </a:cubicBezTo>
              </a:path>
              <a:path w="820" h="943">
                <a:moveTo>
                  <a:pt x="6276" y="13866"/>
                </a:moveTo>
                <a:cubicBezTo>
                  <a:pt x="6352" y="13866"/>
                  <a:pt x="6375" y="13859"/>
                  <a:pt x="6449" y="13841"/>
                </a:cubicBezTo>
                <a:cubicBezTo>
                  <a:pt x="6586" y="13808"/>
                  <a:pt x="6677" y="13777"/>
                  <a:pt x="6747" y="13643"/>
                </a:cubicBezTo>
                <a:cubicBezTo>
                  <a:pt x="6797" y="13546"/>
                  <a:pt x="6774" y="13419"/>
                  <a:pt x="6747" y="13320"/>
                </a:cubicBezTo>
                <a:cubicBezTo>
                  <a:pt x="6722" y="13227"/>
                  <a:pt x="6673" y="13135"/>
                  <a:pt x="6598" y="13072"/>
                </a:cubicBezTo>
                <a:cubicBezTo>
                  <a:pt x="6510" y="12999"/>
                  <a:pt x="6433" y="12998"/>
                  <a:pt x="6325" y="12998"/>
                </a:cubicBezTo>
                <a:cubicBezTo>
                  <a:pt x="6243" y="12998"/>
                  <a:pt x="6171" y="12994"/>
                  <a:pt x="6102" y="13047"/>
                </a:cubicBezTo>
                <a:cubicBezTo>
                  <a:pt x="6042" y="13093"/>
                  <a:pt x="5967" y="13198"/>
                  <a:pt x="5953" y="13271"/>
                </a:cubicBezTo>
                <a:cubicBezTo>
                  <a:pt x="5936" y="13361"/>
                  <a:pt x="5955" y="13460"/>
                  <a:pt x="5978" y="13543"/>
                </a:cubicBezTo>
                <a:cubicBezTo>
                  <a:pt x="6006" y="13645"/>
                  <a:pt x="6052" y="13727"/>
                  <a:pt x="6102" y="13816"/>
                </a:cubicBezTo>
                <a:cubicBezTo>
                  <a:pt x="6131" y="13867"/>
                  <a:pt x="6161" y="13891"/>
                  <a:pt x="6201" y="139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0960" y="3902040"/>
            <a:ext cx="741240" cy="1233360"/>
          </a:xfrm>
          <a:custGeom>
            <a:avLst/>
            <a:gdLst/>
            <a:ahLst/>
            <a:rect l="l" t="t" r="r" b="b"/>
            <a:pathLst>
              <a:path w="2059" h="3424">
                <a:moveTo>
                  <a:pt x="18306" y="10840"/>
                </a:moveTo>
                <a:cubicBezTo>
                  <a:pt x="18515" y="10840"/>
                  <a:pt x="18719" y="10853"/>
                  <a:pt x="18926" y="10864"/>
                </a:cubicBezTo>
                <a:cubicBezTo>
                  <a:pt x="19017" y="10864"/>
                  <a:pt x="19025" y="10864"/>
                  <a:pt x="19075" y="10864"/>
                </a:cubicBezTo>
              </a:path>
              <a:path w="2059" h="3424">
                <a:moveTo>
                  <a:pt x="17884" y="12477"/>
                </a:moveTo>
                <a:cubicBezTo>
                  <a:pt x="18059" y="12477"/>
                  <a:pt x="18230" y="12497"/>
                  <a:pt x="18405" y="12502"/>
                </a:cubicBezTo>
                <a:cubicBezTo>
                  <a:pt x="18746" y="12513"/>
                  <a:pt x="19084" y="12497"/>
                  <a:pt x="19422" y="12477"/>
                </a:cubicBezTo>
                <a:cubicBezTo>
                  <a:pt x="19496" y="12477"/>
                  <a:pt x="19505" y="12477"/>
                  <a:pt x="19546" y="12477"/>
                </a:cubicBezTo>
              </a:path>
              <a:path w="2059" h="3424">
                <a:moveTo>
                  <a:pt x="17587" y="14139"/>
                </a:moveTo>
                <a:cubicBezTo>
                  <a:pt x="17702" y="14150"/>
                  <a:pt x="17820" y="14164"/>
                  <a:pt x="17934" y="14188"/>
                </a:cubicBezTo>
                <a:cubicBezTo>
                  <a:pt x="18079" y="14219"/>
                  <a:pt x="18231" y="14233"/>
                  <a:pt x="18380" y="14238"/>
                </a:cubicBezTo>
                <a:cubicBezTo>
                  <a:pt x="18471" y="14241"/>
                  <a:pt x="18540" y="14259"/>
                  <a:pt x="18628" y="14263"/>
                </a:cubicBezTo>
                <a:cubicBezTo>
                  <a:pt x="18804" y="14271"/>
                  <a:pt x="18978" y="14263"/>
                  <a:pt x="19149" y="14238"/>
                </a:cubicBezTo>
                <a:cubicBezTo>
                  <a:pt x="19219" y="14228"/>
                  <a:pt x="19306" y="14220"/>
                  <a:pt x="19372" y="14213"/>
                </a:cubicBezTo>
                <a:cubicBezTo>
                  <a:pt x="19457" y="14204"/>
                  <a:pt x="19536" y="14193"/>
                  <a:pt x="19621" y="14188"/>
                </a:cubicBezTo>
                <a:cubicBezTo>
                  <a:pt x="19629" y="14188"/>
                  <a:pt x="19637" y="14188"/>
                  <a:pt x="19645" y="141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688000" y="5537160"/>
            <a:ext cx="339840" cy="258840"/>
          </a:xfrm>
          <a:custGeom>
            <a:avLst/>
            <a:gdLst/>
            <a:ahLst/>
            <a:rect l="l" t="t" r="r" b="b"/>
            <a:pathLst>
              <a:path w="943" h="720">
                <a:moveTo>
                  <a:pt x="16197" y="15404"/>
                </a:moveTo>
                <a:cubicBezTo>
                  <a:pt x="16124" y="15392"/>
                  <a:pt x="16067" y="15355"/>
                  <a:pt x="15999" y="15404"/>
                </a:cubicBezTo>
                <a:cubicBezTo>
                  <a:pt x="15893" y="15480"/>
                  <a:pt x="15858" y="15582"/>
                  <a:pt x="15825" y="15701"/>
                </a:cubicBezTo>
                <a:cubicBezTo>
                  <a:pt x="15799" y="15793"/>
                  <a:pt x="15757" y="16026"/>
                  <a:pt x="15850" y="16098"/>
                </a:cubicBezTo>
                <a:cubicBezTo>
                  <a:pt x="15899" y="16136"/>
                  <a:pt x="16050" y="16078"/>
                  <a:pt x="16098" y="16073"/>
                </a:cubicBezTo>
                <a:cubicBezTo>
                  <a:pt x="16210" y="16062"/>
                  <a:pt x="16272" y="16039"/>
                  <a:pt x="16321" y="15925"/>
                </a:cubicBezTo>
                <a:cubicBezTo>
                  <a:pt x="16364" y="15824"/>
                  <a:pt x="16357" y="15703"/>
                  <a:pt x="16321" y="15602"/>
                </a:cubicBezTo>
                <a:cubicBezTo>
                  <a:pt x="16299" y="15540"/>
                  <a:pt x="16236" y="15474"/>
                  <a:pt x="16173" y="15453"/>
                </a:cubicBezTo>
                <a:cubicBezTo>
                  <a:pt x="16139" y="15442"/>
                  <a:pt x="16083" y="15442"/>
                  <a:pt x="16123" y="15429"/>
                </a:cubicBezTo>
                <a:cubicBezTo>
                  <a:pt x="16173" y="15412"/>
                  <a:pt x="16222" y="15396"/>
                  <a:pt x="16272" y="15379"/>
                </a:cubicBezTo>
              </a:path>
              <a:path w="943" h="720">
                <a:moveTo>
                  <a:pt x="16718" y="15751"/>
                </a:moveTo>
                <a:cubicBezTo>
                  <a:pt x="16726" y="15751"/>
                  <a:pt x="16735" y="15751"/>
                  <a:pt x="16743" y="15751"/>
                </a:cubicBezTo>
                <a:cubicBezTo>
                  <a:pt x="16730" y="15698"/>
                  <a:pt x="16677" y="15679"/>
                  <a:pt x="16619" y="15701"/>
                </a:cubicBezTo>
                <a:cubicBezTo>
                  <a:pt x="16591" y="15712"/>
                  <a:pt x="16576" y="15777"/>
                  <a:pt x="16570" y="15801"/>
                </a:cubicBezTo>
                <a:cubicBezTo>
                  <a:pt x="16661" y="15834"/>
                  <a:pt x="16662" y="15824"/>
                  <a:pt x="16718" y="15900"/>
                </a:cubicBezTo>
                <a:cubicBezTo>
                  <a:pt x="16761" y="15958"/>
                  <a:pt x="16702" y="16000"/>
                  <a:pt x="16644" y="16024"/>
                </a:cubicBezTo>
                <a:cubicBezTo>
                  <a:pt x="16553" y="16062"/>
                  <a:pt x="16515" y="16022"/>
                  <a:pt x="16470" y="15999"/>
                </a:cubicBezTo>
                <a:cubicBezTo>
                  <a:pt x="16462" y="15999"/>
                  <a:pt x="16454" y="15999"/>
                  <a:pt x="16446" y="1599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911160" y="5680080"/>
            <a:ext cx="295200" cy="204840"/>
          </a:xfrm>
          <a:custGeom>
            <a:avLst/>
            <a:gdLst/>
            <a:ahLst/>
            <a:rect l="l" t="t" r="r" b="b"/>
            <a:pathLst>
              <a:path w="820" h="571">
                <a:moveTo>
                  <a:pt x="2679" y="16197"/>
                </a:moveTo>
                <a:cubicBezTo>
                  <a:pt x="2818" y="16045"/>
                  <a:pt x="2932" y="15937"/>
                  <a:pt x="3125" y="15850"/>
                </a:cubicBezTo>
                <a:cubicBezTo>
                  <a:pt x="3153" y="15850"/>
                  <a:pt x="3164" y="15852"/>
                  <a:pt x="3175" y="15875"/>
                </a:cubicBezTo>
              </a:path>
              <a:path w="820" h="571">
                <a:moveTo>
                  <a:pt x="2977" y="15776"/>
                </a:moveTo>
                <a:cubicBezTo>
                  <a:pt x="2951" y="15954"/>
                  <a:pt x="2977" y="16160"/>
                  <a:pt x="3001" y="16346"/>
                </a:cubicBezTo>
              </a:path>
              <a:path w="820" h="571">
                <a:moveTo>
                  <a:pt x="2530" y="15974"/>
                </a:moveTo>
                <a:cubicBezTo>
                  <a:pt x="2762" y="16023"/>
                  <a:pt x="2994" y="16064"/>
                  <a:pt x="3225" y="16123"/>
                </a:cubicBezTo>
                <a:cubicBezTo>
                  <a:pt x="3299" y="16142"/>
                  <a:pt x="3306" y="16150"/>
                  <a:pt x="3349" y="161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38360" y="2330280"/>
            <a:ext cx="1670040" cy="2840040"/>
          </a:xfrm>
          <a:custGeom>
            <a:avLst/>
            <a:gdLst/>
            <a:ahLst/>
            <a:rect l="l" t="t" r="r" b="b"/>
            <a:pathLst>
              <a:path w="4639" h="7889">
                <a:moveTo>
                  <a:pt x="9550" y="6474"/>
                </a:moveTo>
                <a:cubicBezTo>
                  <a:pt x="9728" y="6606"/>
                  <a:pt x="9871" y="6730"/>
                  <a:pt x="10021" y="6896"/>
                </a:cubicBezTo>
                <a:cubicBezTo>
                  <a:pt x="10420" y="7337"/>
                  <a:pt x="10753" y="7837"/>
                  <a:pt x="11038" y="8359"/>
                </a:cubicBezTo>
                <a:cubicBezTo>
                  <a:pt x="11329" y="8890"/>
                  <a:pt x="11656" y="9407"/>
                  <a:pt x="11931" y="9947"/>
                </a:cubicBezTo>
                <a:cubicBezTo>
                  <a:pt x="12203" y="10481"/>
                  <a:pt x="12431" y="11018"/>
                  <a:pt x="12626" y="11584"/>
                </a:cubicBezTo>
                <a:cubicBezTo>
                  <a:pt x="12780" y="12031"/>
                  <a:pt x="12907" y="12485"/>
                  <a:pt x="13146" y="12898"/>
                </a:cubicBezTo>
                <a:cubicBezTo>
                  <a:pt x="13332" y="13220"/>
                  <a:pt x="13570" y="13495"/>
                  <a:pt x="13791" y="13791"/>
                </a:cubicBezTo>
                <a:cubicBezTo>
                  <a:pt x="13923" y="13968"/>
                  <a:pt x="14018" y="14171"/>
                  <a:pt x="14163" y="14337"/>
                </a:cubicBezTo>
                <a:cubicBezTo>
                  <a:pt x="14186" y="14360"/>
                  <a:pt x="14194" y="14371"/>
                  <a:pt x="14188" y="1433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633840" y="2224080"/>
            <a:ext cx="1760400" cy="2936880"/>
          </a:xfrm>
          <a:custGeom>
            <a:avLst/>
            <a:gdLst/>
            <a:ahLst/>
            <a:rect l="l" t="t" r="r" b="b"/>
            <a:pathLst>
              <a:path w="4887" h="8162">
                <a:moveTo>
                  <a:pt x="14982" y="6176"/>
                </a:moveTo>
                <a:cubicBezTo>
                  <a:pt x="14797" y="6661"/>
                  <a:pt x="14498" y="6965"/>
                  <a:pt x="14139" y="7342"/>
                </a:cubicBezTo>
                <a:cubicBezTo>
                  <a:pt x="13610" y="7898"/>
                  <a:pt x="13093" y="8465"/>
                  <a:pt x="12601" y="9054"/>
                </a:cubicBezTo>
                <a:cubicBezTo>
                  <a:pt x="12229" y="9499"/>
                  <a:pt x="11899" y="9990"/>
                  <a:pt x="11609" y="10492"/>
                </a:cubicBezTo>
                <a:cubicBezTo>
                  <a:pt x="11340" y="10959"/>
                  <a:pt x="11134" y="11452"/>
                  <a:pt x="10889" y="11931"/>
                </a:cubicBezTo>
                <a:cubicBezTo>
                  <a:pt x="10612" y="12475"/>
                  <a:pt x="10436" y="12951"/>
                  <a:pt x="10294" y="13543"/>
                </a:cubicBezTo>
                <a:cubicBezTo>
                  <a:pt x="10245" y="13750"/>
                  <a:pt x="10198" y="13958"/>
                  <a:pt x="10145" y="14163"/>
                </a:cubicBezTo>
                <a:cubicBezTo>
                  <a:pt x="10128" y="14230"/>
                  <a:pt x="10114" y="14245"/>
                  <a:pt x="10096" y="143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228600"/>
            <a:ext cx="8686800" cy="6019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multiply other numbers by </a:t>
            </a:r>
            <a:r>
              <a:rPr b="1" lang="en-US" sz="2800" spc="-1" strike="noStrike">
                <a:solidFill>
                  <a:srgbClr val="3399ff"/>
                </a:solidFill>
                <a:latin typeface="Arial"/>
              </a:rPr>
              <a:t>powers of ten</a:t>
            </a:r>
            <a:r>
              <a:rPr b="1" lang="en-US" sz="2800" spc="-1" strike="noStrike">
                <a:solidFill>
                  <a:srgbClr val="000000"/>
                </a:solidFill>
                <a:latin typeface="Arial"/>
              </a:rPr>
              <a:t>, let’s look for a patter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x 10</a:t>
            </a:r>
            <a:r>
              <a:rPr b="1" lang="en-US" sz="2800" spc="-1" strike="noStrike" baseline="30000">
                <a:solidFill>
                  <a:srgbClr val="ff6600"/>
                </a:solidFill>
                <a:latin typeface="Arial"/>
              </a:rPr>
              <a:t>1</a:t>
            </a:r>
            <a:r>
              <a:rPr b="1" lang="en-US" sz="2800" spc="-1" strike="noStrike">
                <a:solidFill>
                  <a:srgbClr val="000000"/>
                </a:solidFill>
                <a:latin typeface="Arial"/>
              </a:rPr>
              <a:t> =5 x 10 = 5</a:t>
            </a:r>
            <a:r>
              <a:rPr b="1" lang="en-US" sz="2800" spc="-1" strike="noStrike">
                <a:solidFill>
                  <a:srgbClr val="ff6600"/>
                </a:solidFill>
                <a:latin typeface="Arial"/>
              </a:rPr>
              <a:t>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x 10</a:t>
            </a:r>
            <a:r>
              <a:rPr b="1" lang="en-US" sz="2800" spc="-1" strike="noStrike" baseline="30000">
                <a:solidFill>
                  <a:srgbClr val="ff6600"/>
                </a:solidFill>
                <a:latin typeface="Arial"/>
              </a:rPr>
              <a:t>2</a:t>
            </a:r>
            <a:r>
              <a:rPr b="1" lang="en-US" sz="2800" spc="-1" strike="noStrike">
                <a:solidFill>
                  <a:srgbClr val="000000"/>
                </a:solidFill>
                <a:latin typeface="Arial"/>
              </a:rPr>
              <a:t> =5 x 100 = 5</a:t>
            </a:r>
            <a:r>
              <a:rPr b="1" lang="en-US" sz="2800" spc="-1" strike="noStrike">
                <a:solidFill>
                  <a:srgbClr val="ff6600"/>
                </a:solidFill>
                <a:latin typeface="Arial"/>
              </a:rPr>
              <a:t>0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x 10</a:t>
            </a:r>
            <a:r>
              <a:rPr b="1" lang="en-US" sz="2800" spc="-1" strike="noStrike" baseline="30000">
                <a:solidFill>
                  <a:srgbClr val="ff6600"/>
                </a:solidFill>
                <a:latin typeface="Arial"/>
              </a:rPr>
              <a:t>3</a:t>
            </a:r>
            <a:r>
              <a:rPr b="1" lang="en-US" sz="2800" spc="-1" strike="noStrike">
                <a:solidFill>
                  <a:srgbClr val="000000"/>
                </a:solidFill>
                <a:latin typeface="Arial"/>
              </a:rPr>
              <a:t> =5 x 1,000 = 5,</a:t>
            </a:r>
            <a:r>
              <a:rPr b="1" lang="en-US" sz="2800" spc="-1" strike="noStrike">
                <a:solidFill>
                  <a:srgbClr val="ff6600"/>
                </a:solidFill>
                <a:latin typeface="Arial"/>
              </a:rPr>
              <a:t>00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zeros will be in 5 x 10</a:t>
            </a:r>
            <a:r>
              <a:rPr b="1" lang="en-US" sz="2800" spc="-1" strike="noStrike" baseline="30000">
                <a:solidFill>
                  <a:srgbClr val="000000"/>
                </a:solidFill>
                <a:latin typeface="Arial"/>
              </a:rPr>
              <a:t>7</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x 10</a:t>
            </a:r>
            <a:r>
              <a:rPr b="1" lang="en-US" sz="2800" spc="-1" strike="noStrike" baseline="30000">
                <a:solidFill>
                  <a:srgbClr val="ff6600"/>
                </a:solidFill>
                <a:latin typeface="Arial"/>
              </a:rPr>
              <a:t>4</a:t>
            </a:r>
            <a:r>
              <a:rPr b="1" lang="en-US" sz="2800" spc="-1" strike="noStrike">
                <a:solidFill>
                  <a:srgbClr val="000000"/>
                </a:solidFill>
                <a:latin typeface="Arial"/>
              </a:rPr>
              <a:t> =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3 x 10</a:t>
            </a:r>
            <a:r>
              <a:rPr b="1" lang="en-US" sz="2800" spc="-1" strike="noStrike" baseline="30000">
                <a:solidFill>
                  <a:srgbClr val="ff6600"/>
                </a:solidFill>
                <a:latin typeface="Arial"/>
              </a:rPr>
              <a:t>0</a:t>
            </a:r>
            <a:r>
              <a:rPr b="1" lang="en-US" sz="2800" spc="-1" strike="noStrike">
                <a:solidFill>
                  <a:srgbClr val="000000"/>
                </a:solidFill>
                <a:latin typeface="Arial"/>
              </a:rPr>
              <a:t>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x 10</a:t>
            </a:r>
            <a:r>
              <a:rPr b="1" lang="en-US" sz="2800" spc="-1" strike="noStrike" baseline="30000">
                <a:solidFill>
                  <a:srgbClr val="ff6600"/>
                </a:solidFill>
                <a:latin typeface="Arial"/>
              </a:rPr>
              <a:t>1</a:t>
            </a:r>
            <a:r>
              <a:rPr b="1" lang="en-US" sz="2800" spc="-1" strike="noStrike">
                <a:solidFill>
                  <a:srgbClr val="000000"/>
                </a:solidFill>
                <a:latin typeface="Arial"/>
              </a:rPr>
              <a:t> =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9 x 10</a:t>
            </a:r>
            <a:r>
              <a:rPr b="1" lang="en-US" sz="2800" spc="-1" strike="noStrike" baseline="30000">
                <a:solidFill>
                  <a:srgbClr val="ff6600"/>
                </a:solidFill>
                <a:latin typeface="Arial"/>
              </a:rPr>
              <a:t>9</a:t>
            </a:r>
            <a:r>
              <a:rPr b="1" lang="en-US" sz="2800" spc="-1" strike="noStrike">
                <a:solidFill>
                  <a:srgbClr val="000000"/>
                </a:solidFill>
                <a:latin typeface="Arial"/>
              </a:rPr>
              <a:t> = ???</a:t>
            </a:r>
            <a:endParaRPr b="0" lang="en-US" sz="2800" spc="-1" strike="noStrike">
              <a:solidFill>
                <a:srgbClr val="000000"/>
              </a:solidFill>
              <a:latin typeface="Arial"/>
            </a:endParaRPr>
          </a:p>
        </p:txBody>
      </p:sp>
      <p:sp>
        <p:nvSpPr>
          <p:cNvPr id="245" name=""/>
          <p:cNvSpPr/>
          <p:nvPr/>
        </p:nvSpPr>
        <p:spPr>
          <a:xfrm>
            <a:off x="411120" y="1982880"/>
            <a:ext cx="1320840" cy="1625400"/>
          </a:xfrm>
          <a:custGeom>
            <a:avLst/>
            <a:gdLst/>
            <a:ahLst/>
            <a:rect l="l" t="t" r="r" b="b"/>
            <a:pathLst>
              <a:path w="3672" h="4515">
                <a:moveTo>
                  <a:pt x="1339" y="5755"/>
                </a:moveTo>
                <a:cubicBezTo>
                  <a:pt x="1298" y="5796"/>
                  <a:pt x="1207" y="5931"/>
                  <a:pt x="1191" y="6102"/>
                </a:cubicBezTo>
                <a:cubicBezTo>
                  <a:pt x="1164" y="6381"/>
                  <a:pt x="1213" y="6708"/>
                  <a:pt x="1290" y="6970"/>
                </a:cubicBezTo>
                <a:cubicBezTo>
                  <a:pt x="1325" y="7089"/>
                  <a:pt x="1406" y="7079"/>
                  <a:pt x="1463" y="7144"/>
                </a:cubicBezTo>
                <a:cubicBezTo>
                  <a:pt x="1463" y="7152"/>
                  <a:pt x="1463" y="7161"/>
                  <a:pt x="1463" y="7169"/>
                </a:cubicBezTo>
              </a:path>
              <a:path w="3672" h="4515">
                <a:moveTo>
                  <a:pt x="4415" y="5730"/>
                </a:moveTo>
                <a:cubicBezTo>
                  <a:pt x="4503" y="5906"/>
                  <a:pt x="4599" y="6075"/>
                  <a:pt x="4638" y="6276"/>
                </a:cubicBezTo>
                <a:cubicBezTo>
                  <a:pt x="4691" y="6546"/>
                  <a:pt x="4637" y="6779"/>
                  <a:pt x="4514" y="7020"/>
                </a:cubicBezTo>
                <a:cubicBezTo>
                  <a:pt x="4483" y="7081"/>
                  <a:pt x="4437" y="7122"/>
                  <a:pt x="4390" y="7169"/>
                </a:cubicBezTo>
              </a:path>
              <a:path w="3672" h="4515">
                <a:moveTo>
                  <a:pt x="4490" y="6772"/>
                </a:moveTo>
                <a:cubicBezTo>
                  <a:pt x="4521" y="6741"/>
                  <a:pt x="4575" y="6747"/>
                  <a:pt x="4638" y="6747"/>
                </a:cubicBezTo>
                <a:cubicBezTo>
                  <a:pt x="4593" y="6747"/>
                  <a:pt x="4507" y="6724"/>
                  <a:pt x="4539" y="6747"/>
                </a:cubicBezTo>
                <a:cubicBezTo>
                  <a:pt x="4586" y="6780"/>
                  <a:pt x="4600" y="6772"/>
                  <a:pt x="4539" y="6772"/>
                </a:cubicBezTo>
                <a:cubicBezTo>
                  <a:pt x="4472" y="6772"/>
                  <a:pt x="4556" y="6772"/>
                  <a:pt x="4564" y="6772"/>
                </a:cubicBezTo>
              </a:path>
              <a:path w="3672" h="4515">
                <a:moveTo>
                  <a:pt x="1315" y="7417"/>
                </a:moveTo>
                <a:cubicBezTo>
                  <a:pt x="1315" y="7367"/>
                  <a:pt x="1315" y="7318"/>
                  <a:pt x="1315" y="7268"/>
                </a:cubicBezTo>
                <a:cubicBezTo>
                  <a:pt x="1151" y="7431"/>
                  <a:pt x="1175" y="7858"/>
                  <a:pt x="1191" y="8086"/>
                </a:cubicBezTo>
                <a:cubicBezTo>
                  <a:pt x="1202" y="8245"/>
                  <a:pt x="1246" y="8516"/>
                  <a:pt x="1414" y="8607"/>
                </a:cubicBezTo>
                <a:cubicBezTo>
                  <a:pt x="1422" y="8607"/>
                  <a:pt x="1431" y="8607"/>
                  <a:pt x="1439" y="8607"/>
                </a:cubicBezTo>
              </a:path>
              <a:path w="3672" h="4515">
                <a:moveTo>
                  <a:pt x="4440" y="7218"/>
                </a:moveTo>
                <a:cubicBezTo>
                  <a:pt x="4588" y="7218"/>
                  <a:pt x="4708" y="7325"/>
                  <a:pt x="4762" y="7466"/>
                </a:cubicBezTo>
                <a:cubicBezTo>
                  <a:pt x="4874" y="7761"/>
                  <a:pt x="4774" y="7987"/>
                  <a:pt x="4688" y="8260"/>
                </a:cubicBezTo>
                <a:cubicBezTo>
                  <a:pt x="4688" y="8285"/>
                  <a:pt x="4688" y="8293"/>
                  <a:pt x="4688" y="8310"/>
                </a:cubicBezTo>
              </a:path>
              <a:path w="3672" h="4515">
                <a:moveTo>
                  <a:pt x="4465" y="8086"/>
                </a:moveTo>
                <a:cubicBezTo>
                  <a:pt x="4500" y="8052"/>
                  <a:pt x="4567" y="8062"/>
                  <a:pt x="4638" y="8062"/>
                </a:cubicBezTo>
                <a:cubicBezTo>
                  <a:pt x="4698" y="8062"/>
                  <a:pt x="4502" y="8072"/>
                  <a:pt x="4465" y="8086"/>
                </a:cubicBezTo>
                <a:cubicBezTo>
                  <a:pt x="4402" y="8109"/>
                  <a:pt x="4603" y="8081"/>
                  <a:pt x="4663" y="8111"/>
                </a:cubicBezTo>
                <a:cubicBezTo>
                  <a:pt x="4628" y="8111"/>
                  <a:pt x="4611" y="8106"/>
                  <a:pt x="4589" y="8086"/>
                </a:cubicBezTo>
                <a:cubicBezTo>
                  <a:pt x="4500" y="8086"/>
                  <a:pt x="4459" y="8086"/>
                  <a:pt x="4564" y="8086"/>
                </a:cubicBezTo>
                <a:cubicBezTo>
                  <a:pt x="4620" y="8086"/>
                  <a:pt x="4625" y="8071"/>
                  <a:pt x="4638" y="8111"/>
                </a:cubicBezTo>
              </a:path>
              <a:path w="3672" h="4515">
                <a:moveTo>
                  <a:pt x="1290" y="8756"/>
                </a:moveTo>
                <a:cubicBezTo>
                  <a:pt x="1340" y="8855"/>
                  <a:pt x="1219" y="9317"/>
                  <a:pt x="1240" y="9475"/>
                </a:cubicBezTo>
                <a:cubicBezTo>
                  <a:pt x="1274" y="9726"/>
                  <a:pt x="1339" y="9765"/>
                  <a:pt x="1538" y="9748"/>
                </a:cubicBezTo>
                <a:cubicBezTo>
                  <a:pt x="1546" y="9748"/>
                  <a:pt x="1555" y="9748"/>
                  <a:pt x="1563" y="9748"/>
                </a:cubicBezTo>
              </a:path>
              <a:path w="3672" h="4515">
                <a:moveTo>
                  <a:pt x="4341" y="8558"/>
                </a:moveTo>
                <a:cubicBezTo>
                  <a:pt x="4480" y="8521"/>
                  <a:pt x="4596" y="8791"/>
                  <a:pt x="4638" y="8930"/>
                </a:cubicBezTo>
                <a:cubicBezTo>
                  <a:pt x="4726" y="9223"/>
                  <a:pt x="4664" y="9494"/>
                  <a:pt x="4589" y="9773"/>
                </a:cubicBezTo>
                <a:cubicBezTo>
                  <a:pt x="4589" y="9781"/>
                  <a:pt x="4589" y="9790"/>
                  <a:pt x="4589" y="9798"/>
                </a:cubicBezTo>
              </a:path>
              <a:path w="3672" h="4515">
                <a:moveTo>
                  <a:pt x="4440" y="9426"/>
                </a:moveTo>
                <a:cubicBezTo>
                  <a:pt x="4456" y="9377"/>
                  <a:pt x="4532" y="9401"/>
                  <a:pt x="4589" y="9401"/>
                </a:cubicBezTo>
                <a:cubicBezTo>
                  <a:pt x="4538" y="9414"/>
                  <a:pt x="4502" y="9426"/>
                  <a:pt x="4440" y="9426"/>
                </a:cubicBezTo>
                <a:cubicBezTo>
                  <a:pt x="4366" y="9426"/>
                  <a:pt x="4562" y="9426"/>
                  <a:pt x="4564" y="9426"/>
                </a:cubicBezTo>
                <a:cubicBezTo>
                  <a:pt x="4631" y="9426"/>
                  <a:pt x="4348" y="9446"/>
                  <a:pt x="4415" y="9451"/>
                </a:cubicBezTo>
                <a:cubicBezTo>
                  <a:pt x="4498" y="9451"/>
                  <a:pt x="4514" y="9451"/>
                  <a:pt x="4564" y="9451"/>
                </a:cubicBezTo>
                <a:cubicBezTo>
                  <a:pt x="4544" y="9451"/>
                  <a:pt x="4381" y="9451"/>
                  <a:pt x="4465" y="9451"/>
                </a:cubicBezTo>
                <a:cubicBezTo>
                  <a:pt x="4481" y="9451"/>
                  <a:pt x="4498" y="9451"/>
                  <a:pt x="4514" y="9451"/>
                </a:cubicBezTo>
              </a:path>
              <a:path w="3672" h="4515">
                <a:moveTo>
                  <a:pt x="1588" y="5879"/>
                </a:moveTo>
                <a:cubicBezTo>
                  <a:pt x="1551" y="5951"/>
                  <a:pt x="1488" y="6096"/>
                  <a:pt x="1463" y="6201"/>
                </a:cubicBezTo>
                <a:cubicBezTo>
                  <a:pt x="1407" y="6438"/>
                  <a:pt x="1358" y="6681"/>
                  <a:pt x="1315" y="6921"/>
                </a:cubicBezTo>
                <a:cubicBezTo>
                  <a:pt x="1278" y="7128"/>
                  <a:pt x="1280" y="7337"/>
                  <a:pt x="1240" y="7541"/>
                </a:cubicBezTo>
                <a:cubicBezTo>
                  <a:pt x="1213" y="7676"/>
                  <a:pt x="1141" y="7854"/>
                  <a:pt x="1141" y="7987"/>
                </a:cubicBezTo>
                <a:cubicBezTo>
                  <a:pt x="1141" y="8136"/>
                  <a:pt x="1229" y="8281"/>
                  <a:pt x="1240" y="8434"/>
                </a:cubicBezTo>
                <a:cubicBezTo>
                  <a:pt x="1251" y="8581"/>
                  <a:pt x="1223" y="8690"/>
                  <a:pt x="1191" y="8830"/>
                </a:cubicBezTo>
                <a:cubicBezTo>
                  <a:pt x="1155" y="8985"/>
                  <a:pt x="1141" y="9116"/>
                  <a:pt x="1141" y="9277"/>
                </a:cubicBezTo>
                <a:cubicBezTo>
                  <a:pt x="1141" y="9415"/>
                  <a:pt x="1164" y="9593"/>
                  <a:pt x="1215" y="9723"/>
                </a:cubicBezTo>
                <a:cubicBezTo>
                  <a:pt x="1262" y="9844"/>
                  <a:pt x="1294" y="9916"/>
                  <a:pt x="1414" y="9971"/>
                </a:cubicBezTo>
                <a:cubicBezTo>
                  <a:pt x="1531" y="10024"/>
                  <a:pt x="1665" y="10034"/>
                  <a:pt x="1786" y="9996"/>
                </a:cubicBezTo>
                <a:cubicBezTo>
                  <a:pt x="1894" y="9962"/>
                  <a:pt x="1997" y="9898"/>
                  <a:pt x="2084" y="9823"/>
                </a:cubicBezTo>
                <a:cubicBezTo>
                  <a:pt x="2206" y="9718"/>
                  <a:pt x="2235" y="9613"/>
                  <a:pt x="2307" y="9475"/>
                </a:cubicBezTo>
                <a:cubicBezTo>
                  <a:pt x="2387" y="9321"/>
                  <a:pt x="2443" y="9227"/>
                  <a:pt x="2480" y="9054"/>
                </a:cubicBezTo>
                <a:cubicBezTo>
                  <a:pt x="2550" y="8727"/>
                  <a:pt x="2606" y="8390"/>
                  <a:pt x="2654" y="8062"/>
                </a:cubicBezTo>
                <a:cubicBezTo>
                  <a:pt x="2688" y="7829"/>
                  <a:pt x="2738" y="7602"/>
                  <a:pt x="2753" y="7367"/>
                </a:cubicBezTo>
                <a:cubicBezTo>
                  <a:pt x="2777" y="6984"/>
                  <a:pt x="2861" y="6343"/>
                  <a:pt x="2729" y="5978"/>
                </a:cubicBezTo>
                <a:cubicBezTo>
                  <a:pt x="2684" y="5853"/>
                  <a:pt x="2593" y="5726"/>
                  <a:pt x="2505" y="5631"/>
                </a:cubicBezTo>
                <a:cubicBezTo>
                  <a:pt x="2312" y="5422"/>
                  <a:pt x="2033" y="5474"/>
                  <a:pt x="1885" y="5705"/>
                </a:cubicBezTo>
                <a:cubicBezTo>
                  <a:pt x="1764" y="5894"/>
                  <a:pt x="1685" y="6122"/>
                  <a:pt x="1588" y="63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5280" y="5537160"/>
            <a:ext cx="169920" cy="196920"/>
          </a:xfrm>
          <a:custGeom>
            <a:avLst/>
            <a:gdLst/>
            <a:ahLst/>
            <a:rect l="l" t="t" r="r" b="b"/>
            <a:pathLst>
              <a:path w="473" h="547">
                <a:moveTo>
                  <a:pt x="620" y="15404"/>
                </a:moveTo>
                <a:cubicBezTo>
                  <a:pt x="595" y="15404"/>
                  <a:pt x="587" y="15404"/>
                  <a:pt x="595" y="15379"/>
                </a:cubicBezTo>
                <a:cubicBezTo>
                  <a:pt x="564" y="15506"/>
                  <a:pt x="608" y="15681"/>
                  <a:pt x="620" y="15825"/>
                </a:cubicBezTo>
                <a:cubicBezTo>
                  <a:pt x="633" y="15988"/>
                  <a:pt x="617" y="15891"/>
                  <a:pt x="595" y="15776"/>
                </a:cubicBezTo>
              </a:path>
              <a:path w="473" h="547">
                <a:moveTo>
                  <a:pt x="347" y="15751"/>
                </a:moveTo>
                <a:cubicBezTo>
                  <a:pt x="492" y="15727"/>
                  <a:pt x="626" y="15663"/>
                  <a:pt x="769" y="15627"/>
                </a:cubicBezTo>
                <a:cubicBezTo>
                  <a:pt x="776" y="15625"/>
                  <a:pt x="862" y="15627"/>
                  <a:pt x="794" y="15627"/>
                </a:cubicBezTo>
              </a:path>
              <a:path w="473" h="547">
                <a:moveTo>
                  <a:pt x="670" y="15429"/>
                </a:moveTo>
                <a:cubicBezTo>
                  <a:pt x="602" y="15557"/>
                  <a:pt x="536" y="15687"/>
                  <a:pt x="496" y="158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25280" y="3456000"/>
            <a:ext cx="5303880" cy="2278080"/>
          </a:xfrm>
          <a:custGeom>
            <a:avLst/>
            <a:gdLst/>
            <a:ahLst/>
            <a:rect l="l" t="t" r="r" b="b"/>
            <a:pathLst>
              <a:path w="14735" h="6327">
                <a:moveTo>
                  <a:pt x="2679" y="9599"/>
                </a:moveTo>
                <a:lnTo>
                  <a:pt x="2679" y="9599"/>
                </a:lnTo>
              </a:path>
              <a:path w="14735" h="6327">
                <a:moveTo>
                  <a:pt x="397" y="13022"/>
                </a:moveTo>
                <a:cubicBezTo>
                  <a:pt x="580" y="13053"/>
                  <a:pt x="761" y="13090"/>
                  <a:pt x="943" y="13122"/>
                </a:cubicBezTo>
                <a:cubicBezTo>
                  <a:pt x="951" y="13122"/>
                  <a:pt x="959" y="13122"/>
                  <a:pt x="967" y="13122"/>
                </a:cubicBezTo>
              </a:path>
              <a:path w="14735" h="6327">
                <a:moveTo>
                  <a:pt x="3423" y="14784"/>
                </a:moveTo>
                <a:cubicBezTo>
                  <a:pt x="3409" y="14983"/>
                  <a:pt x="3404" y="14943"/>
                  <a:pt x="3249" y="15081"/>
                </a:cubicBezTo>
              </a:path>
              <a:path w="14735" h="6327">
                <a:moveTo>
                  <a:pt x="347" y="15528"/>
                </a:moveTo>
                <a:cubicBezTo>
                  <a:pt x="472" y="15597"/>
                  <a:pt x="594" y="15708"/>
                  <a:pt x="695" y="15776"/>
                </a:cubicBezTo>
                <a:cubicBezTo>
                  <a:pt x="703" y="15776"/>
                  <a:pt x="711" y="15776"/>
                  <a:pt x="719" y="15776"/>
                </a:cubicBezTo>
              </a:path>
              <a:path w="14735" h="6327">
                <a:moveTo>
                  <a:pt x="10542" y="15801"/>
                </a:moveTo>
                <a:cubicBezTo>
                  <a:pt x="10694" y="15764"/>
                  <a:pt x="10834" y="15748"/>
                  <a:pt x="10988" y="15726"/>
                </a:cubicBezTo>
              </a:path>
              <a:path w="14735" h="6327">
                <a:moveTo>
                  <a:pt x="10517" y="15627"/>
                </a:moveTo>
                <a:cubicBezTo>
                  <a:pt x="10684" y="15717"/>
                  <a:pt x="10830" y="15823"/>
                  <a:pt x="10988" y="15925"/>
                </a:cubicBezTo>
              </a:path>
              <a:path w="14735" h="6327">
                <a:moveTo>
                  <a:pt x="14957" y="15329"/>
                </a:moveTo>
                <a:cubicBezTo>
                  <a:pt x="14998" y="15329"/>
                  <a:pt x="15040" y="15329"/>
                  <a:pt x="15081" y="153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04840" y="4616280"/>
            <a:ext cx="144360" cy="169920"/>
          </a:xfrm>
          <a:custGeom>
            <a:avLst/>
            <a:gdLst/>
            <a:ahLst/>
            <a:rect l="l" t="t" r="r" b="b"/>
            <a:pathLst>
              <a:path w="397" h="472">
                <a:moveTo>
                  <a:pt x="719" y="12874"/>
                </a:moveTo>
                <a:cubicBezTo>
                  <a:pt x="719" y="12849"/>
                  <a:pt x="719" y="12841"/>
                  <a:pt x="695" y="12849"/>
                </a:cubicBezTo>
                <a:cubicBezTo>
                  <a:pt x="714" y="12970"/>
                  <a:pt x="756" y="13104"/>
                  <a:pt x="794" y="13221"/>
                </a:cubicBezTo>
                <a:cubicBezTo>
                  <a:pt x="814" y="13261"/>
                  <a:pt x="823" y="13268"/>
                  <a:pt x="819" y="13295"/>
                </a:cubicBezTo>
              </a:path>
              <a:path w="397" h="472">
                <a:moveTo>
                  <a:pt x="571" y="13171"/>
                </a:moveTo>
                <a:cubicBezTo>
                  <a:pt x="684" y="13090"/>
                  <a:pt x="814" y="13005"/>
                  <a:pt x="943" y="12948"/>
                </a:cubicBezTo>
                <a:cubicBezTo>
                  <a:pt x="951" y="12948"/>
                  <a:pt x="959" y="12948"/>
                  <a:pt x="967" y="12948"/>
                </a:cubicBezTo>
              </a:path>
              <a:path w="397" h="472">
                <a:moveTo>
                  <a:pt x="819" y="12824"/>
                </a:moveTo>
                <a:cubicBezTo>
                  <a:pt x="750" y="12875"/>
                  <a:pt x="730" y="13006"/>
                  <a:pt x="695" y="13097"/>
                </a:cubicBezTo>
                <a:cubicBezTo>
                  <a:pt x="687" y="13113"/>
                  <a:pt x="678" y="13130"/>
                  <a:pt x="670" y="131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44680" y="4357800"/>
            <a:ext cx="1295280" cy="938160"/>
          </a:xfrm>
          <a:custGeom>
            <a:avLst/>
            <a:gdLst/>
            <a:ahLst/>
            <a:rect l="l" t="t" r="r" b="b"/>
            <a:pathLst>
              <a:path w="3598" h="2605">
                <a:moveTo>
                  <a:pt x="3696" y="12105"/>
                </a:moveTo>
                <a:cubicBezTo>
                  <a:pt x="3716" y="12205"/>
                  <a:pt x="3731" y="12354"/>
                  <a:pt x="3621" y="12427"/>
                </a:cubicBezTo>
                <a:cubicBezTo>
                  <a:pt x="3588" y="12427"/>
                  <a:pt x="3555" y="12427"/>
                  <a:pt x="3522" y="12427"/>
                </a:cubicBezTo>
              </a:path>
              <a:path w="3598" h="2605">
                <a:moveTo>
                  <a:pt x="1513" y="13667"/>
                </a:moveTo>
                <a:cubicBezTo>
                  <a:pt x="1660" y="13667"/>
                  <a:pt x="1792" y="13625"/>
                  <a:pt x="1935" y="13593"/>
                </a:cubicBezTo>
                <a:cubicBezTo>
                  <a:pt x="1814" y="13654"/>
                  <a:pt x="1676" y="13660"/>
                  <a:pt x="1538" y="13667"/>
                </a:cubicBezTo>
                <a:cubicBezTo>
                  <a:pt x="1612" y="13667"/>
                  <a:pt x="1810" y="13667"/>
                  <a:pt x="1786" y="13667"/>
                </a:cubicBezTo>
                <a:cubicBezTo>
                  <a:pt x="1748" y="13667"/>
                  <a:pt x="1516" y="13621"/>
                  <a:pt x="1563" y="13618"/>
                </a:cubicBezTo>
                <a:cubicBezTo>
                  <a:pt x="1621" y="13614"/>
                  <a:pt x="1824" y="13581"/>
                  <a:pt x="1786" y="13593"/>
                </a:cubicBezTo>
                <a:cubicBezTo>
                  <a:pt x="1704" y="13621"/>
                  <a:pt x="1671" y="13631"/>
                  <a:pt x="1612" y="13643"/>
                </a:cubicBezTo>
              </a:path>
              <a:path w="3598" h="2605">
                <a:moveTo>
                  <a:pt x="2034" y="14015"/>
                </a:moveTo>
                <a:cubicBezTo>
                  <a:pt x="2177" y="13961"/>
                  <a:pt x="2391" y="13958"/>
                  <a:pt x="2555" y="13940"/>
                </a:cubicBezTo>
                <a:cubicBezTo>
                  <a:pt x="2571" y="13940"/>
                  <a:pt x="2588" y="13940"/>
                  <a:pt x="2604" y="13940"/>
                </a:cubicBezTo>
                <a:cubicBezTo>
                  <a:pt x="2638" y="14024"/>
                  <a:pt x="2548" y="14278"/>
                  <a:pt x="2530" y="14387"/>
                </a:cubicBezTo>
                <a:cubicBezTo>
                  <a:pt x="2516" y="14475"/>
                  <a:pt x="2505" y="14512"/>
                  <a:pt x="2505" y="14585"/>
                </a:cubicBezTo>
              </a:path>
              <a:path w="3598" h="2605">
                <a:moveTo>
                  <a:pt x="4415" y="13271"/>
                </a:moveTo>
                <a:cubicBezTo>
                  <a:pt x="4492" y="13286"/>
                  <a:pt x="4555" y="13295"/>
                  <a:pt x="4638" y="13295"/>
                </a:cubicBezTo>
                <a:cubicBezTo>
                  <a:pt x="4714" y="13295"/>
                  <a:pt x="4537" y="13298"/>
                  <a:pt x="4465" y="13320"/>
                </a:cubicBezTo>
                <a:cubicBezTo>
                  <a:pt x="4406" y="13338"/>
                  <a:pt x="4528" y="13345"/>
                  <a:pt x="4589" y="13345"/>
                </a:cubicBezTo>
                <a:cubicBezTo>
                  <a:pt x="4605" y="13345"/>
                  <a:pt x="4622" y="13345"/>
                  <a:pt x="4638" y="13345"/>
                </a:cubicBezTo>
                <a:cubicBezTo>
                  <a:pt x="4594" y="13345"/>
                  <a:pt x="4429" y="13345"/>
                  <a:pt x="4490" y="13345"/>
                </a:cubicBezTo>
                <a:cubicBezTo>
                  <a:pt x="4539" y="13345"/>
                  <a:pt x="4588" y="13326"/>
                  <a:pt x="4638" y="13320"/>
                </a:cubicBezTo>
              </a:path>
              <a:path w="3598" h="2605">
                <a:moveTo>
                  <a:pt x="3101" y="13940"/>
                </a:moveTo>
                <a:cubicBezTo>
                  <a:pt x="3009" y="14050"/>
                  <a:pt x="2978" y="14196"/>
                  <a:pt x="2952" y="14337"/>
                </a:cubicBezTo>
                <a:cubicBezTo>
                  <a:pt x="2911" y="14561"/>
                  <a:pt x="2905" y="14586"/>
                  <a:pt x="3051" y="14709"/>
                </a:cubicBezTo>
                <a:cubicBezTo>
                  <a:pt x="3220" y="14574"/>
                  <a:pt x="3486" y="14321"/>
                  <a:pt x="3249" y="14089"/>
                </a:cubicBezTo>
                <a:cubicBezTo>
                  <a:pt x="3173" y="14015"/>
                  <a:pt x="3051" y="14032"/>
                  <a:pt x="2977" y="14064"/>
                </a:cubicBezTo>
              </a:path>
              <a:path w="3598" h="2605">
                <a:moveTo>
                  <a:pt x="3770" y="14139"/>
                </a:moveTo>
                <a:cubicBezTo>
                  <a:pt x="3619" y="14101"/>
                  <a:pt x="3548" y="14299"/>
                  <a:pt x="3522" y="14436"/>
                </a:cubicBezTo>
                <a:cubicBezTo>
                  <a:pt x="3522" y="14599"/>
                  <a:pt x="3514" y="14649"/>
                  <a:pt x="3621" y="14709"/>
                </a:cubicBezTo>
                <a:cubicBezTo>
                  <a:pt x="3849" y="14624"/>
                  <a:pt x="4123" y="14426"/>
                  <a:pt x="3894" y="14139"/>
                </a:cubicBezTo>
                <a:cubicBezTo>
                  <a:pt x="3834" y="14064"/>
                  <a:pt x="3708" y="14086"/>
                  <a:pt x="3671" y="14114"/>
                </a:cubicBezTo>
              </a:path>
              <a:path w="3598" h="2605">
                <a:moveTo>
                  <a:pt x="4291" y="14039"/>
                </a:moveTo>
                <a:cubicBezTo>
                  <a:pt x="4081" y="14081"/>
                  <a:pt x="4012" y="14284"/>
                  <a:pt x="4068" y="14511"/>
                </a:cubicBezTo>
                <a:cubicBezTo>
                  <a:pt x="4093" y="14544"/>
                  <a:pt x="4117" y="14577"/>
                  <a:pt x="4142" y="14610"/>
                </a:cubicBezTo>
                <a:cubicBezTo>
                  <a:pt x="4328" y="14534"/>
                  <a:pt x="4733" y="14276"/>
                  <a:pt x="4390" y="14064"/>
                </a:cubicBezTo>
                <a:cubicBezTo>
                  <a:pt x="4224" y="14043"/>
                  <a:pt x="4190" y="14027"/>
                  <a:pt x="4093" y="14064"/>
                </a:cubicBezTo>
              </a:path>
              <a:path w="3598" h="2605">
                <a:moveTo>
                  <a:pt x="4837" y="13990"/>
                </a:moveTo>
                <a:cubicBezTo>
                  <a:pt x="4679" y="14161"/>
                  <a:pt x="4696" y="14327"/>
                  <a:pt x="4713" y="14560"/>
                </a:cubicBezTo>
                <a:cubicBezTo>
                  <a:pt x="4883" y="14525"/>
                  <a:pt x="5355" y="14234"/>
                  <a:pt x="5060" y="13990"/>
                </a:cubicBezTo>
                <a:cubicBezTo>
                  <a:pt x="4815" y="13963"/>
                  <a:pt x="4723" y="13965"/>
                  <a:pt x="4589" y="141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821040" y="5581800"/>
            <a:ext cx="90720" cy="160200"/>
          </a:xfrm>
          <a:custGeom>
            <a:avLst/>
            <a:gdLst/>
            <a:ahLst/>
            <a:rect l="l" t="t" r="r" b="b"/>
            <a:pathLst>
              <a:path w="249" h="447">
                <a:moveTo>
                  <a:pt x="10740" y="15503"/>
                </a:moveTo>
                <a:cubicBezTo>
                  <a:pt x="10779" y="15648"/>
                  <a:pt x="10807" y="15784"/>
                  <a:pt x="10790" y="15925"/>
                </a:cubicBezTo>
                <a:cubicBezTo>
                  <a:pt x="10790" y="15933"/>
                  <a:pt x="10790" y="15941"/>
                  <a:pt x="10790" y="15949"/>
                </a:cubicBezTo>
              </a:path>
              <a:path w="249" h="447">
                <a:moveTo>
                  <a:pt x="10864" y="15528"/>
                </a:moveTo>
                <a:cubicBezTo>
                  <a:pt x="10770" y="15641"/>
                  <a:pt x="10673" y="15763"/>
                  <a:pt x="10616" y="15900"/>
                </a:cubicBezTo>
                <a:cubicBezTo>
                  <a:pt x="10616" y="15908"/>
                  <a:pt x="10616" y="15917"/>
                  <a:pt x="10616" y="159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54320" y="5348160"/>
            <a:ext cx="106560" cy="519120"/>
          </a:xfrm>
          <a:custGeom>
            <a:avLst/>
            <a:gdLst/>
            <a:ahLst/>
            <a:rect l="l" t="t" r="r" b="b"/>
            <a:pathLst>
              <a:path w="299" h="1440">
                <a:moveTo>
                  <a:pt x="11509" y="14858"/>
                </a:moveTo>
                <a:cubicBezTo>
                  <a:pt x="11443" y="14981"/>
                  <a:pt x="11343" y="15253"/>
                  <a:pt x="11311" y="15404"/>
                </a:cubicBezTo>
                <a:cubicBezTo>
                  <a:pt x="11244" y="15718"/>
                  <a:pt x="11226" y="16053"/>
                  <a:pt x="11485" y="16272"/>
                </a:cubicBezTo>
                <a:cubicBezTo>
                  <a:pt x="11525" y="16292"/>
                  <a:pt x="11531" y="16301"/>
                  <a:pt x="11559" y="162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180040" y="5322960"/>
            <a:ext cx="204840" cy="579240"/>
          </a:xfrm>
          <a:custGeom>
            <a:avLst/>
            <a:gdLst/>
            <a:ahLst/>
            <a:rect l="l" t="t" r="r" b="b"/>
            <a:pathLst>
              <a:path w="571" h="1613">
                <a:moveTo>
                  <a:pt x="14511" y="15999"/>
                </a:moveTo>
                <a:cubicBezTo>
                  <a:pt x="14526" y="15954"/>
                  <a:pt x="14602" y="15941"/>
                  <a:pt x="14660" y="15949"/>
                </a:cubicBezTo>
                <a:cubicBezTo>
                  <a:pt x="14718" y="15957"/>
                  <a:pt x="14842" y="15974"/>
                  <a:pt x="14784" y="15974"/>
                </a:cubicBezTo>
                <a:cubicBezTo>
                  <a:pt x="14726" y="15974"/>
                  <a:pt x="14620" y="15919"/>
                  <a:pt x="14560" y="15900"/>
                </a:cubicBezTo>
                <a:cubicBezTo>
                  <a:pt x="14633" y="15915"/>
                  <a:pt x="14710" y="15935"/>
                  <a:pt x="14784" y="15949"/>
                </a:cubicBezTo>
                <a:cubicBezTo>
                  <a:pt x="14837" y="15959"/>
                  <a:pt x="14687" y="15916"/>
                  <a:pt x="14635" y="15900"/>
                </a:cubicBezTo>
                <a:cubicBezTo>
                  <a:pt x="14396" y="15900"/>
                  <a:pt x="14654" y="15929"/>
                  <a:pt x="14684" y="15925"/>
                </a:cubicBezTo>
                <a:cubicBezTo>
                  <a:pt x="14957" y="15892"/>
                  <a:pt x="14615" y="15924"/>
                  <a:pt x="14610" y="15925"/>
                </a:cubicBezTo>
                <a:cubicBezTo>
                  <a:pt x="14548" y="15934"/>
                  <a:pt x="14706" y="15925"/>
                  <a:pt x="14734" y="15925"/>
                </a:cubicBezTo>
              </a:path>
              <a:path w="571" h="1613">
                <a:moveTo>
                  <a:pt x="14536" y="15925"/>
                </a:moveTo>
                <a:cubicBezTo>
                  <a:pt x="14556" y="15863"/>
                  <a:pt x="14557" y="15927"/>
                  <a:pt x="14436" y="15900"/>
                </a:cubicBezTo>
                <a:cubicBezTo>
                  <a:pt x="14358" y="15883"/>
                  <a:pt x="14481" y="15908"/>
                  <a:pt x="14560" y="15900"/>
                </a:cubicBezTo>
                <a:cubicBezTo>
                  <a:pt x="14642" y="15892"/>
                  <a:pt x="14829" y="15879"/>
                  <a:pt x="14635" y="15850"/>
                </a:cubicBezTo>
                <a:cubicBezTo>
                  <a:pt x="14491" y="15828"/>
                  <a:pt x="14702" y="15909"/>
                  <a:pt x="14734" y="15925"/>
                </a:cubicBezTo>
              </a:path>
              <a:path w="571" h="1613">
                <a:moveTo>
                  <a:pt x="14610" y="14784"/>
                </a:moveTo>
                <a:cubicBezTo>
                  <a:pt x="14824" y="15011"/>
                  <a:pt x="14957" y="15325"/>
                  <a:pt x="14957" y="15652"/>
                </a:cubicBezTo>
                <a:cubicBezTo>
                  <a:pt x="14957" y="15870"/>
                  <a:pt x="14893" y="16174"/>
                  <a:pt x="14784" y="16371"/>
                </a:cubicBezTo>
                <a:cubicBezTo>
                  <a:pt x="14776" y="16379"/>
                  <a:pt x="14767" y="16388"/>
                  <a:pt x="14759" y="1639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85880" y="4071960"/>
            <a:ext cx="1635120" cy="482400"/>
          </a:xfrm>
          <a:custGeom>
            <a:avLst/>
            <a:gdLst/>
            <a:ahLst/>
            <a:rect l="l" t="t" r="r" b="b"/>
            <a:pathLst>
              <a:path w="4540" h="1340">
                <a:moveTo>
                  <a:pt x="2803" y="11534"/>
                </a:moveTo>
                <a:cubicBezTo>
                  <a:pt x="2761" y="11513"/>
                  <a:pt x="2630" y="11518"/>
                  <a:pt x="2555" y="11509"/>
                </a:cubicBezTo>
                <a:cubicBezTo>
                  <a:pt x="2538" y="11509"/>
                  <a:pt x="2522" y="11509"/>
                  <a:pt x="2505" y="11509"/>
                </a:cubicBezTo>
                <a:cubicBezTo>
                  <a:pt x="2488" y="11577"/>
                  <a:pt x="2466" y="11655"/>
                  <a:pt x="2456" y="11733"/>
                </a:cubicBezTo>
                <a:cubicBezTo>
                  <a:pt x="2456" y="11749"/>
                  <a:pt x="2456" y="11766"/>
                  <a:pt x="2456" y="11782"/>
                </a:cubicBezTo>
                <a:cubicBezTo>
                  <a:pt x="2576" y="11770"/>
                  <a:pt x="2646" y="11727"/>
                  <a:pt x="2729" y="11807"/>
                </a:cubicBezTo>
                <a:cubicBezTo>
                  <a:pt x="2805" y="11879"/>
                  <a:pt x="2795" y="11991"/>
                  <a:pt x="2704" y="12055"/>
                </a:cubicBezTo>
                <a:cubicBezTo>
                  <a:pt x="2559" y="12157"/>
                  <a:pt x="2410" y="12138"/>
                  <a:pt x="2257" y="12080"/>
                </a:cubicBezTo>
                <a:cubicBezTo>
                  <a:pt x="2207" y="12061"/>
                  <a:pt x="2194" y="12064"/>
                  <a:pt x="2183" y="12030"/>
                </a:cubicBezTo>
              </a:path>
              <a:path w="4540" h="1340">
                <a:moveTo>
                  <a:pt x="3448" y="11311"/>
                </a:moveTo>
                <a:cubicBezTo>
                  <a:pt x="3264" y="11476"/>
                  <a:pt x="3174" y="11700"/>
                  <a:pt x="3200" y="11956"/>
                </a:cubicBezTo>
                <a:cubicBezTo>
                  <a:pt x="3216" y="11989"/>
                  <a:pt x="3233" y="12022"/>
                  <a:pt x="3249" y="12055"/>
                </a:cubicBezTo>
                <a:cubicBezTo>
                  <a:pt x="3470" y="11960"/>
                  <a:pt x="3756" y="11708"/>
                  <a:pt x="3522" y="11435"/>
                </a:cubicBezTo>
                <a:cubicBezTo>
                  <a:pt x="3380" y="11387"/>
                  <a:pt x="3338" y="11368"/>
                  <a:pt x="3249" y="11435"/>
                </a:cubicBezTo>
              </a:path>
              <a:path w="4540" h="1340">
                <a:moveTo>
                  <a:pt x="3795" y="11410"/>
                </a:moveTo>
                <a:cubicBezTo>
                  <a:pt x="3685" y="11549"/>
                  <a:pt x="3607" y="11823"/>
                  <a:pt x="3721" y="12005"/>
                </a:cubicBezTo>
                <a:cubicBezTo>
                  <a:pt x="3754" y="12022"/>
                  <a:pt x="3787" y="12038"/>
                  <a:pt x="3820" y="12055"/>
                </a:cubicBezTo>
                <a:cubicBezTo>
                  <a:pt x="3969" y="11927"/>
                  <a:pt x="4283" y="11605"/>
                  <a:pt x="3894" y="11509"/>
                </a:cubicBezTo>
                <a:cubicBezTo>
                  <a:pt x="3766" y="11531"/>
                  <a:pt x="3727" y="11522"/>
                  <a:pt x="3696" y="11609"/>
                </a:cubicBezTo>
              </a:path>
              <a:path w="4540" h="1340">
                <a:moveTo>
                  <a:pt x="4366" y="11559"/>
                </a:moveTo>
                <a:cubicBezTo>
                  <a:pt x="4146" y="11669"/>
                  <a:pt x="4185" y="11838"/>
                  <a:pt x="4217" y="12055"/>
                </a:cubicBezTo>
                <a:cubicBezTo>
                  <a:pt x="4524" y="12026"/>
                  <a:pt x="4570" y="11892"/>
                  <a:pt x="4514" y="11609"/>
                </a:cubicBezTo>
                <a:cubicBezTo>
                  <a:pt x="4292" y="11629"/>
                  <a:pt x="4295" y="11589"/>
                  <a:pt x="4118" y="11708"/>
                </a:cubicBezTo>
              </a:path>
              <a:path w="4540" h="1340">
                <a:moveTo>
                  <a:pt x="4837" y="11633"/>
                </a:moveTo>
                <a:cubicBezTo>
                  <a:pt x="4698" y="11730"/>
                  <a:pt x="4550" y="11918"/>
                  <a:pt x="4663" y="12105"/>
                </a:cubicBezTo>
                <a:cubicBezTo>
                  <a:pt x="4704" y="12130"/>
                  <a:pt x="4746" y="12154"/>
                  <a:pt x="4787" y="12179"/>
                </a:cubicBezTo>
                <a:cubicBezTo>
                  <a:pt x="5056" y="12040"/>
                  <a:pt x="5054" y="12030"/>
                  <a:pt x="5110" y="11733"/>
                </a:cubicBezTo>
                <a:cubicBezTo>
                  <a:pt x="4891" y="11657"/>
                  <a:pt x="4883" y="11587"/>
                  <a:pt x="4713" y="11757"/>
                </a:cubicBezTo>
              </a:path>
              <a:path w="4540" h="1340">
                <a:moveTo>
                  <a:pt x="5333" y="11609"/>
                </a:moveTo>
                <a:cubicBezTo>
                  <a:pt x="5157" y="11794"/>
                  <a:pt x="5143" y="11829"/>
                  <a:pt x="5135" y="12080"/>
                </a:cubicBezTo>
                <a:cubicBezTo>
                  <a:pt x="5310" y="12122"/>
                  <a:pt x="5773" y="12074"/>
                  <a:pt x="5581" y="11733"/>
                </a:cubicBezTo>
                <a:cubicBezTo>
                  <a:pt x="5463" y="11522"/>
                  <a:pt x="5294" y="11693"/>
                  <a:pt x="5259" y="11757"/>
                </a:cubicBezTo>
              </a:path>
              <a:path w="4540" h="1340">
                <a:moveTo>
                  <a:pt x="5804" y="11584"/>
                </a:moveTo>
                <a:cubicBezTo>
                  <a:pt x="5677" y="11801"/>
                  <a:pt x="5672" y="11857"/>
                  <a:pt x="5705" y="12105"/>
                </a:cubicBezTo>
                <a:cubicBezTo>
                  <a:pt x="5923" y="12123"/>
                  <a:pt x="6322" y="11966"/>
                  <a:pt x="6127" y="11633"/>
                </a:cubicBezTo>
                <a:cubicBezTo>
                  <a:pt x="5998" y="11413"/>
                  <a:pt x="5775" y="11673"/>
                  <a:pt x="5680" y="11757"/>
                </a:cubicBezTo>
              </a:path>
              <a:path w="4540" h="1340">
                <a:moveTo>
                  <a:pt x="6449" y="11460"/>
                </a:moveTo>
                <a:cubicBezTo>
                  <a:pt x="6229" y="11732"/>
                  <a:pt x="6173" y="11840"/>
                  <a:pt x="6300" y="12154"/>
                </a:cubicBezTo>
                <a:cubicBezTo>
                  <a:pt x="6412" y="12105"/>
                  <a:pt x="7084" y="11623"/>
                  <a:pt x="6573" y="11559"/>
                </a:cubicBezTo>
                <a:cubicBezTo>
                  <a:pt x="6330" y="11625"/>
                  <a:pt x="6268" y="11637"/>
                  <a:pt x="6127" y="11708"/>
                </a:cubicBezTo>
              </a:path>
              <a:path w="4540" h="1340">
                <a:moveTo>
                  <a:pt x="5209" y="12278"/>
                </a:moveTo>
                <a:cubicBezTo>
                  <a:pt x="5232" y="12457"/>
                  <a:pt x="5225" y="12497"/>
                  <a:pt x="5135" y="126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367160" y="6402240"/>
            <a:ext cx="71640" cy="152640"/>
          </a:xfrm>
          <a:custGeom>
            <a:avLst/>
            <a:gdLst/>
            <a:ahLst/>
            <a:rect l="l" t="t" r="r" b="b"/>
            <a:pathLst>
              <a:path w="200" h="423">
                <a:moveTo>
                  <a:pt x="12229" y="17785"/>
                </a:moveTo>
                <a:cubicBezTo>
                  <a:pt x="12337" y="17880"/>
                  <a:pt x="12392" y="18035"/>
                  <a:pt x="12254" y="18157"/>
                </a:cubicBezTo>
                <a:cubicBezTo>
                  <a:pt x="12212" y="18174"/>
                  <a:pt x="12171" y="18190"/>
                  <a:pt x="12129" y="182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76160" y="6037200"/>
            <a:ext cx="144720" cy="241200"/>
          </a:xfrm>
          <a:custGeom>
            <a:avLst/>
            <a:gdLst/>
            <a:ahLst/>
            <a:rect l="l" t="t" r="r" b="b"/>
            <a:pathLst>
              <a:path w="398" h="671">
                <a:moveTo>
                  <a:pt x="2480" y="16768"/>
                </a:moveTo>
                <a:cubicBezTo>
                  <a:pt x="2362" y="16802"/>
                  <a:pt x="2259" y="16820"/>
                  <a:pt x="2158" y="16892"/>
                </a:cubicBezTo>
                <a:cubicBezTo>
                  <a:pt x="2252" y="17053"/>
                  <a:pt x="2463" y="17060"/>
                  <a:pt x="2555" y="17214"/>
                </a:cubicBezTo>
                <a:cubicBezTo>
                  <a:pt x="2636" y="17349"/>
                  <a:pt x="2454" y="17487"/>
                  <a:pt x="2332" y="17413"/>
                </a:cubicBezTo>
                <a:cubicBezTo>
                  <a:pt x="2199" y="17333"/>
                  <a:pt x="2361" y="17156"/>
                  <a:pt x="2406" y="17090"/>
                </a:cubicBezTo>
                <a:cubicBezTo>
                  <a:pt x="2453" y="17020"/>
                  <a:pt x="2480" y="16982"/>
                  <a:pt x="2431" y="1691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062000" y="6089760"/>
            <a:ext cx="125280" cy="206280"/>
          </a:xfrm>
          <a:custGeom>
            <a:avLst/>
            <a:gdLst/>
            <a:ahLst/>
            <a:rect l="l" t="t" r="r" b="b"/>
            <a:pathLst>
              <a:path w="348" h="571">
                <a:moveTo>
                  <a:pt x="3150" y="16966"/>
                </a:moveTo>
                <a:cubicBezTo>
                  <a:pt x="3096" y="16926"/>
                  <a:pt x="3087" y="16932"/>
                  <a:pt x="3051" y="16991"/>
                </a:cubicBezTo>
                <a:cubicBezTo>
                  <a:pt x="2988" y="17094"/>
                  <a:pt x="2860" y="17359"/>
                  <a:pt x="3001" y="17462"/>
                </a:cubicBezTo>
                <a:cubicBezTo>
                  <a:pt x="3152" y="17572"/>
                  <a:pt x="3277" y="17357"/>
                  <a:pt x="3299" y="17239"/>
                </a:cubicBezTo>
                <a:cubicBezTo>
                  <a:pt x="3355" y="16934"/>
                  <a:pt x="3183" y="17091"/>
                  <a:pt x="3051" y="16991"/>
                </a:cubicBezTo>
                <a:cubicBezTo>
                  <a:pt x="3043" y="16966"/>
                  <a:pt x="3034" y="16942"/>
                  <a:pt x="3026" y="1691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509840" y="5732640"/>
            <a:ext cx="142920" cy="26640"/>
          </a:xfrm>
          <a:custGeom>
            <a:avLst/>
            <a:gdLst/>
            <a:ahLst/>
            <a:rect l="l" t="t" r="r" b="b"/>
            <a:pathLst>
              <a:path w="398" h="75">
                <a:moveTo>
                  <a:pt x="4192" y="15925"/>
                </a:moveTo>
                <a:cubicBezTo>
                  <a:pt x="4301" y="15925"/>
                  <a:pt x="4409" y="15913"/>
                  <a:pt x="4514" y="15949"/>
                </a:cubicBezTo>
                <a:cubicBezTo>
                  <a:pt x="4662" y="16000"/>
                  <a:pt x="4491" y="15984"/>
                  <a:pt x="4415" y="15999"/>
                </a:cubicBezTo>
                <a:cubicBezTo>
                  <a:pt x="4340" y="15999"/>
                  <a:pt x="4586" y="15999"/>
                  <a:pt x="4589" y="15999"/>
                </a:cubicBezTo>
              </a:path>
            </a:pathLst>
          </a:custGeom>
          <a:noFill/>
          <a:ln cap="rnd" w="19080">
            <a:solidFill>
              <a:srgbClr val="ff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58" name=""/>
          <p:cNvSpPr/>
          <p:nvPr/>
        </p:nvSpPr>
        <p:spPr>
          <a:xfrm>
            <a:off x="4179960" y="6000840"/>
            <a:ext cx="384120" cy="384120"/>
          </a:xfrm>
          <a:custGeom>
            <a:avLst/>
            <a:gdLst/>
            <a:ahLst/>
            <a:rect l="l" t="t" r="r" b="b"/>
            <a:pathLst>
              <a:path w="1067" h="1067">
                <a:moveTo>
                  <a:pt x="12005" y="16917"/>
                </a:moveTo>
                <a:cubicBezTo>
                  <a:pt x="12039" y="16928"/>
                  <a:pt x="12063" y="16939"/>
                  <a:pt x="12005" y="16842"/>
                </a:cubicBezTo>
                <a:cubicBezTo>
                  <a:pt x="11909" y="16682"/>
                  <a:pt x="11869" y="16694"/>
                  <a:pt x="11708" y="16694"/>
                </a:cubicBezTo>
                <a:cubicBezTo>
                  <a:pt x="11650" y="16785"/>
                  <a:pt x="11489" y="17163"/>
                  <a:pt x="11733" y="17190"/>
                </a:cubicBezTo>
                <a:cubicBezTo>
                  <a:pt x="11908" y="17209"/>
                  <a:pt x="11959" y="16974"/>
                  <a:pt x="12005" y="16867"/>
                </a:cubicBezTo>
                <a:cubicBezTo>
                  <a:pt x="12005" y="16842"/>
                  <a:pt x="12005" y="16818"/>
                  <a:pt x="12005" y="16793"/>
                </a:cubicBezTo>
                <a:cubicBezTo>
                  <a:pt x="12005" y="17034"/>
                  <a:pt x="12042" y="17270"/>
                  <a:pt x="12030" y="17512"/>
                </a:cubicBezTo>
                <a:cubicBezTo>
                  <a:pt x="12024" y="17626"/>
                  <a:pt x="11943" y="17801"/>
                  <a:pt x="12080" y="17686"/>
                </a:cubicBezTo>
              </a:path>
              <a:path w="1067" h="1067">
                <a:moveTo>
                  <a:pt x="12502" y="16966"/>
                </a:moveTo>
                <a:cubicBezTo>
                  <a:pt x="12400" y="16927"/>
                  <a:pt x="12333" y="17125"/>
                  <a:pt x="12303" y="17214"/>
                </a:cubicBezTo>
                <a:cubicBezTo>
                  <a:pt x="12235" y="17415"/>
                  <a:pt x="12237" y="17473"/>
                  <a:pt x="12353" y="17611"/>
                </a:cubicBezTo>
                <a:cubicBezTo>
                  <a:pt x="12566" y="17530"/>
                  <a:pt x="12770" y="17409"/>
                  <a:pt x="12626" y="17140"/>
                </a:cubicBezTo>
                <a:cubicBezTo>
                  <a:pt x="12580" y="17055"/>
                  <a:pt x="12409" y="17018"/>
                  <a:pt x="12477" y="170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687920" y="6161040"/>
            <a:ext cx="1428840" cy="366840"/>
          </a:xfrm>
          <a:custGeom>
            <a:avLst/>
            <a:gdLst/>
            <a:ahLst/>
            <a:rect l="l" t="t" r="r" b="b"/>
            <a:pathLst>
              <a:path w="3970" h="1018">
                <a:moveTo>
                  <a:pt x="13221" y="17190"/>
                </a:moveTo>
                <a:cubicBezTo>
                  <a:pt x="13105" y="17121"/>
                  <a:pt x="13072" y="17256"/>
                  <a:pt x="13047" y="17363"/>
                </a:cubicBezTo>
                <a:cubicBezTo>
                  <a:pt x="13006" y="17537"/>
                  <a:pt x="12993" y="17594"/>
                  <a:pt x="13097" y="17686"/>
                </a:cubicBezTo>
                <a:cubicBezTo>
                  <a:pt x="13245" y="17616"/>
                  <a:pt x="13496" y="17444"/>
                  <a:pt x="13320" y="17239"/>
                </a:cubicBezTo>
                <a:cubicBezTo>
                  <a:pt x="13231" y="17136"/>
                  <a:pt x="13101" y="17196"/>
                  <a:pt x="13022" y="17239"/>
                </a:cubicBezTo>
              </a:path>
              <a:path w="3970" h="1018">
                <a:moveTo>
                  <a:pt x="13891" y="17190"/>
                </a:moveTo>
                <a:cubicBezTo>
                  <a:pt x="13724" y="17212"/>
                  <a:pt x="13622" y="17282"/>
                  <a:pt x="13667" y="17487"/>
                </a:cubicBezTo>
                <a:cubicBezTo>
                  <a:pt x="13684" y="17512"/>
                  <a:pt x="13700" y="17537"/>
                  <a:pt x="13717" y="17562"/>
                </a:cubicBezTo>
                <a:cubicBezTo>
                  <a:pt x="13811" y="17562"/>
                  <a:pt x="14234" y="17483"/>
                  <a:pt x="14064" y="17264"/>
                </a:cubicBezTo>
                <a:cubicBezTo>
                  <a:pt x="13952" y="17120"/>
                  <a:pt x="13806" y="17211"/>
                  <a:pt x="13692" y="17264"/>
                </a:cubicBezTo>
              </a:path>
              <a:path w="3970" h="1018">
                <a:moveTo>
                  <a:pt x="14387" y="17165"/>
                </a:moveTo>
                <a:cubicBezTo>
                  <a:pt x="14339" y="17316"/>
                  <a:pt x="14321" y="17406"/>
                  <a:pt x="14337" y="17562"/>
                </a:cubicBezTo>
                <a:cubicBezTo>
                  <a:pt x="14471" y="17578"/>
                  <a:pt x="14918" y="17519"/>
                  <a:pt x="14709" y="17239"/>
                </a:cubicBezTo>
                <a:cubicBezTo>
                  <a:pt x="14627" y="17129"/>
                  <a:pt x="14270" y="17184"/>
                  <a:pt x="14362" y="17214"/>
                </a:cubicBezTo>
              </a:path>
              <a:path w="3970" h="1018">
                <a:moveTo>
                  <a:pt x="15131" y="17165"/>
                </a:moveTo>
                <a:cubicBezTo>
                  <a:pt x="14984" y="17197"/>
                  <a:pt x="14875" y="17327"/>
                  <a:pt x="14858" y="17487"/>
                </a:cubicBezTo>
                <a:cubicBezTo>
                  <a:pt x="14866" y="17528"/>
                  <a:pt x="14875" y="17570"/>
                  <a:pt x="14883" y="17611"/>
                </a:cubicBezTo>
                <a:cubicBezTo>
                  <a:pt x="15147" y="17662"/>
                  <a:pt x="15215" y="17612"/>
                  <a:pt x="15304" y="17363"/>
                </a:cubicBezTo>
                <a:cubicBezTo>
                  <a:pt x="15159" y="17208"/>
                  <a:pt x="15134" y="17187"/>
                  <a:pt x="14932" y="17289"/>
                </a:cubicBezTo>
              </a:path>
              <a:path w="3970" h="1018">
                <a:moveTo>
                  <a:pt x="15677" y="17239"/>
                </a:moveTo>
                <a:cubicBezTo>
                  <a:pt x="15462" y="17251"/>
                  <a:pt x="15373" y="17311"/>
                  <a:pt x="15404" y="17562"/>
                </a:cubicBezTo>
                <a:cubicBezTo>
                  <a:pt x="15420" y="17612"/>
                  <a:pt x="15437" y="17661"/>
                  <a:pt x="15453" y="17711"/>
                </a:cubicBezTo>
                <a:cubicBezTo>
                  <a:pt x="15643" y="17721"/>
                  <a:pt x="15924" y="17640"/>
                  <a:pt x="15825" y="17363"/>
                </a:cubicBezTo>
                <a:cubicBezTo>
                  <a:pt x="15776" y="17226"/>
                  <a:pt x="15632" y="17310"/>
                  <a:pt x="15553" y="17338"/>
                </a:cubicBezTo>
              </a:path>
              <a:path w="3970" h="1018">
                <a:moveTo>
                  <a:pt x="16346" y="17165"/>
                </a:moveTo>
                <a:cubicBezTo>
                  <a:pt x="16192" y="17237"/>
                  <a:pt x="16035" y="17383"/>
                  <a:pt x="16049" y="17587"/>
                </a:cubicBezTo>
                <a:cubicBezTo>
                  <a:pt x="16065" y="17620"/>
                  <a:pt x="16082" y="17653"/>
                  <a:pt x="16098" y="17686"/>
                </a:cubicBezTo>
                <a:cubicBezTo>
                  <a:pt x="16274" y="17686"/>
                  <a:pt x="16615" y="17597"/>
                  <a:pt x="16495" y="17314"/>
                </a:cubicBezTo>
                <a:cubicBezTo>
                  <a:pt x="16418" y="17133"/>
                  <a:pt x="16238" y="17225"/>
                  <a:pt x="16123" y="17264"/>
                </a:cubicBezTo>
              </a:path>
              <a:path w="3970" h="1018">
                <a:moveTo>
                  <a:pt x="16793" y="17115"/>
                </a:moveTo>
                <a:cubicBezTo>
                  <a:pt x="16645" y="17303"/>
                  <a:pt x="16580" y="17406"/>
                  <a:pt x="16644" y="17636"/>
                </a:cubicBezTo>
                <a:cubicBezTo>
                  <a:pt x="16824" y="17584"/>
                  <a:pt x="17103" y="17478"/>
                  <a:pt x="16991" y="17214"/>
                </a:cubicBezTo>
                <a:cubicBezTo>
                  <a:pt x="16914" y="17033"/>
                  <a:pt x="16745" y="17208"/>
                  <a:pt x="16669" y="17264"/>
                </a:cubicBezTo>
              </a:path>
              <a:path w="3970" h="1018">
                <a:moveTo>
                  <a:pt x="15949" y="17785"/>
                </a:moveTo>
                <a:cubicBezTo>
                  <a:pt x="15949" y="17744"/>
                  <a:pt x="16016" y="17937"/>
                  <a:pt x="15974" y="18008"/>
                </a:cubicBezTo>
                <a:cubicBezTo>
                  <a:pt x="15862" y="18120"/>
                  <a:pt x="15838" y="18161"/>
                  <a:pt x="15726" y="18132"/>
                </a:cubicBezTo>
              </a:path>
              <a:path w="3970" h="1018">
                <a:moveTo>
                  <a:pt x="14163" y="17636"/>
                </a:moveTo>
                <a:cubicBezTo>
                  <a:pt x="14183" y="17756"/>
                  <a:pt x="14225" y="17827"/>
                  <a:pt x="14114" y="17934"/>
                </a:cubicBezTo>
                <a:cubicBezTo>
                  <a:pt x="14073" y="17959"/>
                  <a:pt x="14031" y="17983"/>
                  <a:pt x="13990" y="180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232680" y="6134040"/>
            <a:ext cx="161640" cy="206280"/>
          </a:xfrm>
          <a:custGeom>
            <a:avLst/>
            <a:gdLst/>
            <a:ahLst/>
            <a:rect l="l" t="t" r="r" b="b"/>
            <a:pathLst>
              <a:path w="447" h="571">
                <a:moveTo>
                  <a:pt x="17587" y="17041"/>
                </a:moveTo>
                <a:cubicBezTo>
                  <a:pt x="17397" y="17149"/>
                  <a:pt x="17264" y="17284"/>
                  <a:pt x="17314" y="17537"/>
                </a:cubicBezTo>
                <a:cubicBezTo>
                  <a:pt x="17330" y="17562"/>
                  <a:pt x="17347" y="17586"/>
                  <a:pt x="17363" y="17611"/>
                </a:cubicBezTo>
                <a:cubicBezTo>
                  <a:pt x="17524" y="17544"/>
                  <a:pt x="17917" y="17373"/>
                  <a:pt x="17735" y="17115"/>
                </a:cubicBezTo>
                <a:cubicBezTo>
                  <a:pt x="17590" y="17042"/>
                  <a:pt x="17543" y="17017"/>
                  <a:pt x="17438" y="1709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813040" y="2500200"/>
            <a:ext cx="44640" cy="17640"/>
          </a:xfrm>
          <a:custGeom>
            <a:avLst/>
            <a:gdLst/>
            <a:ahLst/>
            <a:rect l="l" t="t" r="r" b="b"/>
            <a:pathLst>
              <a:path w="126" h="51">
                <a:moveTo>
                  <a:pt x="7888" y="6945"/>
                </a:moveTo>
                <a:cubicBezTo>
                  <a:pt x="7974" y="6966"/>
                  <a:pt x="7907" y="6981"/>
                  <a:pt x="7838" y="6995"/>
                </a:cubicBezTo>
                <a:cubicBezTo>
                  <a:pt x="7830" y="6995"/>
                  <a:pt x="7821" y="6995"/>
                  <a:pt x="7813" y="6995"/>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2" name=""/>
          <p:cNvSpPr/>
          <p:nvPr/>
        </p:nvSpPr>
        <p:spPr>
          <a:xfrm>
            <a:off x="3840120" y="2009880"/>
            <a:ext cx="214200" cy="249120"/>
          </a:xfrm>
          <a:custGeom>
            <a:avLst/>
            <a:gdLst/>
            <a:ahLst/>
            <a:rect l="l" t="t" r="r" b="b"/>
            <a:pathLst>
              <a:path w="596" h="696">
                <a:moveTo>
                  <a:pt x="10666" y="6052"/>
                </a:moveTo>
                <a:cubicBezTo>
                  <a:pt x="10691" y="6128"/>
                  <a:pt x="10742" y="6209"/>
                  <a:pt x="10790" y="6276"/>
                </a:cubicBezTo>
                <a:cubicBezTo>
                  <a:pt x="10790" y="6129"/>
                  <a:pt x="10976" y="5887"/>
                  <a:pt x="11063" y="5779"/>
                </a:cubicBezTo>
                <a:cubicBezTo>
                  <a:pt x="11179" y="5664"/>
                  <a:pt x="11196" y="5648"/>
                  <a:pt x="11261" y="55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224240" y="2581200"/>
            <a:ext cx="150840" cy="177840"/>
          </a:xfrm>
          <a:custGeom>
            <a:avLst/>
            <a:gdLst/>
            <a:ahLst/>
            <a:rect l="l" t="t" r="r" b="b"/>
            <a:pathLst>
              <a:path w="422" h="497">
                <a:moveTo>
                  <a:pt x="11733" y="7466"/>
                </a:moveTo>
                <a:cubicBezTo>
                  <a:pt x="11733" y="7406"/>
                  <a:pt x="11823" y="7617"/>
                  <a:pt x="11832" y="7640"/>
                </a:cubicBezTo>
                <a:cubicBezTo>
                  <a:pt x="11832" y="7648"/>
                  <a:pt x="11832" y="7657"/>
                  <a:pt x="11832" y="7665"/>
                </a:cubicBezTo>
                <a:cubicBezTo>
                  <a:pt x="11894" y="7479"/>
                  <a:pt x="11948" y="7363"/>
                  <a:pt x="12080" y="7218"/>
                </a:cubicBezTo>
                <a:cubicBezTo>
                  <a:pt x="12107" y="7188"/>
                  <a:pt x="12118" y="7178"/>
                  <a:pt x="12154" y="71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813200" y="3062160"/>
            <a:ext cx="135000" cy="152640"/>
          </a:xfrm>
          <a:custGeom>
            <a:avLst/>
            <a:gdLst/>
            <a:ahLst/>
            <a:rect l="l" t="t" r="r" b="b"/>
            <a:pathLst>
              <a:path w="373" h="423">
                <a:moveTo>
                  <a:pt x="13370" y="8855"/>
                </a:moveTo>
                <a:cubicBezTo>
                  <a:pt x="13370" y="8830"/>
                  <a:pt x="13370" y="8822"/>
                  <a:pt x="13370" y="8806"/>
                </a:cubicBezTo>
                <a:cubicBezTo>
                  <a:pt x="13381" y="8849"/>
                  <a:pt x="13410" y="8882"/>
                  <a:pt x="13419" y="8930"/>
                </a:cubicBezTo>
                <a:cubicBezTo>
                  <a:pt x="13498" y="8871"/>
                  <a:pt x="13569" y="8700"/>
                  <a:pt x="13643" y="8607"/>
                </a:cubicBezTo>
                <a:cubicBezTo>
                  <a:pt x="13701" y="8549"/>
                  <a:pt x="13709" y="8541"/>
                  <a:pt x="13742" y="85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991040" y="3544920"/>
            <a:ext cx="108000" cy="393840"/>
          </a:xfrm>
          <a:custGeom>
            <a:avLst/>
            <a:gdLst/>
            <a:ahLst/>
            <a:rect l="l" t="t" r="r" b="b"/>
            <a:pathLst>
              <a:path w="298" h="1093">
                <a:moveTo>
                  <a:pt x="14163" y="9872"/>
                </a:moveTo>
                <a:cubicBezTo>
                  <a:pt x="14105" y="9832"/>
                  <a:pt x="14048" y="9971"/>
                  <a:pt x="14015" y="10046"/>
                </a:cubicBezTo>
                <a:cubicBezTo>
                  <a:pt x="13906" y="10292"/>
                  <a:pt x="13813" y="10506"/>
                  <a:pt x="13940" y="10765"/>
                </a:cubicBezTo>
                <a:cubicBezTo>
                  <a:pt x="13948" y="10781"/>
                  <a:pt x="14047" y="10906"/>
                  <a:pt x="14064" y="10914"/>
                </a:cubicBezTo>
                <a:cubicBezTo>
                  <a:pt x="14113" y="10938"/>
                  <a:pt x="14064" y="10951"/>
                  <a:pt x="14139" y="1088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062760" y="3483000"/>
            <a:ext cx="162000" cy="465120"/>
          </a:xfrm>
          <a:custGeom>
            <a:avLst/>
            <a:gdLst/>
            <a:ahLst/>
            <a:rect l="l" t="t" r="r" b="b"/>
            <a:pathLst>
              <a:path w="448" h="1291">
                <a:moveTo>
                  <a:pt x="16942" y="9674"/>
                </a:moveTo>
                <a:cubicBezTo>
                  <a:pt x="17053" y="9785"/>
                  <a:pt x="17139" y="9888"/>
                  <a:pt x="17214" y="10046"/>
                </a:cubicBezTo>
                <a:cubicBezTo>
                  <a:pt x="17339" y="10309"/>
                  <a:pt x="17290" y="10451"/>
                  <a:pt x="17165" y="10691"/>
                </a:cubicBezTo>
                <a:cubicBezTo>
                  <a:pt x="17111" y="10794"/>
                  <a:pt x="17014" y="10867"/>
                  <a:pt x="16966" y="10939"/>
                </a:cubicBezTo>
                <a:cubicBezTo>
                  <a:pt x="16966" y="10947"/>
                  <a:pt x="16966" y="10956"/>
                  <a:pt x="16966" y="10964"/>
                </a:cubicBezTo>
              </a:path>
              <a:path w="448" h="1291">
                <a:moveTo>
                  <a:pt x="16842" y="10641"/>
                </a:moveTo>
                <a:cubicBezTo>
                  <a:pt x="16914" y="10587"/>
                  <a:pt x="17026" y="10597"/>
                  <a:pt x="17115" y="10567"/>
                </a:cubicBezTo>
                <a:cubicBezTo>
                  <a:pt x="17090" y="10567"/>
                  <a:pt x="17082" y="10567"/>
                  <a:pt x="17090" y="10592"/>
                </a:cubicBezTo>
                <a:cubicBezTo>
                  <a:pt x="16955" y="10599"/>
                  <a:pt x="16740" y="10678"/>
                  <a:pt x="16966" y="10567"/>
                </a:cubicBezTo>
                <a:cubicBezTo>
                  <a:pt x="16938" y="10567"/>
                  <a:pt x="16928" y="10570"/>
                  <a:pt x="16917" y="1059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214800" y="2089080"/>
            <a:ext cx="901440" cy="1447920"/>
          </a:xfrm>
          <a:custGeom>
            <a:avLst/>
            <a:gdLst/>
            <a:ahLst/>
            <a:rect l="l" t="t" r="r" b="b"/>
            <a:pathLst>
              <a:path w="2506" h="4020">
                <a:moveTo>
                  <a:pt x="9773" y="6152"/>
                </a:moveTo>
                <a:cubicBezTo>
                  <a:pt x="9746" y="6082"/>
                  <a:pt x="9744" y="6039"/>
                  <a:pt x="9699" y="5978"/>
                </a:cubicBezTo>
                <a:cubicBezTo>
                  <a:pt x="9642" y="5901"/>
                  <a:pt x="9571" y="5861"/>
                  <a:pt x="9475" y="5829"/>
                </a:cubicBezTo>
                <a:cubicBezTo>
                  <a:pt x="9353" y="5788"/>
                  <a:pt x="9287" y="5798"/>
                  <a:pt x="9178" y="5854"/>
                </a:cubicBezTo>
                <a:cubicBezTo>
                  <a:pt x="9027" y="5931"/>
                  <a:pt x="8996" y="6058"/>
                  <a:pt x="8954" y="6201"/>
                </a:cubicBezTo>
                <a:cubicBezTo>
                  <a:pt x="8932" y="6275"/>
                  <a:pt x="8923" y="6344"/>
                  <a:pt x="8930" y="6424"/>
                </a:cubicBezTo>
                <a:cubicBezTo>
                  <a:pt x="8937" y="6504"/>
                  <a:pt x="8965" y="6593"/>
                  <a:pt x="8979" y="6672"/>
                </a:cubicBezTo>
                <a:cubicBezTo>
                  <a:pt x="8996" y="6769"/>
                  <a:pt x="9006" y="6876"/>
                  <a:pt x="9029" y="6970"/>
                </a:cubicBezTo>
                <a:cubicBezTo>
                  <a:pt x="9055" y="7079"/>
                  <a:pt x="9080" y="7184"/>
                  <a:pt x="9103" y="7293"/>
                </a:cubicBezTo>
                <a:cubicBezTo>
                  <a:pt x="9138" y="7459"/>
                  <a:pt x="9174" y="7624"/>
                  <a:pt x="9203" y="7789"/>
                </a:cubicBezTo>
                <a:cubicBezTo>
                  <a:pt x="9218" y="7878"/>
                  <a:pt x="9243" y="7952"/>
                  <a:pt x="9277" y="8037"/>
                </a:cubicBezTo>
                <a:cubicBezTo>
                  <a:pt x="9321" y="8147"/>
                  <a:pt x="9373" y="8254"/>
                  <a:pt x="9426" y="8359"/>
                </a:cubicBezTo>
                <a:cubicBezTo>
                  <a:pt x="9507" y="8521"/>
                  <a:pt x="9617" y="8639"/>
                  <a:pt x="9723" y="8781"/>
                </a:cubicBezTo>
                <a:cubicBezTo>
                  <a:pt x="9790" y="8871"/>
                  <a:pt x="9850" y="8953"/>
                  <a:pt x="9922" y="9029"/>
                </a:cubicBezTo>
                <a:cubicBezTo>
                  <a:pt x="10009" y="9121"/>
                  <a:pt x="10113" y="9174"/>
                  <a:pt x="10220" y="9252"/>
                </a:cubicBezTo>
                <a:cubicBezTo>
                  <a:pt x="10305" y="9314"/>
                  <a:pt x="10381" y="9371"/>
                  <a:pt x="10443" y="9451"/>
                </a:cubicBezTo>
                <a:cubicBezTo>
                  <a:pt x="10489" y="9510"/>
                  <a:pt x="10508" y="9574"/>
                  <a:pt x="10567" y="9624"/>
                </a:cubicBezTo>
                <a:cubicBezTo>
                  <a:pt x="10619" y="9668"/>
                  <a:pt x="10727" y="9714"/>
                  <a:pt x="10790" y="9748"/>
                </a:cubicBezTo>
                <a:cubicBezTo>
                  <a:pt x="10890" y="9802"/>
                  <a:pt x="10974" y="9805"/>
                  <a:pt x="11063" y="9798"/>
                </a:cubicBezTo>
                <a:cubicBezTo>
                  <a:pt x="11152" y="9791"/>
                  <a:pt x="11301" y="9741"/>
                  <a:pt x="11361" y="9674"/>
                </a:cubicBezTo>
                <a:cubicBezTo>
                  <a:pt x="11472" y="9551"/>
                  <a:pt x="11430" y="9424"/>
                  <a:pt x="11410" y="9277"/>
                </a:cubicBezTo>
                <a:cubicBezTo>
                  <a:pt x="11394" y="9157"/>
                  <a:pt x="11333" y="9133"/>
                  <a:pt x="11286" y="9029"/>
                </a:cubicBezTo>
                <a:cubicBezTo>
                  <a:pt x="11217" y="8878"/>
                  <a:pt x="11180" y="8710"/>
                  <a:pt x="11112" y="8558"/>
                </a:cubicBezTo>
                <a:cubicBezTo>
                  <a:pt x="11047" y="8411"/>
                  <a:pt x="10945" y="8244"/>
                  <a:pt x="10864" y="8111"/>
                </a:cubicBezTo>
                <a:cubicBezTo>
                  <a:pt x="10834" y="8061"/>
                  <a:pt x="10800" y="8015"/>
                  <a:pt x="10765" y="7962"/>
                </a:cubicBezTo>
                <a:cubicBezTo>
                  <a:pt x="10692" y="7850"/>
                  <a:pt x="10630" y="7737"/>
                  <a:pt x="10567" y="7615"/>
                </a:cubicBezTo>
                <a:cubicBezTo>
                  <a:pt x="10488" y="7461"/>
                  <a:pt x="10471" y="7299"/>
                  <a:pt x="10418" y="7144"/>
                </a:cubicBezTo>
                <a:cubicBezTo>
                  <a:pt x="10376" y="7021"/>
                  <a:pt x="10295" y="6914"/>
                  <a:pt x="10244" y="6796"/>
                </a:cubicBezTo>
                <a:cubicBezTo>
                  <a:pt x="10203" y="6701"/>
                  <a:pt x="10167" y="6616"/>
                  <a:pt x="10120" y="6524"/>
                </a:cubicBezTo>
                <a:cubicBezTo>
                  <a:pt x="10053" y="6392"/>
                  <a:pt x="9913" y="6275"/>
                  <a:pt x="9798" y="6176"/>
                </a:cubicBezTo>
                <a:cubicBezTo>
                  <a:pt x="9722" y="6110"/>
                  <a:pt x="9607" y="6039"/>
                  <a:pt x="9550" y="5978"/>
                </a:cubicBezTo>
                <a:cubicBezTo>
                  <a:pt x="9558" y="5978"/>
                  <a:pt x="9567" y="5978"/>
                  <a:pt x="9575" y="59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106960" y="3929040"/>
            <a:ext cx="162000" cy="63360"/>
          </a:xfrm>
          <a:custGeom>
            <a:avLst/>
            <a:gdLst/>
            <a:ahLst/>
            <a:rect l="l" t="t" r="r" b="b"/>
            <a:pathLst>
              <a:path w="448" h="175">
                <a:moveTo>
                  <a:pt x="14312" y="10914"/>
                </a:moveTo>
                <a:cubicBezTo>
                  <a:pt x="14348" y="10968"/>
                  <a:pt x="14504" y="10939"/>
                  <a:pt x="14585" y="10939"/>
                </a:cubicBezTo>
                <a:cubicBezTo>
                  <a:pt x="14741" y="10939"/>
                  <a:pt x="14246" y="11037"/>
                  <a:pt x="14238" y="11038"/>
                </a:cubicBezTo>
                <a:cubicBezTo>
                  <a:pt x="14128" y="11038"/>
                  <a:pt x="14352" y="10997"/>
                  <a:pt x="14461" y="10988"/>
                </a:cubicBezTo>
                <a:cubicBezTo>
                  <a:pt x="14694" y="10969"/>
                  <a:pt x="14563" y="10982"/>
                  <a:pt x="14511" y="11013"/>
                </a:cubicBezTo>
                <a:cubicBezTo>
                  <a:pt x="14401" y="11026"/>
                  <a:pt x="14025" y="11077"/>
                  <a:pt x="14436" y="11013"/>
                </a:cubicBezTo>
                <a:cubicBezTo>
                  <a:pt x="14804" y="10956"/>
                  <a:pt x="14358" y="11047"/>
                  <a:pt x="14312" y="11063"/>
                </a:cubicBezTo>
                <a:cubicBezTo>
                  <a:pt x="14296" y="11071"/>
                  <a:pt x="14279" y="11080"/>
                  <a:pt x="14263" y="11088"/>
                </a:cubicBezTo>
                <a:cubicBezTo>
                  <a:pt x="14322" y="11075"/>
                  <a:pt x="14689" y="10991"/>
                  <a:pt x="14560" y="11013"/>
                </a:cubicBezTo>
                <a:cubicBezTo>
                  <a:pt x="14519" y="11021"/>
                  <a:pt x="14477" y="11030"/>
                  <a:pt x="14436" y="11038"/>
                </a:cubicBezTo>
              </a:path>
            </a:pathLst>
          </a:custGeom>
          <a:noFill/>
          <a:ln cap="rnd" w="1908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9" name=""/>
          <p:cNvSpPr/>
          <p:nvPr/>
        </p:nvSpPr>
        <p:spPr>
          <a:xfrm>
            <a:off x="4187880" y="4884840"/>
            <a:ext cx="187200" cy="81000"/>
          </a:xfrm>
          <a:custGeom>
            <a:avLst/>
            <a:gdLst/>
            <a:ahLst/>
            <a:rect l="l" t="t" r="r" b="b"/>
            <a:pathLst>
              <a:path w="522" h="224">
                <a:moveTo>
                  <a:pt x="11633" y="13667"/>
                </a:moveTo>
                <a:cubicBezTo>
                  <a:pt x="11708" y="13667"/>
                  <a:pt x="11783" y="13634"/>
                  <a:pt x="11857" y="13618"/>
                </a:cubicBezTo>
                <a:cubicBezTo>
                  <a:pt x="11948" y="13599"/>
                  <a:pt x="11997" y="13610"/>
                  <a:pt x="12080" y="13568"/>
                </a:cubicBezTo>
                <a:cubicBezTo>
                  <a:pt x="12059" y="13570"/>
                  <a:pt x="11672" y="13643"/>
                  <a:pt x="11708" y="13667"/>
                </a:cubicBezTo>
                <a:cubicBezTo>
                  <a:pt x="11775" y="13711"/>
                  <a:pt x="11976" y="13632"/>
                  <a:pt x="12055" y="13618"/>
                </a:cubicBezTo>
                <a:cubicBezTo>
                  <a:pt x="11955" y="13618"/>
                  <a:pt x="11798" y="13628"/>
                  <a:pt x="11708" y="13667"/>
                </a:cubicBezTo>
                <a:cubicBezTo>
                  <a:pt x="11566" y="13728"/>
                  <a:pt x="12309" y="13568"/>
                  <a:pt x="12154" y="13568"/>
                </a:cubicBezTo>
                <a:cubicBezTo>
                  <a:pt x="12030" y="13568"/>
                  <a:pt x="11824" y="13579"/>
                  <a:pt x="11807" y="13667"/>
                </a:cubicBezTo>
                <a:cubicBezTo>
                  <a:pt x="11935" y="13673"/>
                  <a:pt x="12131" y="13578"/>
                  <a:pt x="12005" y="13618"/>
                </a:cubicBezTo>
                <a:cubicBezTo>
                  <a:pt x="11869" y="13686"/>
                  <a:pt x="11828" y="13700"/>
                  <a:pt x="11782" y="13791"/>
                </a:cubicBezTo>
              </a:path>
            </a:pathLst>
          </a:custGeom>
          <a:noFill/>
          <a:ln cap="rnd" w="1908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375080" y="5045040"/>
            <a:ext cx="169920" cy="223920"/>
          </a:xfrm>
          <a:custGeom>
            <a:avLst/>
            <a:gdLst/>
            <a:ahLst/>
            <a:rect l="l" t="t" r="r" b="b"/>
            <a:pathLst>
              <a:path w="473" h="621">
                <a:moveTo>
                  <a:pt x="12278" y="14114"/>
                </a:moveTo>
                <a:cubicBezTo>
                  <a:pt x="12304" y="14075"/>
                  <a:pt x="12432" y="14025"/>
                  <a:pt x="12502" y="14015"/>
                </a:cubicBezTo>
                <a:cubicBezTo>
                  <a:pt x="12584" y="14015"/>
                  <a:pt x="12617" y="13998"/>
                  <a:pt x="12601" y="14064"/>
                </a:cubicBezTo>
                <a:cubicBezTo>
                  <a:pt x="12566" y="14193"/>
                  <a:pt x="12488" y="14186"/>
                  <a:pt x="12402" y="14263"/>
                </a:cubicBezTo>
                <a:cubicBezTo>
                  <a:pt x="12402" y="14291"/>
                  <a:pt x="12404" y="14297"/>
                  <a:pt x="12427" y="14263"/>
                </a:cubicBezTo>
                <a:cubicBezTo>
                  <a:pt x="12551" y="14273"/>
                  <a:pt x="12732" y="14326"/>
                  <a:pt x="12576" y="14486"/>
                </a:cubicBezTo>
                <a:cubicBezTo>
                  <a:pt x="12464" y="14601"/>
                  <a:pt x="12082" y="14457"/>
                  <a:pt x="12179" y="14585"/>
                </a:cubicBezTo>
                <a:cubicBezTo>
                  <a:pt x="12203" y="14616"/>
                  <a:pt x="12220" y="14627"/>
                  <a:pt x="12254" y="146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224320" y="4822920"/>
            <a:ext cx="98640" cy="27000"/>
          </a:xfrm>
          <a:custGeom>
            <a:avLst/>
            <a:gdLst/>
            <a:ahLst/>
            <a:rect l="l" t="t" r="r" b="b"/>
            <a:pathLst>
              <a:path w="274" h="75">
                <a:moveTo>
                  <a:pt x="14511" y="13469"/>
                </a:moveTo>
                <a:cubicBezTo>
                  <a:pt x="14530" y="13393"/>
                  <a:pt x="14562" y="13431"/>
                  <a:pt x="14635" y="13419"/>
                </a:cubicBezTo>
                <a:cubicBezTo>
                  <a:pt x="14709" y="13401"/>
                  <a:pt x="14768" y="13393"/>
                  <a:pt x="14709" y="13395"/>
                </a:cubicBezTo>
                <a:cubicBezTo>
                  <a:pt x="14629" y="13434"/>
                  <a:pt x="14472" y="13468"/>
                  <a:pt x="14660" y="13419"/>
                </a:cubicBezTo>
                <a:cubicBezTo>
                  <a:pt x="14764" y="13392"/>
                  <a:pt x="14822" y="13373"/>
                  <a:pt x="14709" y="13419"/>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 name=""/>
          <p:cNvSpPr/>
          <p:nvPr/>
        </p:nvSpPr>
        <p:spPr>
          <a:xfrm>
            <a:off x="6831000" y="5367240"/>
            <a:ext cx="9360" cy="7920"/>
          </a:xfrm>
          <a:custGeom>
            <a:avLst/>
            <a:gdLst/>
            <a:ahLst/>
            <a:rect l="l" t="t" r="r" b="b"/>
            <a:pathLst>
              <a:path w="25" h="25">
                <a:moveTo>
                  <a:pt x="18976" y="14908"/>
                </a:moveTo>
                <a:cubicBezTo>
                  <a:pt x="18984" y="14916"/>
                  <a:pt x="18992" y="14924"/>
                  <a:pt x="19000" y="14932"/>
                </a:cubicBezTo>
              </a:path>
            </a:pathLst>
          </a:custGeom>
          <a:noFill/>
          <a:ln cap="rnd" w="1908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80520" y="228600"/>
            <a:ext cx="8534520" cy="640080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99ff"/>
                </a:solidFill>
                <a:latin typeface="Arial"/>
              </a:rPr>
              <a:t> </a:t>
            </a: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99ff"/>
                </a:solidFill>
                <a:latin typeface="Arial"/>
              </a:rPr>
              <a:t> </a:t>
            </a:r>
            <a:r>
              <a:rPr b="1" lang="en-US" sz="3000" spc="-1" strike="noStrike">
                <a:solidFill>
                  <a:srgbClr val="3399ff"/>
                </a:solidFill>
                <a:latin typeface="Arial"/>
              </a:rPr>
              <a:t>Examples </a:t>
            </a:r>
            <a:endParaRPr b="0" lang="en-US" sz="30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we will write each number in </a:t>
            </a:r>
            <a:r>
              <a:rPr b="1" lang="en-US" sz="2400" spc="-1" strike="noStrike">
                <a:solidFill>
                  <a:srgbClr val="ff6600"/>
                </a:solidFill>
                <a:latin typeface="Arial"/>
              </a:rPr>
              <a:t>expanded</a:t>
            </a:r>
            <a:r>
              <a:rPr b="1" lang="en-US" sz="2400" spc="-1" strike="noStrike">
                <a:solidFill>
                  <a:srgbClr val="3399ff"/>
                </a:solidFill>
                <a:latin typeface="Arial"/>
              </a:rPr>
              <a:t> form first, then we will change it to </a:t>
            </a:r>
            <a:r>
              <a:rPr b="1" lang="en-US" sz="2400" spc="-1" strike="noStrike">
                <a:solidFill>
                  <a:srgbClr val="ff6600"/>
                </a:solidFill>
                <a:latin typeface="Arial"/>
              </a:rPr>
              <a:t>exponential notation</a:t>
            </a:r>
            <a:r>
              <a:rPr b="1" lang="en-US" sz="2400" spc="-1" strike="noStrike">
                <a:solidFill>
                  <a:srgbClr val="3399ff"/>
                </a:solidFill>
                <a:latin typeface="Arial"/>
              </a:rPr>
              <a:t>):</a:t>
            </a:r>
            <a:endParaRPr b="0" lang="en-US" sz="24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329 = </a:t>
            </a:r>
            <a:r>
              <a:rPr b="1" lang="en-US" sz="2600" spc="-1" strike="noStrike" u="sng">
                <a:solidFill>
                  <a:srgbClr val="000000"/>
                </a:solidFill>
                <a:uFillTx/>
                <a:latin typeface="Arial"/>
              </a:rPr>
              <a:t>	</a:t>
            </a:r>
            <a:r>
              <a:rPr b="1" lang="en-US" sz="2600" spc="-1" strike="noStrike" u="sng">
                <a:solidFill>
                  <a:srgbClr val="000000"/>
                </a:solidFill>
                <a:uFillTx/>
                <a:latin typeface="Arial"/>
              </a:rPr>
              <a:t>300 + 20 + 9</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3 x 10</a:t>
            </a:r>
            <a:r>
              <a:rPr b="1" lang="en-US" sz="2600" spc="-1" strike="noStrike" u="sng" baseline="30000">
                <a:solidFill>
                  <a:srgbClr val="000000"/>
                </a:solidFill>
                <a:uFillTx/>
                <a:latin typeface="Arial"/>
              </a:rPr>
              <a:t>2</a:t>
            </a:r>
            <a:r>
              <a:rPr b="1" lang="en-US" sz="2600" spc="-1" strike="noStrike" u="sng">
                <a:solidFill>
                  <a:srgbClr val="000000"/>
                </a:solidFill>
                <a:uFillTx/>
                <a:latin typeface="Arial"/>
              </a:rPr>
              <a:t>) + (2 x 10</a:t>
            </a:r>
            <a:r>
              <a:rPr b="1" lang="en-US" sz="2600" spc="-1" strike="noStrike" u="sng" baseline="30000">
                <a:solidFill>
                  <a:srgbClr val="000000"/>
                </a:solidFill>
                <a:uFillTx/>
                <a:latin typeface="Arial"/>
              </a:rPr>
              <a:t>1</a:t>
            </a:r>
            <a:r>
              <a:rPr b="1" lang="en-US" sz="2600" spc="-1" strike="noStrike" u="sng">
                <a:solidFill>
                  <a:srgbClr val="000000"/>
                </a:solidFill>
                <a:uFillTx/>
                <a:latin typeface="Arial"/>
              </a:rPr>
              <a:t>) + (9 x 10</a:t>
            </a:r>
            <a:r>
              <a:rPr b="1" lang="en-US" sz="2600" spc="-1" strike="noStrike" u="sng" baseline="30000">
                <a:solidFill>
                  <a:srgbClr val="000000"/>
                </a:solidFill>
                <a:uFillTx/>
                <a:latin typeface="Arial"/>
              </a:rPr>
              <a:t>0</a:t>
            </a:r>
            <a:r>
              <a:rPr b="1" lang="en-US" sz="2600" spc="-1" strike="noStrike" u="sng">
                <a:solidFill>
                  <a:srgbClr val="000000"/>
                </a:solidFill>
                <a:uFillTx/>
                <a:latin typeface="Arial"/>
              </a:rPr>
              <a:t>)</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35,298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70,602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cc66"/>
                </a:solidFill>
                <a:latin typeface="Arial"/>
              </a:rPr>
              <a:t>	</a:t>
            </a:r>
            <a:r>
              <a:rPr b="0" lang="en-US" sz="2600" spc="-1" strike="noStrike">
                <a:solidFill>
                  <a:srgbClr val="00cc66"/>
                </a:solidFill>
                <a:latin typeface="Arial"/>
              </a:rPr>
              <a:t>	</a:t>
            </a:r>
            <a:r>
              <a:rPr b="0" lang="en-US" sz="2600" spc="-1" strike="noStrike">
                <a:solidFill>
                  <a:srgbClr val="00cc66"/>
                </a:solidFill>
                <a:latin typeface="Arial"/>
              </a:rPr>
              <a:t>	</a:t>
            </a:r>
            <a:endParaRPr b="0" lang="en-US" sz="2600" spc="-1" strike="noStrike">
              <a:solidFill>
                <a:srgbClr val="000000"/>
              </a:solidFill>
              <a:latin typeface="Arial"/>
            </a:endParaRPr>
          </a:p>
        </p:txBody>
      </p:sp>
      <p:sp>
        <p:nvSpPr>
          <p:cNvPr id="274" name=""/>
          <p:cNvSpPr/>
          <p:nvPr/>
        </p:nvSpPr>
        <p:spPr>
          <a:xfrm>
            <a:off x="946080" y="2589120"/>
            <a:ext cx="500040" cy="36720"/>
          </a:xfrm>
          <a:custGeom>
            <a:avLst/>
            <a:gdLst/>
            <a:ahLst/>
            <a:rect l="l" t="t" r="r" b="b"/>
            <a:pathLst>
              <a:path w="1390" h="101">
                <a:moveTo>
                  <a:pt x="2629" y="7218"/>
                </a:moveTo>
                <a:cubicBezTo>
                  <a:pt x="2676" y="7199"/>
                  <a:pt x="2696" y="7218"/>
                  <a:pt x="2753" y="7218"/>
                </a:cubicBezTo>
                <a:cubicBezTo>
                  <a:pt x="2761" y="7218"/>
                  <a:pt x="2895" y="7238"/>
                  <a:pt x="2902" y="7243"/>
                </a:cubicBezTo>
                <a:cubicBezTo>
                  <a:pt x="2936" y="7268"/>
                  <a:pt x="2981" y="7268"/>
                  <a:pt x="3051" y="7268"/>
                </a:cubicBezTo>
                <a:cubicBezTo>
                  <a:pt x="3172" y="7268"/>
                  <a:pt x="3281" y="7271"/>
                  <a:pt x="3398" y="7293"/>
                </a:cubicBezTo>
                <a:cubicBezTo>
                  <a:pt x="3506" y="7313"/>
                  <a:pt x="3617" y="7281"/>
                  <a:pt x="3721" y="7268"/>
                </a:cubicBezTo>
                <a:cubicBezTo>
                  <a:pt x="3800" y="7258"/>
                  <a:pt x="3871" y="7277"/>
                  <a:pt x="3944" y="7293"/>
                </a:cubicBezTo>
                <a:cubicBezTo>
                  <a:pt x="3966" y="7298"/>
                  <a:pt x="3995" y="7293"/>
                  <a:pt x="4018" y="7293"/>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5" name=""/>
          <p:cNvSpPr/>
          <p:nvPr/>
        </p:nvSpPr>
        <p:spPr>
          <a:xfrm>
            <a:off x="1357200" y="2874960"/>
            <a:ext cx="1800" cy="1440"/>
          </a:xfrm>
          <a:custGeom>
            <a:avLst/>
            <a:gdLst/>
            <a:ahLst/>
            <a:rect l="l" t="t" r="r" b="b"/>
            <a:pathLst>
              <a:path w="1" h="1">
                <a:moveTo>
                  <a:pt x="3770" y="7987"/>
                </a:moveTo>
                <a:lnTo>
                  <a:pt x="3770" y="7987"/>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2357280" y="2428920"/>
            <a:ext cx="1152720" cy="196920"/>
          </a:xfrm>
          <a:custGeom>
            <a:avLst/>
            <a:gdLst/>
            <a:ahLst/>
            <a:rect l="l" t="t" r="r" b="b"/>
            <a:pathLst>
              <a:path w="3201" h="547">
                <a:moveTo>
                  <a:pt x="6548" y="7293"/>
                </a:moveTo>
                <a:lnTo>
                  <a:pt x="6548" y="7293"/>
                </a:lnTo>
              </a:path>
              <a:path w="3201" h="547">
                <a:moveTo>
                  <a:pt x="7045" y="6772"/>
                </a:moveTo>
                <a:cubicBezTo>
                  <a:pt x="7045" y="6764"/>
                  <a:pt x="7045" y="6755"/>
                  <a:pt x="7045" y="6747"/>
                </a:cubicBezTo>
              </a:path>
              <a:path w="3201" h="547">
                <a:moveTo>
                  <a:pt x="7491" y="6796"/>
                </a:moveTo>
                <a:cubicBezTo>
                  <a:pt x="7499" y="6796"/>
                  <a:pt x="7508" y="6796"/>
                  <a:pt x="7516" y="6796"/>
                </a:cubicBezTo>
              </a:path>
              <a:path w="3201" h="547">
                <a:moveTo>
                  <a:pt x="9748" y="6747"/>
                </a:moveTo>
                <a:cubicBezTo>
                  <a:pt x="9748" y="6755"/>
                  <a:pt x="9748" y="6764"/>
                  <a:pt x="9748" y="67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295360" y="2536920"/>
            <a:ext cx="3508560" cy="285480"/>
          </a:xfrm>
          <a:custGeom>
            <a:avLst/>
            <a:gdLst/>
            <a:ahLst/>
            <a:rect l="l" t="t" r="r" b="b"/>
            <a:pathLst>
              <a:path w="9749" h="794">
                <a:moveTo>
                  <a:pt x="7268" y="7193"/>
                </a:moveTo>
                <a:cubicBezTo>
                  <a:pt x="7247" y="7204"/>
                  <a:pt x="7188" y="7252"/>
                  <a:pt x="7218" y="7293"/>
                </a:cubicBezTo>
                <a:cubicBezTo>
                  <a:pt x="7269" y="7363"/>
                  <a:pt x="7347" y="7353"/>
                  <a:pt x="7392" y="7392"/>
                </a:cubicBezTo>
                <a:cubicBezTo>
                  <a:pt x="7429" y="7424"/>
                  <a:pt x="7479" y="7492"/>
                  <a:pt x="7516" y="7541"/>
                </a:cubicBezTo>
                <a:cubicBezTo>
                  <a:pt x="7544" y="7577"/>
                  <a:pt x="7543" y="7628"/>
                  <a:pt x="7565" y="7665"/>
                </a:cubicBezTo>
                <a:cubicBezTo>
                  <a:pt x="7594" y="7713"/>
                  <a:pt x="7590" y="7726"/>
                  <a:pt x="7590" y="7789"/>
                </a:cubicBezTo>
                <a:cubicBezTo>
                  <a:pt x="7590" y="7813"/>
                  <a:pt x="7590" y="7822"/>
                  <a:pt x="7590" y="7838"/>
                </a:cubicBezTo>
                <a:cubicBezTo>
                  <a:pt x="7563" y="7804"/>
                  <a:pt x="7508" y="7753"/>
                  <a:pt x="7491" y="7714"/>
                </a:cubicBezTo>
                <a:cubicBezTo>
                  <a:pt x="7491" y="7706"/>
                  <a:pt x="7491" y="7697"/>
                  <a:pt x="7491" y="7689"/>
                </a:cubicBezTo>
                <a:cubicBezTo>
                  <a:pt x="7557" y="7772"/>
                  <a:pt x="7531" y="7812"/>
                  <a:pt x="7640" y="7739"/>
                </a:cubicBezTo>
                <a:cubicBezTo>
                  <a:pt x="7665" y="7714"/>
                  <a:pt x="7673" y="7706"/>
                  <a:pt x="7689" y="7689"/>
                </a:cubicBezTo>
              </a:path>
              <a:path w="9749" h="794">
                <a:moveTo>
                  <a:pt x="6499" y="7069"/>
                </a:moveTo>
                <a:cubicBezTo>
                  <a:pt x="6526" y="7069"/>
                  <a:pt x="6671" y="7050"/>
                  <a:pt x="6672" y="7094"/>
                </a:cubicBezTo>
                <a:cubicBezTo>
                  <a:pt x="6672" y="7094"/>
                  <a:pt x="6485" y="7117"/>
                  <a:pt x="6474" y="7119"/>
                </a:cubicBezTo>
                <a:cubicBezTo>
                  <a:pt x="6423" y="7126"/>
                  <a:pt x="6588" y="7107"/>
                  <a:pt x="6623" y="7144"/>
                </a:cubicBezTo>
                <a:cubicBezTo>
                  <a:pt x="6657" y="7180"/>
                  <a:pt x="6474" y="7144"/>
                  <a:pt x="6524" y="7144"/>
                </a:cubicBezTo>
                <a:cubicBezTo>
                  <a:pt x="6606" y="7144"/>
                  <a:pt x="6623" y="7144"/>
                  <a:pt x="6672" y="7144"/>
                </a:cubicBezTo>
                <a:cubicBezTo>
                  <a:pt x="6604" y="7158"/>
                  <a:pt x="6423" y="7146"/>
                  <a:pt x="6474" y="7193"/>
                </a:cubicBezTo>
                <a:cubicBezTo>
                  <a:pt x="6496" y="7214"/>
                  <a:pt x="6738" y="7193"/>
                  <a:pt x="6672" y="7193"/>
                </a:cubicBezTo>
                <a:cubicBezTo>
                  <a:pt x="6574" y="7193"/>
                  <a:pt x="6471" y="7225"/>
                  <a:pt x="6375" y="7243"/>
                </a:cubicBezTo>
                <a:cubicBezTo>
                  <a:pt x="6466" y="7243"/>
                  <a:pt x="6556" y="7223"/>
                  <a:pt x="6648" y="7218"/>
                </a:cubicBezTo>
                <a:cubicBezTo>
                  <a:pt x="6563" y="7232"/>
                  <a:pt x="6320" y="7300"/>
                  <a:pt x="6400" y="7268"/>
                </a:cubicBezTo>
                <a:cubicBezTo>
                  <a:pt x="6462" y="7243"/>
                  <a:pt x="6810" y="7185"/>
                  <a:pt x="6623" y="7243"/>
                </a:cubicBezTo>
                <a:cubicBezTo>
                  <a:pt x="6550" y="7266"/>
                  <a:pt x="6474" y="7280"/>
                  <a:pt x="6474" y="7293"/>
                </a:cubicBezTo>
                <a:cubicBezTo>
                  <a:pt x="6519" y="7277"/>
                  <a:pt x="6702" y="7220"/>
                  <a:pt x="6648" y="7243"/>
                </a:cubicBezTo>
                <a:cubicBezTo>
                  <a:pt x="6604" y="7261"/>
                  <a:pt x="6454" y="7274"/>
                  <a:pt x="6524" y="7268"/>
                </a:cubicBezTo>
                <a:cubicBezTo>
                  <a:pt x="6623" y="7259"/>
                  <a:pt x="6699" y="7258"/>
                  <a:pt x="6573" y="7268"/>
                </a:cubicBezTo>
                <a:cubicBezTo>
                  <a:pt x="6548" y="7268"/>
                  <a:pt x="6540" y="7268"/>
                  <a:pt x="6548" y="7293"/>
                </a:cubicBezTo>
              </a:path>
              <a:path w="9749" h="794">
                <a:moveTo>
                  <a:pt x="6400" y="7169"/>
                </a:moveTo>
                <a:cubicBezTo>
                  <a:pt x="6458" y="7169"/>
                  <a:pt x="6515" y="7169"/>
                  <a:pt x="6573" y="7169"/>
                </a:cubicBezTo>
                <a:cubicBezTo>
                  <a:pt x="6445" y="7169"/>
                  <a:pt x="6558" y="7176"/>
                  <a:pt x="6548" y="7144"/>
                </a:cubicBezTo>
                <a:cubicBezTo>
                  <a:pt x="6538" y="7112"/>
                  <a:pt x="6482" y="7144"/>
                  <a:pt x="6449" y="7144"/>
                </a:cubicBezTo>
              </a:path>
              <a:path w="9749" h="794">
                <a:moveTo>
                  <a:pt x="9475" y="7169"/>
                </a:moveTo>
                <a:cubicBezTo>
                  <a:pt x="9455" y="7230"/>
                  <a:pt x="9425" y="7309"/>
                  <a:pt x="9475" y="7367"/>
                </a:cubicBezTo>
                <a:cubicBezTo>
                  <a:pt x="9521" y="7421"/>
                  <a:pt x="9604" y="7436"/>
                  <a:pt x="9674" y="7441"/>
                </a:cubicBezTo>
                <a:cubicBezTo>
                  <a:pt x="9769" y="7448"/>
                  <a:pt x="9851" y="7466"/>
                  <a:pt x="9947" y="7466"/>
                </a:cubicBezTo>
                <a:cubicBezTo>
                  <a:pt x="10085" y="7466"/>
                  <a:pt x="10211" y="7476"/>
                  <a:pt x="10344" y="7491"/>
                </a:cubicBezTo>
                <a:cubicBezTo>
                  <a:pt x="10453" y="7503"/>
                  <a:pt x="10557" y="7538"/>
                  <a:pt x="10666" y="7541"/>
                </a:cubicBezTo>
                <a:cubicBezTo>
                  <a:pt x="10785" y="7545"/>
                  <a:pt x="10898" y="7555"/>
                  <a:pt x="11013" y="7565"/>
                </a:cubicBezTo>
                <a:cubicBezTo>
                  <a:pt x="11225" y="7584"/>
                  <a:pt x="11445" y="7575"/>
                  <a:pt x="11658" y="7590"/>
                </a:cubicBezTo>
                <a:cubicBezTo>
                  <a:pt x="11746" y="7596"/>
                  <a:pt x="11788" y="7586"/>
                  <a:pt x="11832" y="7615"/>
                </a:cubicBezTo>
                <a:cubicBezTo>
                  <a:pt x="11873" y="7642"/>
                  <a:pt x="11952" y="7685"/>
                  <a:pt x="11981" y="7739"/>
                </a:cubicBezTo>
                <a:cubicBezTo>
                  <a:pt x="11988" y="7753"/>
                  <a:pt x="11981" y="7817"/>
                  <a:pt x="11981" y="7838"/>
                </a:cubicBezTo>
              </a:path>
              <a:path w="9749" h="794">
                <a:moveTo>
                  <a:pt x="9054" y="7069"/>
                </a:moveTo>
                <a:cubicBezTo>
                  <a:pt x="9115" y="7089"/>
                  <a:pt x="9044" y="7104"/>
                  <a:pt x="9004" y="7119"/>
                </a:cubicBezTo>
                <a:cubicBezTo>
                  <a:pt x="8830" y="7183"/>
                  <a:pt x="9075" y="7144"/>
                  <a:pt x="9128" y="7144"/>
                </a:cubicBezTo>
                <a:cubicBezTo>
                  <a:pt x="9350" y="7144"/>
                  <a:pt x="9089" y="7184"/>
                  <a:pt x="9029" y="7193"/>
                </a:cubicBezTo>
                <a:cubicBezTo>
                  <a:pt x="8996" y="7193"/>
                  <a:pt x="8963" y="7193"/>
                  <a:pt x="8930" y="7193"/>
                </a:cubicBezTo>
                <a:cubicBezTo>
                  <a:pt x="8938" y="7193"/>
                  <a:pt x="8946" y="7193"/>
                  <a:pt x="8954" y="7193"/>
                </a:cubicBezTo>
                <a:cubicBezTo>
                  <a:pt x="9011" y="7186"/>
                  <a:pt x="9157" y="7146"/>
                  <a:pt x="9128" y="7169"/>
                </a:cubicBezTo>
                <a:cubicBezTo>
                  <a:pt x="9096" y="7194"/>
                  <a:pt x="8909" y="7250"/>
                  <a:pt x="8954" y="7243"/>
                </a:cubicBezTo>
                <a:cubicBezTo>
                  <a:pt x="9090" y="7222"/>
                  <a:pt x="9375" y="7150"/>
                  <a:pt x="9004" y="7243"/>
                </a:cubicBezTo>
                <a:cubicBezTo>
                  <a:pt x="8987" y="7251"/>
                  <a:pt x="8971" y="7260"/>
                  <a:pt x="8954" y="7268"/>
                </a:cubicBezTo>
                <a:cubicBezTo>
                  <a:pt x="9041" y="7256"/>
                  <a:pt x="9206" y="7255"/>
                  <a:pt x="9277" y="7218"/>
                </a:cubicBezTo>
                <a:cubicBezTo>
                  <a:pt x="9194" y="7218"/>
                  <a:pt x="9144" y="7224"/>
                  <a:pt x="9079" y="7243"/>
                </a:cubicBezTo>
                <a:cubicBezTo>
                  <a:pt x="8941" y="7243"/>
                  <a:pt x="9222" y="7226"/>
                  <a:pt x="9252" y="7218"/>
                </a:cubicBezTo>
                <a:cubicBezTo>
                  <a:pt x="9301" y="7204"/>
                  <a:pt x="9171" y="7283"/>
                  <a:pt x="9203" y="7243"/>
                </a:cubicBezTo>
                <a:cubicBezTo>
                  <a:pt x="9203" y="7235"/>
                  <a:pt x="9203" y="7226"/>
                  <a:pt x="9203" y="7218"/>
                </a:cubicBezTo>
              </a:path>
              <a:path w="9749" h="794">
                <a:moveTo>
                  <a:pt x="11584" y="7045"/>
                </a:moveTo>
                <a:cubicBezTo>
                  <a:pt x="11595" y="7058"/>
                  <a:pt x="11619" y="7133"/>
                  <a:pt x="11633" y="7144"/>
                </a:cubicBezTo>
                <a:cubicBezTo>
                  <a:pt x="11692" y="7190"/>
                  <a:pt x="11859" y="7210"/>
                  <a:pt x="11931" y="7218"/>
                </a:cubicBezTo>
                <a:cubicBezTo>
                  <a:pt x="12133" y="7240"/>
                  <a:pt x="12350" y="7231"/>
                  <a:pt x="12551" y="7243"/>
                </a:cubicBezTo>
                <a:cubicBezTo>
                  <a:pt x="12691" y="7252"/>
                  <a:pt x="12813" y="7267"/>
                  <a:pt x="12948" y="7293"/>
                </a:cubicBezTo>
                <a:cubicBezTo>
                  <a:pt x="13047" y="7312"/>
                  <a:pt x="13144" y="7324"/>
                  <a:pt x="13246" y="7342"/>
                </a:cubicBezTo>
                <a:cubicBezTo>
                  <a:pt x="13385" y="7366"/>
                  <a:pt x="13527" y="7364"/>
                  <a:pt x="13667" y="7392"/>
                </a:cubicBezTo>
                <a:cubicBezTo>
                  <a:pt x="13845" y="7428"/>
                  <a:pt x="14031" y="7438"/>
                  <a:pt x="14213" y="7441"/>
                </a:cubicBezTo>
                <a:cubicBezTo>
                  <a:pt x="14488" y="7446"/>
                  <a:pt x="14760" y="7450"/>
                  <a:pt x="15032" y="7466"/>
                </a:cubicBezTo>
                <a:cubicBezTo>
                  <a:pt x="15258" y="7479"/>
                  <a:pt x="15480" y="7455"/>
                  <a:pt x="15701" y="7491"/>
                </a:cubicBezTo>
                <a:cubicBezTo>
                  <a:pt x="15807" y="7508"/>
                  <a:pt x="15831" y="7545"/>
                  <a:pt x="15925" y="7590"/>
                </a:cubicBezTo>
                <a:cubicBezTo>
                  <a:pt x="15994" y="7623"/>
                  <a:pt x="16047" y="7629"/>
                  <a:pt x="16098" y="7689"/>
                </a:cubicBezTo>
                <a:cubicBezTo>
                  <a:pt x="16122" y="7717"/>
                  <a:pt x="16132" y="7815"/>
                  <a:pt x="16123" y="7714"/>
                </a:cubicBezTo>
                <a:cubicBezTo>
                  <a:pt x="16117" y="7649"/>
                  <a:pt x="16107" y="7581"/>
                  <a:pt x="16098" y="7516"/>
                </a:cubicBezTo>
                <a:cubicBezTo>
                  <a:pt x="16098" y="7578"/>
                  <a:pt x="16120" y="7677"/>
                  <a:pt x="16098" y="7689"/>
                </a:cubicBezTo>
                <a:cubicBezTo>
                  <a:pt x="15982" y="7755"/>
                  <a:pt x="15856" y="7717"/>
                  <a:pt x="15825" y="7714"/>
                </a:cubicBezTo>
              </a:path>
              <a:path w="9749" h="794">
                <a:moveTo>
                  <a:pt x="11286" y="7094"/>
                </a:moveTo>
                <a:cubicBezTo>
                  <a:pt x="11262" y="7099"/>
                  <a:pt x="11151" y="7158"/>
                  <a:pt x="11212" y="7144"/>
                </a:cubicBezTo>
                <a:cubicBezTo>
                  <a:pt x="11338" y="7114"/>
                  <a:pt x="11503" y="7124"/>
                  <a:pt x="11212" y="7144"/>
                </a:cubicBezTo>
                <a:cubicBezTo>
                  <a:pt x="11118" y="7144"/>
                  <a:pt x="11097" y="7123"/>
                  <a:pt x="11063" y="7169"/>
                </a:cubicBezTo>
                <a:cubicBezTo>
                  <a:pt x="11131" y="7152"/>
                  <a:pt x="11430" y="7094"/>
                  <a:pt x="11311" y="7119"/>
                </a:cubicBezTo>
                <a:cubicBezTo>
                  <a:pt x="11214" y="7139"/>
                  <a:pt x="11073" y="7205"/>
                  <a:pt x="11286" y="7144"/>
                </a:cubicBezTo>
                <a:cubicBezTo>
                  <a:pt x="11311" y="7136"/>
                  <a:pt x="11336" y="7127"/>
                  <a:pt x="11361" y="7119"/>
                </a:cubicBezTo>
                <a:cubicBezTo>
                  <a:pt x="11307" y="7128"/>
                  <a:pt x="11136" y="7186"/>
                  <a:pt x="11162" y="7144"/>
                </a:cubicBezTo>
                <a:cubicBezTo>
                  <a:pt x="11170" y="7136"/>
                  <a:pt x="11179" y="7127"/>
                  <a:pt x="11187" y="7119"/>
                </a:cubicBezTo>
                <a:cubicBezTo>
                  <a:pt x="11458" y="7044"/>
                  <a:pt x="11113" y="7094"/>
                  <a:pt x="11261" y="7094"/>
                </a:cubicBezTo>
                <a:cubicBezTo>
                  <a:pt x="11449" y="7094"/>
                  <a:pt x="11160" y="7094"/>
                  <a:pt x="11137" y="7094"/>
                </a:cubicBezTo>
                <a:cubicBezTo>
                  <a:pt x="11121" y="7094"/>
                  <a:pt x="11104" y="7094"/>
                  <a:pt x="11088" y="709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607080" y="3054240"/>
            <a:ext cx="28800" cy="9720"/>
          </a:xfrm>
          <a:custGeom>
            <a:avLst/>
            <a:gdLst/>
            <a:ahLst/>
            <a:rect l="l" t="t" r="r" b="b"/>
            <a:pathLst>
              <a:path w="76" h="26">
                <a:moveTo>
                  <a:pt x="18355" y="8483"/>
                </a:moveTo>
                <a:cubicBezTo>
                  <a:pt x="18409" y="8483"/>
                  <a:pt x="18392" y="8495"/>
                  <a:pt x="18430" y="8508"/>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9" name=""/>
          <p:cNvSpPr/>
          <p:nvPr/>
        </p:nvSpPr>
        <p:spPr>
          <a:xfrm>
            <a:off x="3081240" y="3848040"/>
            <a:ext cx="4205520" cy="179280"/>
          </a:xfrm>
          <a:custGeom>
            <a:avLst/>
            <a:gdLst/>
            <a:ahLst/>
            <a:rect l="l" t="t" r="r" b="b"/>
            <a:pathLst>
              <a:path w="11684" h="497">
                <a:moveTo>
                  <a:pt x="11063" y="10740"/>
                </a:moveTo>
                <a:cubicBezTo>
                  <a:pt x="11135" y="10889"/>
                  <a:pt x="11204" y="11032"/>
                  <a:pt x="11261" y="11187"/>
                </a:cubicBezTo>
              </a:path>
              <a:path w="11684" h="497">
                <a:moveTo>
                  <a:pt x="10988" y="10939"/>
                </a:moveTo>
                <a:cubicBezTo>
                  <a:pt x="11228" y="10912"/>
                  <a:pt x="11319" y="10902"/>
                  <a:pt x="11485" y="10889"/>
                </a:cubicBezTo>
              </a:path>
              <a:path w="11684" h="497">
                <a:moveTo>
                  <a:pt x="11485" y="10889"/>
                </a:moveTo>
                <a:lnTo>
                  <a:pt x="11485" y="10889"/>
                </a:lnTo>
              </a:path>
              <a:path w="11684" h="497">
                <a:moveTo>
                  <a:pt x="14560" y="10939"/>
                </a:moveTo>
                <a:cubicBezTo>
                  <a:pt x="14860" y="10912"/>
                  <a:pt x="14977" y="10898"/>
                  <a:pt x="15180" y="10840"/>
                </a:cubicBezTo>
              </a:path>
              <a:path w="11684" h="497">
                <a:moveTo>
                  <a:pt x="17537" y="10691"/>
                </a:moveTo>
                <a:cubicBezTo>
                  <a:pt x="17609" y="10834"/>
                  <a:pt x="17650" y="10955"/>
                  <a:pt x="17686" y="11112"/>
                </a:cubicBezTo>
              </a:path>
              <a:path w="11684" h="497">
                <a:moveTo>
                  <a:pt x="17413" y="10790"/>
                </a:moveTo>
                <a:cubicBezTo>
                  <a:pt x="17627" y="10817"/>
                  <a:pt x="17709" y="10825"/>
                  <a:pt x="17859" y="10815"/>
                </a:cubicBezTo>
              </a:path>
              <a:path w="11684" h="497">
                <a:moveTo>
                  <a:pt x="17859" y="10815"/>
                </a:moveTo>
                <a:lnTo>
                  <a:pt x="17859" y="10815"/>
                </a:lnTo>
              </a:path>
              <a:path w="11684" h="497">
                <a:moveTo>
                  <a:pt x="19769" y="10790"/>
                </a:moveTo>
                <a:cubicBezTo>
                  <a:pt x="19990" y="10846"/>
                  <a:pt x="20080" y="10860"/>
                  <a:pt x="20241" y="10815"/>
                </a:cubicBezTo>
              </a:path>
              <a:path w="11684" h="497">
                <a:moveTo>
                  <a:pt x="20241" y="10815"/>
                </a:moveTo>
                <a:lnTo>
                  <a:pt x="20241" y="10815"/>
                </a:lnTo>
              </a:path>
              <a:path w="11684" h="497">
                <a:moveTo>
                  <a:pt x="8558" y="11013"/>
                </a:moveTo>
                <a:cubicBezTo>
                  <a:pt x="8566" y="11013"/>
                  <a:pt x="8574" y="11013"/>
                  <a:pt x="8582" y="11013"/>
                </a:cubicBezTo>
              </a:path>
              <a:path w="11684" h="497">
                <a:moveTo>
                  <a:pt x="9401" y="11063"/>
                </a:moveTo>
                <a:lnTo>
                  <a:pt x="9401" y="11063"/>
                </a:lnTo>
              </a:path>
              <a:path w="11684" h="497">
                <a:moveTo>
                  <a:pt x="9823" y="11013"/>
                </a:moveTo>
                <a:cubicBezTo>
                  <a:pt x="9831" y="11013"/>
                  <a:pt x="9839" y="11013"/>
                  <a:pt x="9847" y="11013"/>
                </a:cubicBezTo>
              </a:path>
              <a:path w="11684" h="497">
                <a:moveTo>
                  <a:pt x="10170" y="11013"/>
                </a:moveTo>
                <a:cubicBezTo>
                  <a:pt x="10178" y="11021"/>
                  <a:pt x="10187" y="11030"/>
                  <a:pt x="10195"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768760" y="3786120"/>
            <a:ext cx="1000080" cy="393840"/>
          </a:xfrm>
          <a:custGeom>
            <a:avLst/>
            <a:gdLst/>
            <a:ahLst/>
            <a:rect l="l" t="t" r="r" b="b"/>
            <a:pathLst>
              <a:path w="2780" h="1093">
                <a:moveTo>
                  <a:pt x="7838" y="10567"/>
                </a:moveTo>
                <a:cubicBezTo>
                  <a:pt x="7939" y="10543"/>
                  <a:pt x="8240" y="10476"/>
                  <a:pt x="8062" y="10691"/>
                </a:cubicBezTo>
                <a:cubicBezTo>
                  <a:pt x="8021" y="10724"/>
                  <a:pt x="7979" y="10757"/>
                  <a:pt x="7938" y="10790"/>
                </a:cubicBezTo>
                <a:cubicBezTo>
                  <a:pt x="7921" y="10798"/>
                  <a:pt x="7905" y="10807"/>
                  <a:pt x="7888" y="10815"/>
                </a:cubicBezTo>
                <a:cubicBezTo>
                  <a:pt x="8137" y="10855"/>
                  <a:pt x="8312" y="11052"/>
                  <a:pt x="7938" y="11187"/>
                </a:cubicBezTo>
                <a:cubicBezTo>
                  <a:pt x="7711" y="11269"/>
                  <a:pt x="7714" y="11122"/>
                  <a:pt x="7714" y="10988"/>
                </a:cubicBezTo>
              </a:path>
              <a:path w="2780" h="1093">
                <a:moveTo>
                  <a:pt x="8409" y="10641"/>
                </a:moveTo>
                <a:cubicBezTo>
                  <a:pt x="8291" y="10854"/>
                  <a:pt x="8257" y="10971"/>
                  <a:pt x="8235" y="11212"/>
                </a:cubicBezTo>
                <a:cubicBezTo>
                  <a:pt x="8415" y="11257"/>
                  <a:pt x="8856" y="11112"/>
                  <a:pt x="8657" y="10790"/>
                </a:cubicBezTo>
                <a:cubicBezTo>
                  <a:pt x="8563" y="10639"/>
                  <a:pt x="8361" y="10689"/>
                  <a:pt x="8235" y="10716"/>
                </a:cubicBezTo>
              </a:path>
              <a:path w="2780" h="1093">
                <a:moveTo>
                  <a:pt x="8930" y="11435"/>
                </a:moveTo>
                <a:cubicBezTo>
                  <a:pt x="8930" y="11551"/>
                  <a:pt x="8905" y="11720"/>
                  <a:pt x="8954" y="11485"/>
                </a:cubicBezTo>
              </a:path>
              <a:path w="2780" h="1093">
                <a:moveTo>
                  <a:pt x="9277" y="10765"/>
                </a:moveTo>
                <a:cubicBezTo>
                  <a:pt x="9070" y="10973"/>
                  <a:pt x="8986" y="11065"/>
                  <a:pt x="9128" y="11311"/>
                </a:cubicBezTo>
                <a:cubicBezTo>
                  <a:pt x="9303" y="11211"/>
                  <a:pt x="9759" y="10807"/>
                  <a:pt x="9227" y="10815"/>
                </a:cubicBezTo>
                <a:cubicBezTo>
                  <a:pt x="9079" y="10870"/>
                  <a:pt x="8960" y="10895"/>
                  <a:pt x="9079" y="10889"/>
                </a:cubicBezTo>
              </a:path>
              <a:path w="2780" h="1093">
                <a:moveTo>
                  <a:pt x="9699" y="10691"/>
                </a:moveTo>
                <a:cubicBezTo>
                  <a:pt x="9553" y="10950"/>
                  <a:pt x="9513" y="10969"/>
                  <a:pt x="9575" y="11237"/>
                </a:cubicBezTo>
                <a:cubicBezTo>
                  <a:pt x="9739" y="11207"/>
                  <a:pt x="10146" y="11011"/>
                  <a:pt x="9847" y="10790"/>
                </a:cubicBezTo>
                <a:cubicBezTo>
                  <a:pt x="9654" y="10647"/>
                  <a:pt x="9571" y="10836"/>
                  <a:pt x="9550" y="10939"/>
                </a:cubicBezTo>
              </a:path>
              <a:path w="2780" h="1093">
                <a:moveTo>
                  <a:pt x="10096" y="10790"/>
                </a:moveTo>
                <a:cubicBezTo>
                  <a:pt x="9983" y="11033"/>
                  <a:pt x="9973" y="11027"/>
                  <a:pt x="10096" y="11261"/>
                </a:cubicBezTo>
                <a:cubicBezTo>
                  <a:pt x="10203" y="11226"/>
                  <a:pt x="10716" y="10952"/>
                  <a:pt x="10393" y="10790"/>
                </a:cubicBezTo>
                <a:cubicBezTo>
                  <a:pt x="10227" y="10790"/>
                  <a:pt x="10192" y="10782"/>
                  <a:pt x="10096" y="108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97240" y="3803760"/>
            <a:ext cx="901800" cy="455400"/>
          </a:xfrm>
          <a:custGeom>
            <a:avLst/>
            <a:gdLst/>
            <a:ahLst/>
            <a:rect l="l" t="t" r="r" b="b"/>
            <a:pathLst>
              <a:path w="2506" h="1266">
                <a:moveTo>
                  <a:pt x="11857" y="10567"/>
                </a:moveTo>
                <a:cubicBezTo>
                  <a:pt x="11781" y="10624"/>
                  <a:pt x="11692" y="10679"/>
                  <a:pt x="11658" y="10765"/>
                </a:cubicBezTo>
                <a:cubicBezTo>
                  <a:pt x="11804" y="10807"/>
                  <a:pt x="11943" y="10870"/>
                  <a:pt x="12080" y="10939"/>
                </a:cubicBezTo>
                <a:cubicBezTo>
                  <a:pt x="11975" y="11274"/>
                  <a:pt x="11833" y="11094"/>
                  <a:pt x="11683" y="10889"/>
                </a:cubicBezTo>
              </a:path>
              <a:path w="2506" h="1266">
                <a:moveTo>
                  <a:pt x="11683" y="10616"/>
                </a:moveTo>
                <a:cubicBezTo>
                  <a:pt x="11993" y="10548"/>
                  <a:pt x="12261" y="10570"/>
                  <a:pt x="12576" y="10616"/>
                </a:cubicBezTo>
              </a:path>
              <a:path w="2506" h="1266">
                <a:moveTo>
                  <a:pt x="12725" y="10666"/>
                </a:moveTo>
                <a:cubicBezTo>
                  <a:pt x="12616" y="10693"/>
                  <a:pt x="12526" y="10956"/>
                  <a:pt x="12526" y="11063"/>
                </a:cubicBezTo>
                <a:cubicBezTo>
                  <a:pt x="12543" y="11104"/>
                  <a:pt x="12559" y="11146"/>
                  <a:pt x="12576" y="11187"/>
                </a:cubicBezTo>
                <a:cubicBezTo>
                  <a:pt x="12735" y="11140"/>
                  <a:pt x="13188" y="10896"/>
                  <a:pt x="12824" y="10691"/>
                </a:cubicBezTo>
                <a:cubicBezTo>
                  <a:pt x="12690" y="10691"/>
                  <a:pt x="12667" y="10673"/>
                  <a:pt x="12601" y="10716"/>
                </a:cubicBezTo>
              </a:path>
              <a:path w="2506" h="1266">
                <a:moveTo>
                  <a:pt x="13345" y="10666"/>
                </a:moveTo>
                <a:cubicBezTo>
                  <a:pt x="13067" y="10838"/>
                  <a:pt x="13014" y="10931"/>
                  <a:pt x="13097" y="11237"/>
                </a:cubicBezTo>
                <a:cubicBezTo>
                  <a:pt x="13289" y="11230"/>
                  <a:pt x="13766" y="11112"/>
                  <a:pt x="13494" y="10790"/>
                </a:cubicBezTo>
                <a:cubicBezTo>
                  <a:pt x="13345" y="10740"/>
                  <a:pt x="13295" y="10723"/>
                  <a:pt x="13196" y="10790"/>
                </a:cubicBezTo>
              </a:path>
              <a:path w="2506" h="1266">
                <a:moveTo>
                  <a:pt x="13866" y="10716"/>
                </a:moveTo>
                <a:cubicBezTo>
                  <a:pt x="13757" y="10773"/>
                  <a:pt x="13402" y="11125"/>
                  <a:pt x="13717" y="11237"/>
                </a:cubicBezTo>
                <a:cubicBezTo>
                  <a:pt x="13981" y="11331"/>
                  <a:pt x="14083" y="11044"/>
                  <a:pt x="14163" y="10889"/>
                </a:cubicBezTo>
                <a:cubicBezTo>
                  <a:pt x="13767" y="10753"/>
                  <a:pt x="13718" y="10835"/>
                  <a:pt x="13320" y="11038"/>
                </a:cubicBezTo>
              </a:path>
              <a:path w="2506" h="1266">
                <a:moveTo>
                  <a:pt x="12551" y="11584"/>
                </a:moveTo>
                <a:cubicBezTo>
                  <a:pt x="12551" y="11636"/>
                  <a:pt x="12567" y="11848"/>
                  <a:pt x="12526" y="118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303880" y="3867120"/>
            <a:ext cx="1440" cy="160200"/>
          </a:xfrm>
          <a:custGeom>
            <a:avLst/>
            <a:gdLst/>
            <a:ahLst/>
            <a:rect l="l" t="t" r="r" b="b"/>
            <a:pathLst>
              <a:path w="1" h="448">
                <a:moveTo>
                  <a:pt x="14734" y="10740"/>
                </a:moveTo>
                <a:cubicBezTo>
                  <a:pt x="14734" y="10889"/>
                  <a:pt x="14734" y="11038"/>
                  <a:pt x="14734" y="111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545080" y="3813120"/>
            <a:ext cx="571680" cy="204840"/>
          </a:xfrm>
          <a:custGeom>
            <a:avLst/>
            <a:gdLst/>
            <a:ahLst/>
            <a:rect l="l" t="t" r="r" b="b"/>
            <a:pathLst>
              <a:path w="1588" h="571">
                <a:moveTo>
                  <a:pt x="15503" y="10592"/>
                </a:moveTo>
                <a:cubicBezTo>
                  <a:pt x="15641" y="10641"/>
                  <a:pt x="16179" y="10910"/>
                  <a:pt x="15801" y="11088"/>
                </a:cubicBezTo>
                <a:cubicBezTo>
                  <a:pt x="15614" y="11176"/>
                  <a:pt x="15475" y="11100"/>
                  <a:pt x="15404" y="10988"/>
                </a:cubicBezTo>
                <a:cubicBezTo>
                  <a:pt x="15631" y="10980"/>
                  <a:pt x="15762" y="10964"/>
                  <a:pt x="15900" y="11162"/>
                </a:cubicBezTo>
              </a:path>
              <a:path w="1588" h="571">
                <a:moveTo>
                  <a:pt x="16123" y="10641"/>
                </a:moveTo>
                <a:cubicBezTo>
                  <a:pt x="15976" y="10830"/>
                  <a:pt x="15950" y="10875"/>
                  <a:pt x="15949" y="11112"/>
                </a:cubicBezTo>
                <a:cubicBezTo>
                  <a:pt x="16240" y="11095"/>
                  <a:pt x="16279" y="11071"/>
                  <a:pt x="16495" y="10864"/>
                </a:cubicBezTo>
                <a:cubicBezTo>
                  <a:pt x="16418" y="10779"/>
                  <a:pt x="16028" y="10547"/>
                  <a:pt x="16173" y="10691"/>
                </a:cubicBezTo>
              </a:path>
              <a:path w="1588" h="571">
                <a:moveTo>
                  <a:pt x="16694" y="10616"/>
                </a:moveTo>
                <a:cubicBezTo>
                  <a:pt x="16502" y="10843"/>
                  <a:pt x="16468" y="10840"/>
                  <a:pt x="16520" y="11112"/>
                </a:cubicBezTo>
                <a:cubicBezTo>
                  <a:pt x="16678" y="11124"/>
                  <a:pt x="17269" y="10987"/>
                  <a:pt x="16892" y="10716"/>
                </a:cubicBezTo>
                <a:cubicBezTo>
                  <a:pt x="16687" y="10670"/>
                  <a:pt x="16631" y="10653"/>
                  <a:pt x="16495" y="106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535800" y="3786120"/>
            <a:ext cx="411120" cy="231840"/>
          </a:xfrm>
          <a:custGeom>
            <a:avLst/>
            <a:gdLst/>
            <a:ahLst/>
            <a:rect l="l" t="t" r="r" b="b"/>
            <a:pathLst>
              <a:path w="1142" h="646">
                <a:moveTo>
                  <a:pt x="18554" y="10567"/>
                </a:moveTo>
                <a:cubicBezTo>
                  <a:pt x="18345" y="10453"/>
                  <a:pt x="18271" y="10590"/>
                  <a:pt x="18157" y="10765"/>
                </a:cubicBezTo>
                <a:cubicBezTo>
                  <a:pt x="18320" y="10866"/>
                  <a:pt x="18465" y="10830"/>
                  <a:pt x="18579" y="10641"/>
                </a:cubicBezTo>
                <a:cubicBezTo>
                  <a:pt x="18579" y="10633"/>
                  <a:pt x="18579" y="10624"/>
                  <a:pt x="18579" y="10616"/>
                </a:cubicBezTo>
                <a:cubicBezTo>
                  <a:pt x="18618" y="10794"/>
                  <a:pt x="18647" y="10952"/>
                  <a:pt x="18653" y="11137"/>
                </a:cubicBezTo>
                <a:cubicBezTo>
                  <a:pt x="18653" y="11207"/>
                  <a:pt x="18681" y="11180"/>
                  <a:pt x="18752" y="11038"/>
                </a:cubicBezTo>
              </a:path>
              <a:path w="1142" h="646">
                <a:moveTo>
                  <a:pt x="19025" y="10542"/>
                </a:moveTo>
                <a:cubicBezTo>
                  <a:pt x="18896" y="10712"/>
                  <a:pt x="18851" y="10829"/>
                  <a:pt x="18802" y="11038"/>
                </a:cubicBezTo>
                <a:cubicBezTo>
                  <a:pt x="18998" y="11110"/>
                  <a:pt x="19309" y="11054"/>
                  <a:pt x="19298" y="10740"/>
                </a:cubicBezTo>
                <a:cubicBezTo>
                  <a:pt x="19291" y="10557"/>
                  <a:pt x="19092" y="10599"/>
                  <a:pt x="18976" y="1059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24840" y="3795840"/>
            <a:ext cx="347400" cy="222120"/>
          </a:xfrm>
          <a:custGeom>
            <a:avLst/>
            <a:gdLst/>
            <a:ahLst/>
            <a:rect l="l" t="t" r="r" b="b"/>
            <a:pathLst>
              <a:path w="968" h="621">
                <a:moveTo>
                  <a:pt x="20067" y="10740"/>
                </a:moveTo>
                <a:cubicBezTo>
                  <a:pt x="20067" y="10808"/>
                  <a:pt x="20054" y="11274"/>
                  <a:pt x="20092" y="11088"/>
                </a:cubicBezTo>
              </a:path>
              <a:path w="968" h="621">
                <a:moveTo>
                  <a:pt x="20910" y="10542"/>
                </a:moveTo>
                <a:cubicBezTo>
                  <a:pt x="20707" y="10597"/>
                  <a:pt x="20629" y="10587"/>
                  <a:pt x="20513" y="10740"/>
                </a:cubicBezTo>
                <a:cubicBezTo>
                  <a:pt x="20724" y="10866"/>
                  <a:pt x="20946" y="10898"/>
                  <a:pt x="20960" y="11137"/>
                </a:cubicBezTo>
                <a:cubicBezTo>
                  <a:pt x="20678" y="11159"/>
                  <a:pt x="20785" y="10942"/>
                  <a:pt x="20910" y="10765"/>
                </a:cubicBezTo>
                <a:cubicBezTo>
                  <a:pt x="20932" y="10733"/>
                  <a:pt x="21123" y="10594"/>
                  <a:pt x="20985" y="106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411200" y="4259160"/>
            <a:ext cx="5749920" cy="465120"/>
          </a:xfrm>
          <a:custGeom>
            <a:avLst/>
            <a:gdLst/>
            <a:ahLst/>
            <a:rect l="l" t="t" r="r" b="b"/>
            <a:pathLst>
              <a:path w="15975" h="1291">
                <a:moveTo>
                  <a:pt x="3919" y="12278"/>
                </a:moveTo>
                <a:lnTo>
                  <a:pt x="3919" y="12278"/>
                </a:lnTo>
                <a:lnTo>
                  <a:pt x="3919" y="12278"/>
                </a:lnTo>
              </a:path>
              <a:path w="15975" h="1291">
                <a:moveTo>
                  <a:pt x="3919" y="12278"/>
                </a:moveTo>
                <a:lnTo>
                  <a:pt x="3919" y="12278"/>
                </a:lnTo>
              </a:path>
              <a:path w="15975" h="1291">
                <a:moveTo>
                  <a:pt x="5259" y="12353"/>
                </a:moveTo>
                <a:cubicBezTo>
                  <a:pt x="5277" y="12503"/>
                  <a:pt x="5301" y="12647"/>
                  <a:pt x="5308" y="12799"/>
                </a:cubicBezTo>
              </a:path>
              <a:path w="15975" h="1291">
                <a:moveTo>
                  <a:pt x="9376" y="12477"/>
                </a:moveTo>
                <a:cubicBezTo>
                  <a:pt x="9316" y="12611"/>
                  <a:pt x="9254" y="12752"/>
                  <a:pt x="9178" y="12874"/>
                </a:cubicBezTo>
              </a:path>
              <a:path w="15975" h="1291">
                <a:moveTo>
                  <a:pt x="12229" y="12427"/>
                </a:moveTo>
                <a:cubicBezTo>
                  <a:pt x="12187" y="12642"/>
                  <a:pt x="12079" y="12945"/>
                  <a:pt x="12303" y="13122"/>
                </a:cubicBezTo>
                <a:cubicBezTo>
                  <a:pt x="12355" y="13122"/>
                  <a:pt x="12373" y="13121"/>
                  <a:pt x="12402" y="13097"/>
                </a:cubicBezTo>
              </a:path>
              <a:path w="15975" h="1291">
                <a:moveTo>
                  <a:pt x="18579" y="11832"/>
                </a:moveTo>
                <a:cubicBezTo>
                  <a:pt x="18847" y="12091"/>
                  <a:pt x="19229" y="12404"/>
                  <a:pt x="19199" y="12824"/>
                </a:cubicBezTo>
                <a:cubicBezTo>
                  <a:pt x="19136" y="12950"/>
                  <a:pt x="19132" y="12985"/>
                  <a:pt x="19050" y="13022"/>
                </a:cubicBezTo>
              </a:path>
              <a:path w="15975" h="1291">
                <a:moveTo>
                  <a:pt x="19596" y="12353"/>
                </a:moveTo>
                <a:cubicBezTo>
                  <a:pt x="19643" y="12456"/>
                  <a:pt x="19699" y="12552"/>
                  <a:pt x="19670" y="12650"/>
                </a:cubicBezTo>
              </a:path>
              <a:path w="15975" h="1291">
                <a:moveTo>
                  <a:pt x="19447" y="12576"/>
                </a:moveTo>
                <a:cubicBezTo>
                  <a:pt x="19597" y="12547"/>
                  <a:pt x="19745" y="12514"/>
                  <a:pt x="19893" y="1247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231920" y="4348080"/>
            <a:ext cx="304920" cy="268200"/>
          </a:xfrm>
          <a:custGeom>
            <a:avLst/>
            <a:gdLst/>
            <a:ahLst/>
            <a:rect l="l" t="t" r="r" b="b"/>
            <a:pathLst>
              <a:path w="844" h="745">
                <a:moveTo>
                  <a:pt x="3597" y="12105"/>
                </a:moveTo>
                <a:cubicBezTo>
                  <a:pt x="3597" y="12017"/>
                  <a:pt x="3528" y="12196"/>
                  <a:pt x="3497" y="12278"/>
                </a:cubicBezTo>
                <a:cubicBezTo>
                  <a:pt x="3428" y="12461"/>
                  <a:pt x="3361" y="12635"/>
                  <a:pt x="3497" y="12799"/>
                </a:cubicBezTo>
                <a:cubicBezTo>
                  <a:pt x="3505" y="12807"/>
                  <a:pt x="3514" y="12816"/>
                  <a:pt x="3522" y="12824"/>
                </a:cubicBezTo>
              </a:path>
              <a:path w="844" h="745">
                <a:moveTo>
                  <a:pt x="3919" y="12254"/>
                </a:moveTo>
                <a:cubicBezTo>
                  <a:pt x="3928" y="12242"/>
                  <a:pt x="4064" y="12151"/>
                  <a:pt x="4093" y="12204"/>
                </a:cubicBezTo>
                <a:cubicBezTo>
                  <a:pt x="4142" y="12293"/>
                  <a:pt x="4120" y="12428"/>
                  <a:pt x="3994" y="12427"/>
                </a:cubicBezTo>
                <a:cubicBezTo>
                  <a:pt x="4002" y="12419"/>
                  <a:pt x="4010" y="12410"/>
                  <a:pt x="4018" y="12402"/>
                </a:cubicBezTo>
                <a:cubicBezTo>
                  <a:pt x="4099" y="12409"/>
                  <a:pt x="4333" y="12425"/>
                  <a:pt x="4266" y="12576"/>
                </a:cubicBezTo>
                <a:cubicBezTo>
                  <a:pt x="4210" y="12702"/>
                  <a:pt x="4027" y="12650"/>
                  <a:pt x="3919" y="12650"/>
                </a:cubicBezTo>
                <a:cubicBezTo>
                  <a:pt x="3954" y="12650"/>
                  <a:pt x="3972" y="12646"/>
                  <a:pt x="3994" y="126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70040" y="4429080"/>
            <a:ext cx="88920" cy="135000"/>
          </a:xfrm>
          <a:custGeom>
            <a:avLst/>
            <a:gdLst/>
            <a:ahLst/>
            <a:rect l="l" t="t" r="r" b="b"/>
            <a:pathLst>
              <a:path w="250" h="373">
                <a:moveTo>
                  <a:pt x="4663" y="12303"/>
                </a:moveTo>
                <a:cubicBezTo>
                  <a:pt x="4730" y="12358"/>
                  <a:pt x="4806" y="12491"/>
                  <a:pt x="4862" y="12576"/>
                </a:cubicBezTo>
                <a:cubicBezTo>
                  <a:pt x="4870" y="12593"/>
                  <a:pt x="4879" y="12609"/>
                  <a:pt x="4887" y="12626"/>
                </a:cubicBezTo>
              </a:path>
              <a:path w="250" h="373">
                <a:moveTo>
                  <a:pt x="4837" y="12303"/>
                </a:moveTo>
                <a:cubicBezTo>
                  <a:pt x="4777" y="12423"/>
                  <a:pt x="4684" y="12560"/>
                  <a:pt x="4638" y="126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00160" y="4367160"/>
            <a:ext cx="214560" cy="268200"/>
          </a:xfrm>
          <a:custGeom>
            <a:avLst/>
            <a:gdLst/>
            <a:ahLst/>
            <a:rect l="l" t="t" r="r" b="b"/>
            <a:pathLst>
              <a:path w="597" h="746">
                <a:moveTo>
                  <a:pt x="5680" y="12402"/>
                </a:moveTo>
                <a:cubicBezTo>
                  <a:pt x="5599" y="12515"/>
                  <a:pt x="5544" y="12630"/>
                  <a:pt x="5556" y="12774"/>
                </a:cubicBezTo>
                <a:cubicBezTo>
                  <a:pt x="5564" y="12799"/>
                  <a:pt x="5573" y="12824"/>
                  <a:pt x="5581" y="12849"/>
                </a:cubicBezTo>
                <a:cubicBezTo>
                  <a:pt x="5696" y="12866"/>
                  <a:pt x="5873" y="12875"/>
                  <a:pt x="5879" y="12700"/>
                </a:cubicBezTo>
                <a:cubicBezTo>
                  <a:pt x="5883" y="12587"/>
                  <a:pt x="5803" y="12512"/>
                  <a:pt x="5705" y="12477"/>
                </a:cubicBezTo>
                <a:cubicBezTo>
                  <a:pt x="5697" y="12477"/>
                  <a:pt x="5688" y="12477"/>
                  <a:pt x="5680" y="12477"/>
                </a:cubicBezTo>
              </a:path>
              <a:path w="597" h="746">
                <a:moveTo>
                  <a:pt x="5928" y="12229"/>
                </a:moveTo>
                <a:cubicBezTo>
                  <a:pt x="5907" y="12294"/>
                  <a:pt x="5899" y="12310"/>
                  <a:pt x="5904" y="12353"/>
                </a:cubicBezTo>
                <a:cubicBezTo>
                  <a:pt x="5987" y="12353"/>
                  <a:pt x="6069" y="12353"/>
                  <a:pt x="6152" y="12353"/>
                </a:cubicBezTo>
              </a:path>
              <a:path w="597" h="746">
                <a:moveTo>
                  <a:pt x="6102" y="12129"/>
                </a:moveTo>
                <a:cubicBezTo>
                  <a:pt x="6102" y="12250"/>
                  <a:pt x="6089" y="12360"/>
                  <a:pt x="6077" y="1247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367000" y="4116240"/>
            <a:ext cx="1000080" cy="608040"/>
          </a:xfrm>
          <a:custGeom>
            <a:avLst/>
            <a:gdLst/>
            <a:ahLst/>
            <a:rect l="l" t="t" r="r" b="b"/>
            <a:pathLst>
              <a:path w="2779" h="1688">
                <a:moveTo>
                  <a:pt x="6747" y="12129"/>
                </a:moveTo>
                <a:cubicBezTo>
                  <a:pt x="6831" y="12353"/>
                  <a:pt x="6961" y="12552"/>
                  <a:pt x="6896" y="12799"/>
                </a:cubicBezTo>
                <a:cubicBezTo>
                  <a:pt x="6857" y="12950"/>
                  <a:pt x="6711" y="13027"/>
                  <a:pt x="6573" y="13047"/>
                </a:cubicBezTo>
              </a:path>
              <a:path w="2779" h="1688">
                <a:moveTo>
                  <a:pt x="7789" y="11460"/>
                </a:moveTo>
                <a:cubicBezTo>
                  <a:pt x="7843" y="11460"/>
                  <a:pt x="8085" y="11435"/>
                  <a:pt x="7962" y="11460"/>
                </a:cubicBezTo>
                <a:cubicBezTo>
                  <a:pt x="7847" y="11489"/>
                  <a:pt x="7798" y="11500"/>
                  <a:pt x="7714" y="11509"/>
                </a:cubicBezTo>
                <a:cubicBezTo>
                  <a:pt x="7706" y="11509"/>
                  <a:pt x="7697" y="11509"/>
                  <a:pt x="7689" y="11509"/>
                </a:cubicBezTo>
                <a:cubicBezTo>
                  <a:pt x="7764" y="11500"/>
                  <a:pt x="7893" y="11493"/>
                  <a:pt x="7962" y="11460"/>
                </a:cubicBezTo>
                <a:cubicBezTo>
                  <a:pt x="8040" y="11423"/>
                  <a:pt x="7779" y="11503"/>
                  <a:pt x="7863" y="11485"/>
                </a:cubicBezTo>
                <a:cubicBezTo>
                  <a:pt x="7957" y="11466"/>
                  <a:pt x="7977" y="11479"/>
                  <a:pt x="8012" y="11435"/>
                </a:cubicBezTo>
              </a:path>
              <a:path w="2779" h="1688">
                <a:moveTo>
                  <a:pt x="7491" y="12526"/>
                </a:moveTo>
                <a:cubicBezTo>
                  <a:pt x="7491" y="12617"/>
                  <a:pt x="7491" y="12708"/>
                  <a:pt x="7491" y="12799"/>
                </a:cubicBezTo>
              </a:path>
              <a:path w="2779" h="1688">
                <a:moveTo>
                  <a:pt x="7392" y="12675"/>
                </a:moveTo>
                <a:cubicBezTo>
                  <a:pt x="7528" y="12675"/>
                  <a:pt x="7655" y="12662"/>
                  <a:pt x="7789" y="12650"/>
                </a:cubicBezTo>
              </a:path>
              <a:path w="2779" h="1688">
                <a:moveTo>
                  <a:pt x="7193" y="12774"/>
                </a:moveTo>
                <a:cubicBezTo>
                  <a:pt x="7245" y="12757"/>
                  <a:pt x="7310" y="12764"/>
                  <a:pt x="7392" y="12750"/>
                </a:cubicBezTo>
                <a:cubicBezTo>
                  <a:pt x="7417" y="12742"/>
                  <a:pt x="7441" y="12733"/>
                  <a:pt x="7466" y="12725"/>
                </a:cubicBezTo>
              </a:path>
              <a:path w="2779" h="1688">
                <a:moveTo>
                  <a:pt x="7342" y="12725"/>
                </a:moveTo>
                <a:cubicBezTo>
                  <a:pt x="7445" y="12725"/>
                  <a:pt x="7538" y="12706"/>
                  <a:pt x="7640" y="12700"/>
                </a:cubicBezTo>
                <a:cubicBezTo>
                  <a:pt x="7648" y="12700"/>
                  <a:pt x="7657" y="12700"/>
                  <a:pt x="7665" y="12700"/>
                </a:cubicBezTo>
              </a:path>
              <a:path w="2779" h="1688">
                <a:moveTo>
                  <a:pt x="7590" y="12576"/>
                </a:moveTo>
                <a:cubicBezTo>
                  <a:pt x="7590" y="12509"/>
                  <a:pt x="7570" y="12658"/>
                  <a:pt x="7565" y="12725"/>
                </a:cubicBezTo>
                <a:cubicBezTo>
                  <a:pt x="7561" y="12780"/>
                  <a:pt x="7565" y="12841"/>
                  <a:pt x="7565" y="12898"/>
                </a:cubicBezTo>
              </a:path>
              <a:path w="2779" h="1688">
                <a:moveTo>
                  <a:pt x="8508" y="12204"/>
                </a:moveTo>
                <a:cubicBezTo>
                  <a:pt x="8375" y="12394"/>
                  <a:pt x="8159" y="12693"/>
                  <a:pt x="8210" y="12948"/>
                </a:cubicBezTo>
                <a:cubicBezTo>
                  <a:pt x="8235" y="13072"/>
                  <a:pt x="8300" y="13052"/>
                  <a:pt x="8334" y="13122"/>
                </a:cubicBezTo>
              </a:path>
              <a:path w="2779" h="1688">
                <a:moveTo>
                  <a:pt x="8806" y="12452"/>
                </a:moveTo>
                <a:cubicBezTo>
                  <a:pt x="8724" y="12452"/>
                  <a:pt x="8660" y="12440"/>
                  <a:pt x="8582" y="12427"/>
                </a:cubicBezTo>
                <a:cubicBezTo>
                  <a:pt x="8568" y="12503"/>
                  <a:pt x="8560" y="12588"/>
                  <a:pt x="8533" y="12650"/>
                </a:cubicBezTo>
                <a:cubicBezTo>
                  <a:pt x="8615" y="12637"/>
                  <a:pt x="8752" y="12589"/>
                  <a:pt x="8830" y="12650"/>
                </a:cubicBezTo>
                <a:cubicBezTo>
                  <a:pt x="8838" y="12675"/>
                  <a:pt x="8847" y="12700"/>
                  <a:pt x="8855" y="12725"/>
                </a:cubicBezTo>
                <a:cubicBezTo>
                  <a:pt x="8809" y="12909"/>
                  <a:pt x="8733" y="12885"/>
                  <a:pt x="8558" y="12874"/>
                </a:cubicBezTo>
                <a:cubicBezTo>
                  <a:pt x="8421" y="12866"/>
                  <a:pt x="8527" y="12872"/>
                  <a:pt x="8458" y="12849"/>
                </a:cubicBezTo>
              </a:path>
              <a:path w="2779" h="1688">
                <a:moveTo>
                  <a:pt x="9103" y="12551"/>
                </a:moveTo>
                <a:cubicBezTo>
                  <a:pt x="9188" y="12617"/>
                  <a:pt x="9237" y="12741"/>
                  <a:pt x="9327" y="12799"/>
                </a:cubicBezTo>
                <a:cubicBezTo>
                  <a:pt x="9335" y="12799"/>
                  <a:pt x="9343" y="12799"/>
                  <a:pt x="9351" y="1279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537000" y="4313160"/>
            <a:ext cx="660240" cy="384120"/>
          </a:xfrm>
          <a:custGeom>
            <a:avLst/>
            <a:gdLst/>
            <a:ahLst/>
            <a:rect l="l" t="t" r="r" b="b"/>
            <a:pathLst>
              <a:path w="1836" h="1067">
                <a:moveTo>
                  <a:pt x="9823" y="12502"/>
                </a:moveTo>
                <a:cubicBezTo>
                  <a:pt x="9823" y="12564"/>
                  <a:pt x="9823" y="13019"/>
                  <a:pt x="9823" y="12824"/>
                </a:cubicBezTo>
              </a:path>
              <a:path w="1836" h="1067">
                <a:moveTo>
                  <a:pt x="10096" y="12452"/>
                </a:moveTo>
                <a:cubicBezTo>
                  <a:pt x="10010" y="12537"/>
                  <a:pt x="9959" y="12710"/>
                  <a:pt x="9971" y="12849"/>
                </a:cubicBezTo>
                <a:cubicBezTo>
                  <a:pt x="9990" y="13076"/>
                  <a:pt x="10299" y="12884"/>
                  <a:pt x="10344" y="12774"/>
                </a:cubicBezTo>
                <a:cubicBezTo>
                  <a:pt x="10419" y="12590"/>
                  <a:pt x="10176" y="12572"/>
                  <a:pt x="10096" y="12502"/>
                </a:cubicBezTo>
              </a:path>
              <a:path w="1836" h="1067">
                <a:moveTo>
                  <a:pt x="10468" y="12229"/>
                </a:moveTo>
                <a:cubicBezTo>
                  <a:pt x="10401" y="12229"/>
                  <a:pt x="10584" y="12199"/>
                  <a:pt x="10592" y="12254"/>
                </a:cubicBezTo>
                <a:cubicBezTo>
                  <a:pt x="10565" y="12308"/>
                  <a:pt x="10553" y="12328"/>
                  <a:pt x="10517" y="12353"/>
                </a:cubicBezTo>
                <a:cubicBezTo>
                  <a:pt x="10473" y="12353"/>
                  <a:pt x="10554" y="12326"/>
                  <a:pt x="10592" y="12353"/>
                </a:cubicBezTo>
                <a:cubicBezTo>
                  <a:pt x="10736" y="12454"/>
                  <a:pt x="10622" y="12487"/>
                  <a:pt x="10517" y="12502"/>
                </a:cubicBezTo>
                <a:cubicBezTo>
                  <a:pt x="10461" y="12502"/>
                  <a:pt x="10450" y="12497"/>
                  <a:pt x="10517" y="12452"/>
                </a:cubicBezTo>
              </a:path>
              <a:path w="1836" h="1067">
                <a:moveTo>
                  <a:pt x="10691" y="11981"/>
                </a:moveTo>
                <a:cubicBezTo>
                  <a:pt x="10906" y="12205"/>
                  <a:pt x="11116" y="12407"/>
                  <a:pt x="11063" y="12750"/>
                </a:cubicBezTo>
                <a:cubicBezTo>
                  <a:pt x="11055" y="12804"/>
                  <a:pt x="10807" y="13144"/>
                  <a:pt x="10864" y="12998"/>
                </a:cubicBezTo>
              </a:path>
              <a:path w="1836" h="1067">
                <a:moveTo>
                  <a:pt x="11410" y="12452"/>
                </a:moveTo>
                <a:cubicBezTo>
                  <a:pt x="11417" y="12577"/>
                  <a:pt x="11435" y="12698"/>
                  <a:pt x="11435" y="12824"/>
                </a:cubicBezTo>
              </a:path>
              <a:path w="1836" h="1067">
                <a:moveTo>
                  <a:pt x="11237" y="12650"/>
                </a:moveTo>
                <a:cubicBezTo>
                  <a:pt x="11380" y="12635"/>
                  <a:pt x="11514" y="12626"/>
                  <a:pt x="11658" y="126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02080" y="4295880"/>
            <a:ext cx="1036800" cy="436320"/>
          </a:xfrm>
          <a:custGeom>
            <a:avLst/>
            <a:gdLst/>
            <a:ahLst/>
            <a:rect l="l" t="t" r="r" b="b"/>
            <a:pathLst>
              <a:path w="2878" h="1216">
                <a:moveTo>
                  <a:pt x="12278" y="12254"/>
                </a:moveTo>
                <a:cubicBezTo>
                  <a:pt x="12286" y="12246"/>
                  <a:pt x="12295" y="12237"/>
                  <a:pt x="12303" y="12229"/>
                </a:cubicBezTo>
                <a:cubicBezTo>
                  <a:pt x="12282" y="12333"/>
                  <a:pt x="12253" y="12443"/>
                  <a:pt x="12229" y="12551"/>
                </a:cubicBezTo>
              </a:path>
              <a:path w="2878" h="1216">
                <a:moveTo>
                  <a:pt x="12626" y="12402"/>
                </a:moveTo>
                <a:cubicBezTo>
                  <a:pt x="12735" y="12330"/>
                  <a:pt x="12853" y="12404"/>
                  <a:pt x="12874" y="12551"/>
                </a:cubicBezTo>
                <a:cubicBezTo>
                  <a:pt x="12912" y="12813"/>
                  <a:pt x="12601" y="12873"/>
                  <a:pt x="12427" y="12874"/>
                </a:cubicBezTo>
                <a:cubicBezTo>
                  <a:pt x="12467" y="12687"/>
                  <a:pt x="12573" y="12701"/>
                  <a:pt x="12750" y="12799"/>
                </a:cubicBezTo>
                <a:cubicBezTo>
                  <a:pt x="12868" y="12864"/>
                  <a:pt x="12852" y="12900"/>
                  <a:pt x="12973" y="12874"/>
                </a:cubicBezTo>
              </a:path>
              <a:path w="2878" h="1216">
                <a:moveTo>
                  <a:pt x="13097" y="12427"/>
                </a:moveTo>
                <a:cubicBezTo>
                  <a:pt x="13143" y="12546"/>
                  <a:pt x="13278" y="12654"/>
                  <a:pt x="13370" y="12750"/>
                </a:cubicBezTo>
                <a:cubicBezTo>
                  <a:pt x="13398" y="12777"/>
                  <a:pt x="13407" y="12781"/>
                  <a:pt x="13395" y="12725"/>
                </a:cubicBezTo>
              </a:path>
              <a:path w="2878" h="1216">
                <a:moveTo>
                  <a:pt x="13345" y="12353"/>
                </a:moveTo>
                <a:cubicBezTo>
                  <a:pt x="13332" y="12387"/>
                  <a:pt x="13150" y="12841"/>
                  <a:pt x="13221" y="12700"/>
                </a:cubicBezTo>
              </a:path>
              <a:path w="2878" h="1216">
                <a:moveTo>
                  <a:pt x="13643" y="12303"/>
                </a:moveTo>
                <a:cubicBezTo>
                  <a:pt x="13681" y="12481"/>
                  <a:pt x="13717" y="12642"/>
                  <a:pt x="13717" y="12824"/>
                </a:cubicBezTo>
              </a:path>
              <a:path w="2878" h="1216">
                <a:moveTo>
                  <a:pt x="14114" y="12328"/>
                </a:moveTo>
                <a:cubicBezTo>
                  <a:pt x="13958" y="12484"/>
                  <a:pt x="13934" y="12628"/>
                  <a:pt x="13915" y="12849"/>
                </a:cubicBezTo>
                <a:cubicBezTo>
                  <a:pt x="14094" y="12893"/>
                  <a:pt x="14360" y="12823"/>
                  <a:pt x="14337" y="12551"/>
                </a:cubicBezTo>
                <a:cubicBezTo>
                  <a:pt x="14326" y="12423"/>
                  <a:pt x="14150" y="12396"/>
                  <a:pt x="14064" y="12378"/>
                </a:cubicBezTo>
              </a:path>
              <a:path w="2878" h="1216">
                <a:moveTo>
                  <a:pt x="14536" y="12129"/>
                </a:moveTo>
                <a:cubicBezTo>
                  <a:pt x="14519" y="12146"/>
                  <a:pt x="14503" y="12162"/>
                  <a:pt x="14486" y="12179"/>
                </a:cubicBezTo>
                <a:cubicBezTo>
                  <a:pt x="14491" y="12157"/>
                  <a:pt x="14548" y="12083"/>
                  <a:pt x="14585" y="12105"/>
                </a:cubicBezTo>
                <a:cubicBezTo>
                  <a:pt x="14724" y="12186"/>
                  <a:pt x="14644" y="12329"/>
                  <a:pt x="14536" y="12378"/>
                </a:cubicBezTo>
                <a:cubicBezTo>
                  <a:pt x="14445" y="12419"/>
                  <a:pt x="14408" y="12400"/>
                  <a:pt x="14337" y="12353"/>
                </a:cubicBezTo>
                <a:cubicBezTo>
                  <a:pt x="14388" y="12276"/>
                  <a:pt x="14463" y="12265"/>
                  <a:pt x="14560" y="12303"/>
                </a:cubicBezTo>
                <a:cubicBezTo>
                  <a:pt x="14653" y="12340"/>
                  <a:pt x="14618" y="12382"/>
                  <a:pt x="14709" y="12303"/>
                </a:cubicBezTo>
              </a:path>
              <a:path w="2878" h="1216">
                <a:moveTo>
                  <a:pt x="14610" y="11956"/>
                </a:moveTo>
                <a:cubicBezTo>
                  <a:pt x="14663" y="11930"/>
                  <a:pt x="14665" y="11931"/>
                  <a:pt x="14734" y="11981"/>
                </a:cubicBezTo>
                <a:cubicBezTo>
                  <a:pt x="14981" y="12160"/>
                  <a:pt x="15152" y="12542"/>
                  <a:pt x="15106" y="12849"/>
                </a:cubicBezTo>
                <a:cubicBezTo>
                  <a:pt x="15081" y="13015"/>
                  <a:pt x="14974" y="13073"/>
                  <a:pt x="14858" y="131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562720" y="4483080"/>
            <a:ext cx="171360" cy="133200"/>
          </a:xfrm>
          <a:custGeom>
            <a:avLst/>
            <a:gdLst/>
            <a:ahLst/>
            <a:rect l="l" t="t" r="r" b="b"/>
            <a:pathLst>
              <a:path w="473" h="373">
                <a:moveTo>
                  <a:pt x="15503" y="12526"/>
                </a:moveTo>
                <a:cubicBezTo>
                  <a:pt x="15503" y="12493"/>
                  <a:pt x="15503" y="12477"/>
                  <a:pt x="15503" y="12452"/>
                </a:cubicBezTo>
                <a:cubicBezTo>
                  <a:pt x="15522" y="12587"/>
                  <a:pt x="15526" y="12688"/>
                  <a:pt x="15503" y="12824"/>
                </a:cubicBezTo>
              </a:path>
              <a:path w="473" h="373">
                <a:moveTo>
                  <a:pt x="15453" y="12650"/>
                </a:moveTo>
                <a:cubicBezTo>
                  <a:pt x="15612" y="12629"/>
                  <a:pt x="15768" y="12607"/>
                  <a:pt x="15925" y="125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892840" y="4313160"/>
            <a:ext cx="849240" cy="322200"/>
          </a:xfrm>
          <a:custGeom>
            <a:avLst/>
            <a:gdLst/>
            <a:ahLst/>
            <a:rect l="l" t="t" r="r" b="b"/>
            <a:pathLst>
              <a:path w="2358" h="894">
                <a:moveTo>
                  <a:pt x="16470" y="12005"/>
                </a:moveTo>
                <a:cubicBezTo>
                  <a:pt x="16470" y="11860"/>
                  <a:pt x="16389" y="12234"/>
                  <a:pt x="16371" y="12378"/>
                </a:cubicBezTo>
                <a:cubicBezTo>
                  <a:pt x="16351" y="12535"/>
                  <a:pt x="16395" y="12622"/>
                  <a:pt x="16520" y="12700"/>
                </a:cubicBezTo>
              </a:path>
              <a:path w="2358" h="894">
                <a:moveTo>
                  <a:pt x="17016" y="12254"/>
                </a:moveTo>
                <a:cubicBezTo>
                  <a:pt x="16908" y="12227"/>
                  <a:pt x="16877" y="12162"/>
                  <a:pt x="16768" y="12278"/>
                </a:cubicBezTo>
                <a:cubicBezTo>
                  <a:pt x="16701" y="12390"/>
                  <a:pt x="16680" y="12418"/>
                  <a:pt x="16669" y="12502"/>
                </a:cubicBezTo>
                <a:cubicBezTo>
                  <a:pt x="16784" y="12467"/>
                  <a:pt x="16811" y="12421"/>
                  <a:pt x="16892" y="12328"/>
                </a:cubicBezTo>
                <a:cubicBezTo>
                  <a:pt x="16925" y="12459"/>
                  <a:pt x="16997" y="12576"/>
                  <a:pt x="17016" y="12725"/>
                </a:cubicBezTo>
                <a:cubicBezTo>
                  <a:pt x="17016" y="12799"/>
                  <a:pt x="16991" y="12832"/>
                  <a:pt x="17041" y="12824"/>
                </a:cubicBezTo>
              </a:path>
              <a:path w="2358" h="894">
                <a:moveTo>
                  <a:pt x="17314" y="12378"/>
                </a:moveTo>
                <a:cubicBezTo>
                  <a:pt x="17336" y="12411"/>
                  <a:pt x="17556" y="12753"/>
                  <a:pt x="17562" y="12750"/>
                </a:cubicBezTo>
                <a:cubicBezTo>
                  <a:pt x="17570" y="12725"/>
                  <a:pt x="17579" y="12700"/>
                  <a:pt x="17587" y="12675"/>
                </a:cubicBezTo>
              </a:path>
              <a:path w="2358" h="894">
                <a:moveTo>
                  <a:pt x="17462" y="12328"/>
                </a:moveTo>
                <a:cubicBezTo>
                  <a:pt x="17418" y="12492"/>
                  <a:pt x="17212" y="12901"/>
                  <a:pt x="17363" y="12824"/>
                </a:cubicBezTo>
                <a:cubicBezTo>
                  <a:pt x="17371" y="12807"/>
                  <a:pt x="17380" y="12791"/>
                  <a:pt x="17388" y="12774"/>
                </a:cubicBezTo>
              </a:path>
              <a:path w="2358" h="894">
                <a:moveTo>
                  <a:pt x="17735" y="12328"/>
                </a:moveTo>
                <a:cubicBezTo>
                  <a:pt x="17778" y="12485"/>
                  <a:pt x="17807" y="12638"/>
                  <a:pt x="17835" y="12799"/>
                </a:cubicBezTo>
              </a:path>
              <a:path w="2358" h="894">
                <a:moveTo>
                  <a:pt x="18157" y="12402"/>
                </a:moveTo>
                <a:cubicBezTo>
                  <a:pt x="18073" y="12579"/>
                  <a:pt x="18017" y="12682"/>
                  <a:pt x="18058" y="12874"/>
                </a:cubicBezTo>
                <a:cubicBezTo>
                  <a:pt x="18194" y="12848"/>
                  <a:pt x="18503" y="12772"/>
                  <a:pt x="18380" y="12551"/>
                </a:cubicBezTo>
                <a:cubicBezTo>
                  <a:pt x="18345" y="12489"/>
                  <a:pt x="18217" y="12476"/>
                  <a:pt x="18157" y="12452"/>
                </a:cubicBezTo>
              </a:path>
              <a:path w="2358" h="894">
                <a:moveTo>
                  <a:pt x="18703" y="12229"/>
                </a:moveTo>
                <a:cubicBezTo>
                  <a:pt x="18703" y="12307"/>
                  <a:pt x="18683" y="12372"/>
                  <a:pt x="18728" y="124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277040" y="4367160"/>
            <a:ext cx="358920" cy="339840"/>
          </a:xfrm>
          <a:custGeom>
            <a:avLst/>
            <a:gdLst/>
            <a:ahLst/>
            <a:rect l="l" t="t" r="r" b="b"/>
            <a:pathLst>
              <a:path w="993" h="944">
                <a:moveTo>
                  <a:pt x="20439" y="12154"/>
                </a:moveTo>
                <a:cubicBezTo>
                  <a:pt x="20439" y="12129"/>
                  <a:pt x="20439" y="12121"/>
                  <a:pt x="20464" y="12129"/>
                </a:cubicBezTo>
                <a:cubicBezTo>
                  <a:pt x="20401" y="12254"/>
                  <a:pt x="20309" y="12386"/>
                  <a:pt x="20265" y="12551"/>
                </a:cubicBezTo>
                <a:cubicBezTo>
                  <a:pt x="20226" y="12699"/>
                  <a:pt x="20161" y="13000"/>
                  <a:pt x="20365" y="13047"/>
                </a:cubicBezTo>
                <a:cubicBezTo>
                  <a:pt x="20389" y="13047"/>
                  <a:pt x="20397" y="13047"/>
                  <a:pt x="20389" y="13072"/>
                </a:cubicBezTo>
              </a:path>
              <a:path w="993" h="944">
                <a:moveTo>
                  <a:pt x="20762" y="12353"/>
                </a:moveTo>
                <a:cubicBezTo>
                  <a:pt x="20607" y="12373"/>
                  <a:pt x="20619" y="12378"/>
                  <a:pt x="20513" y="12502"/>
                </a:cubicBezTo>
                <a:cubicBezTo>
                  <a:pt x="20549" y="12557"/>
                  <a:pt x="20769" y="12672"/>
                  <a:pt x="20762" y="12725"/>
                </a:cubicBezTo>
                <a:cubicBezTo>
                  <a:pt x="20715" y="12795"/>
                  <a:pt x="20703" y="12819"/>
                  <a:pt x="20638" y="12799"/>
                </a:cubicBezTo>
                <a:cubicBezTo>
                  <a:pt x="20655" y="12682"/>
                  <a:pt x="20705" y="12588"/>
                  <a:pt x="20737" y="12477"/>
                </a:cubicBezTo>
              </a:path>
              <a:path w="993" h="944">
                <a:moveTo>
                  <a:pt x="21034" y="12551"/>
                </a:moveTo>
                <a:cubicBezTo>
                  <a:pt x="21091" y="12608"/>
                  <a:pt x="21189" y="12673"/>
                  <a:pt x="21208" y="12750"/>
                </a:cubicBezTo>
              </a:path>
              <a:path w="993" h="944">
                <a:moveTo>
                  <a:pt x="21208" y="12477"/>
                </a:moveTo>
                <a:cubicBezTo>
                  <a:pt x="21164" y="12609"/>
                  <a:pt x="21124" y="12728"/>
                  <a:pt x="21059" y="128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823160" y="4303800"/>
            <a:ext cx="455760" cy="403200"/>
          </a:xfrm>
          <a:custGeom>
            <a:avLst/>
            <a:gdLst/>
            <a:ahLst/>
            <a:rect l="l" t="t" r="r" b="b"/>
            <a:pathLst>
              <a:path w="1266" h="1117">
                <a:moveTo>
                  <a:pt x="21729" y="12378"/>
                </a:moveTo>
                <a:cubicBezTo>
                  <a:pt x="21764" y="12491"/>
                  <a:pt x="21828" y="12674"/>
                  <a:pt x="21803" y="12799"/>
                </a:cubicBezTo>
                <a:cubicBezTo>
                  <a:pt x="21775" y="12828"/>
                  <a:pt x="21767" y="12831"/>
                  <a:pt x="21779" y="12774"/>
                </a:cubicBezTo>
              </a:path>
              <a:path w="1266" h="1117">
                <a:moveTo>
                  <a:pt x="22051" y="12328"/>
                </a:moveTo>
                <a:cubicBezTo>
                  <a:pt x="22006" y="12479"/>
                  <a:pt x="21913" y="12678"/>
                  <a:pt x="22002" y="12824"/>
                </a:cubicBezTo>
                <a:cubicBezTo>
                  <a:pt x="22108" y="12998"/>
                  <a:pt x="22332" y="12720"/>
                  <a:pt x="22324" y="12601"/>
                </a:cubicBezTo>
                <a:cubicBezTo>
                  <a:pt x="22314" y="12441"/>
                  <a:pt x="22193" y="12439"/>
                  <a:pt x="22076" y="12402"/>
                </a:cubicBezTo>
              </a:path>
              <a:path w="1266" h="1117">
                <a:moveTo>
                  <a:pt x="22572" y="12229"/>
                </a:moveTo>
                <a:cubicBezTo>
                  <a:pt x="22572" y="12164"/>
                  <a:pt x="22506" y="12289"/>
                  <a:pt x="22498" y="12353"/>
                </a:cubicBezTo>
                <a:cubicBezTo>
                  <a:pt x="22506" y="12361"/>
                  <a:pt x="22515" y="12370"/>
                  <a:pt x="22523" y="12378"/>
                </a:cubicBezTo>
                <a:cubicBezTo>
                  <a:pt x="22636" y="12364"/>
                  <a:pt x="22654" y="12332"/>
                  <a:pt x="22647" y="12229"/>
                </a:cubicBezTo>
                <a:cubicBezTo>
                  <a:pt x="22647" y="12204"/>
                  <a:pt x="22647" y="12196"/>
                  <a:pt x="22622" y="12204"/>
                </a:cubicBezTo>
              </a:path>
              <a:path w="1266" h="1117">
                <a:moveTo>
                  <a:pt x="22647" y="11956"/>
                </a:moveTo>
                <a:cubicBezTo>
                  <a:pt x="22841" y="12202"/>
                  <a:pt x="23008" y="12412"/>
                  <a:pt x="22994" y="12750"/>
                </a:cubicBezTo>
                <a:cubicBezTo>
                  <a:pt x="22989" y="12877"/>
                  <a:pt x="22916" y="12977"/>
                  <a:pt x="22845" y="130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25960" y="5491080"/>
            <a:ext cx="1285920" cy="144720"/>
          </a:xfrm>
          <a:custGeom>
            <a:avLst/>
            <a:gdLst/>
            <a:ahLst/>
            <a:rect l="l" t="t" r="r" b="b"/>
            <a:pathLst>
              <a:path w="3573" h="398">
                <a:moveTo>
                  <a:pt x="11460" y="15429"/>
                </a:moveTo>
                <a:cubicBezTo>
                  <a:pt x="11627" y="15459"/>
                  <a:pt x="11757" y="15444"/>
                  <a:pt x="11931" y="15429"/>
                </a:cubicBezTo>
              </a:path>
              <a:path w="3573" h="398">
                <a:moveTo>
                  <a:pt x="14684" y="15255"/>
                </a:moveTo>
                <a:cubicBezTo>
                  <a:pt x="14720" y="15394"/>
                  <a:pt x="14749" y="15510"/>
                  <a:pt x="14759" y="15652"/>
                </a:cubicBezTo>
              </a:path>
              <a:path w="3573" h="398">
                <a:moveTo>
                  <a:pt x="14536" y="15429"/>
                </a:moveTo>
                <a:cubicBezTo>
                  <a:pt x="14769" y="15429"/>
                  <a:pt x="14869" y="15423"/>
                  <a:pt x="15032" y="153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59040" y="5456160"/>
            <a:ext cx="376200" cy="214560"/>
          </a:xfrm>
          <a:custGeom>
            <a:avLst/>
            <a:gdLst/>
            <a:ahLst/>
            <a:rect l="l" t="t" r="r" b="b"/>
            <a:pathLst>
              <a:path w="1042" h="596">
                <a:moveTo>
                  <a:pt x="7665" y="15180"/>
                </a:moveTo>
                <a:cubicBezTo>
                  <a:pt x="7704" y="15168"/>
                  <a:pt x="7918" y="15231"/>
                  <a:pt x="8037" y="15205"/>
                </a:cubicBezTo>
                <a:cubicBezTo>
                  <a:pt x="8053" y="15197"/>
                  <a:pt x="8070" y="15188"/>
                  <a:pt x="8086" y="15180"/>
                </a:cubicBezTo>
                <a:cubicBezTo>
                  <a:pt x="8068" y="15362"/>
                  <a:pt x="7961" y="15523"/>
                  <a:pt x="7938" y="15701"/>
                </a:cubicBezTo>
                <a:cubicBezTo>
                  <a:pt x="7946" y="15709"/>
                  <a:pt x="7954" y="15718"/>
                  <a:pt x="7962" y="15726"/>
                </a:cubicBezTo>
              </a:path>
              <a:path w="1042" h="596">
                <a:moveTo>
                  <a:pt x="8434" y="15156"/>
                </a:moveTo>
                <a:cubicBezTo>
                  <a:pt x="8227" y="15278"/>
                  <a:pt x="8211" y="15435"/>
                  <a:pt x="8210" y="15677"/>
                </a:cubicBezTo>
                <a:cubicBezTo>
                  <a:pt x="8397" y="15733"/>
                  <a:pt x="8852" y="15699"/>
                  <a:pt x="8706" y="15329"/>
                </a:cubicBezTo>
                <a:cubicBezTo>
                  <a:pt x="8631" y="15138"/>
                  <a:pt x="8377" y="15248"/>
                  <a:pt x="8260" y="152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330720" y="5438880"/>
            <a:ext cx="571320" cy="241200"/>
          </a:xfrm>
          <a:custGeom>
            <a:avLst/>
            <a:gdLst/>
            <a:ahLst/>
            <a:rect l="l" t="t" r="r" b="b"/>
            <a:pathLst>
              <a:path w="1589" h="671">
                <a:moveTo>
                  <a:pt x="9500" y="15131"/>
                </a:moveTo>
                <a:cubicBezTo>
                  <a:pt x="9283" y="15293"/>
                  <a:pt x="9260" y="15393"/>
                  <a:pt x="9302" y="15652"/>
                </a:cubicBezTo>
                <a:cubicBezTo>
                  <a:pt x="9507" y="15645"/>
                  <a:pt x="9936" y="15513"/>
                  <a:pt x="9649" y="15205"/>
                </a:cubicBezTo>
                <a:cubicBezTo>
                  <a:pt x="9518" y="15149"/>
                  <a:pt x="9507" y="15125"/>
                  <a:pt x="9426" y="15131"/>
                </a:cubicBezTo>
              </a:path>
              <a:path w="1589" h="671">
                <a:moveTo>
                  <a:pt x="10120" y="15106"/>
                </a:moveTo>
                <a:cubicBezTo>
                  <a:pt x="9952" y="15165"/>
                  <a:pt x="9590" y="15358"/>
                  <a:pt x="9847" y="15602"/>
                </a:cubicBezTo>
                <a:cubicBezTo>
                  <a:pt x="10060" y="15804"/>
                  <a:pt x="10204" y="15524"/>
                  <a:pt x="10294" y="15404"/>
                </a:cubicBezTo>
                <a:cubicBezTo>
                  <a:pt x="10190" y="15236"/>
                  <a:pt x="10208" y="15220"/>
                  <a:pt x="9996" y="15180"/>
                </a:cubicBezTo>
              </a:path>
              <a:path w="1589" h="671">
                <a:moveTo>
                  <a:pt x="10567" y="15180"/>
                </a:moveTo>
                <a:cubicBezTo>
                  <a:pt x="10319" y="15404"/>
                  <a:pt x="10269" y="15411"/>
                  <a:pt x="10269" y="15726"/>
                </a:cubicBezTo>
                <a:cubicBezTo>
                  <a:pt x="10481" y="15738"/>
                  <a:pt x="11107" y="15681"/>
                  <a:pt x="10740" y="15304"/>
                </a:cubicBezTo>
                <a:cubicBezTo>
                  <a:pt x="10624" y="15265"/>
                  <a:pt x="10604" y="15264"/>
                  <a:pt x="10542" y="152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160880" y="5473800"/>
            <a:ext cx="54000" cy="179280"/>
          </a:xfrm>
          <a:custGeom>
            <a:avLst/>
            <a:gdLst/>
            <a:ahLst/>
            <a:rect l="l" t="t" r="r" b="b"/>
            <a:pathLst>
              <a:path w="150" h="497">
                <a:moveTo>
                  <a:pt x="11559" y="15205"/>
                </a:moveTo>
                <a:cubicBezTo>
                  <a:pt x="11622" y="15373"/>
                  <a:pt x="11686" y="15523"/>
                  <a:pt x="11708" y="1570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483080" y="5438880"/>
            <a:ext cx="625320" cy="249120"/>
          </a:xfrm>
          <a:custGeom>
            <a:avLst/>
            <a:gdLst/>
            <a:ahLst/>
            <a:rect l="l" t="t" r="r" b="b"/>
            <a:pathLst>
              <a:path w="1737" h="696">
                <a:moveTo>
                  <a:pt x="12526" y="15106"/>
                </a:moveTo>
                <a:cubicBezTo>
                  <a:pt x="12494" y="15257"/>
                  <a:pt x="12325" y="15646"/>
                  <a:pt x="12551" y="15726"/>
                </a:cubicBezTo>
                <a:cubicBezTo>
                  <a:pt x="12740" y="15793"/>
                  <a:pt x="12784" y="15586"/>
                  <a:pt x="12824" y="15478"/>
                </a:cubicBezTo>
                <a:cubicBezTo>
                  <a:pt x="12591" y="15504"/>
                  <a:pt x="12511" y="15587"/>
                  <a:pt x="12626" y="15801"/>
                </a:cubicBezTo>
              </a:path>
              <a:path w="1737" h="696">
                <a:moveTo>
                  <a:pt x="13295" y="15230"/>
                </a:moveTo>
                <a:cubicBezTo>
                  <a:pt x="13140" y="15411"/>
                  <a:pt x="13115" y="15406"/>
                  <a:pt x="13146" y="15627"/>
                </a:cubicBezTo>
                <a:cubicBezTo>
                  <a:pt x="13336" y="15658"/>
                  <a:pt x="13783" y="15569"/>
                  <a:pt x="13519" y="15255"/>
                </a:cubicBezTo>
                <a:cubicBezTo>
                  <a:pt x="13357" y="15185"/>
                  <a:pt x="13311" y="15158"/>
                  <a:pt x="13196" y="15205"/>
                </a:cubicBezTo>
              </a:path>
              <a:path w="1737" h="696">
                <a:moveTo>
                  <a:pt x="13767" y="15255"/>
                </a:moveTo>
                <a:cubicBezTo>
                  <a:pt x="13674" y="15439"/>
                  <a:pt x="13641" y="15489"/>
                  <a:pt x="13667" y="15627"/>
                </a:cubicBezTo>
                <a:cubicBezTo>
                  <a:pt x="13817" y="15662"/>
                  <a:pt x="14420" y="15680"/>
                  <a:pt x="14139" y="15329"/>
                </a:cubicBezTo>
                <a:cubicBezTo>
                  <a:pt x="14040" y="15205"/>
                  <a:pt x="13735" y="15239"/>
                  <a:pt x="13940" y="151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545080" y="5446800"/>
            <a:ext cx="206280" cy="241200"/>
          </a:xfrm>
          <a:custGeom>
            <a:avLst/>
            <a:gdLst/>
            <a:ahLst/>
            <a:rect l="l" t="t" r="r" b="b"/>
            <a:pathLst>
              <a:path w="571" h="671">
                <a:moveTo>
                  <a:pt x="15503" y="15131"/>
                </a:moveTo>
                <a:cubicBezTo>
                  <a:pt x="15688" y="15167"/>
                  <a:pt x="15801" y="15327"/>
                  <a:pt x="15801" y="15528"/>
                </a:cubicBezTo>
                <a:cubicBezTo>
                  <a:pt x="15801" y="15818"/>
                  <a:pt x="15546" y="15747"/>
                  <a:pt x="15404" y="15652"/>
                </a:cubicBezTo>
                <a:cubicBezTo>
                  <a:pt x="15629" y="15551"/>
                  <a:pt x="15743" y="15624"/>
                  <a:pt x="15949" y="15776"/>
                </a:cubicBezTo>
                <a:cubicBezTo>
                  <a:pt x="15957" y="15784"/>
                  <a:pt x="15966" y="15793"/>
                  <a:pt x="15974" y="1580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438200" y="5661000"/>
            <a:ext cx="4714920" cy="635040"/>
          </a:xfrm>
          <a:custGeom>
            <a:avLst/>
            <a:gdLst/>
            <a:ahLst/>
            <a:rect l="l" t="t" r="r" b="b"/>
            <a:pathLst>
              <a:path w="13097" h="1762">
                <a:moveTo>
                  <a:pt x="9054" y="15726"/>
                </a:moveTo>
                <a:cubicBezTo>
                  <a:pt x="9067" y="15990"/>
                  <a:pt x="9082" y="15962"/>
                  <a:pt x="9252" y="15751"/>
                </a:cubicBezTo>
              </a:path>
              <a:path w="13097" h="1762">
                <a:moveTo>
                  <a:pt x="4167" y="16570"/>
                </a:moveTo>
                <a:cubicBezTo>
                  <a:pt x="4086" y="16785"/>
                  <a:pt x="3851" y="17177"/>
                  <a:pt x="4068" y="17388"/>
                </a:cubicBezTo>
                <a:cubicBezTo>
                  <a:pt x="4192" y="17438"/>
                  <a:pt x="4233" y="17455"/>
                  <a:pt x="4316" y="17388"/>
                </a:cubicBezTo>
              </a:path>
              <a:path w="13097" h="1762">
                <a:moveTo>
                  <a:pt x="5060" y="16917"/>
                </a:moveTo>
                <a:cubicBezTo>
                  <a:pt x="5132" y="17048"/>
                  <a:pt x="5212" y="17223"/>
                  <a:pt x="5358" y="17289"/>
                </a:cubicBezTo>
                <a:cubicBezTo>
                  <a:pt x="5383" y="17289"/>
                  <a:pt x="5407" y="17289"/>
                  <a:pt x="5432" y="17289"/>
                </a:cubicBezTo>
              </a:path>
              <a:path w="13097" h="1762">
                <a:moveTo>
                  <a:pt x="6995" y="16594"/>
                </a:moveTo>
                <a:cubicBezTo>
                  <a:pt x="7236" y="16760"/>
                  <a:pt x="7600" y="16936"/>
                  <a:pt x="7441" y="17289"/>
                </a:cubicBezTo>
                <a:cubicBezTo>
                  <a:pt x="7330" y="17422"/>
                  <a:pt x="7307" y="17465"/>
                  <a:pt x="7193" y="17487"/>
                </a:cubicBezTo>
              </a:path>
              <a:path w="13097" h="1762">
                <a:moveTo>
                  <a:pt x="7962" y="16892"/>
                </a:moveTo>
                <a:cubicBezTo>
                  <a:pt x="7974" y="17001"/>
                  <a:pt x="7985" y="17150"/>
                  <a:pt x="8062" y="17239"/>
                </a:cubicBezTo>
                <a:cubicBezTo>
                  <a:pt x="8062" y="17231"/>
                  <a:pt x="8062" y="17222"/>
                  <a:pt x="8062" y="17214"/>
                </a:cubicBezTo>
              </a:path>
              <a:path w="13097" h="1762">
                <a:moveTo>
                  <a:pt x="7913" y="17066"/>
                </a:moveTo>
                <a:cubicBezTo>
                  <a:pt x="8097" y="17029"/>
                  <a:pt x="8272" y="16994"/>
                  <a:pt x="8458" y="16966"/>
                </a:cubicBezTo>
              </a:path>
              <a:path w="13097" h="1762">
                <a:moveTo>
                  <a:pt x="8954" y="16545"/>
                </a:moveTo>
                <a:cubicBezTo>
                  <a:pt x="8835" y="16744"/>
                  <a:pt x="8685" y="17092"/>
                  <a:pt x="8756" y="17338"/>
                </a:cubicBezTo>
                <a:cubicBezTo>
                  <a:pt x="8799" y="17486"/>
                  <a:pt x="8995" y="17476"/>
                  <a:pt x="9103" y="17487"/>
                </a:cubicBezTo>
              </a:path>
              <a:path w="13097" h="1762">
                <a:moveTo>
                  <a:pt x="10071" y="16892"/>
                </a:moveTo>
                <a:cubicBezTo>
                  <a:pt x="10110" y="17003"/>
                  <a:pt x="10175" y="17241"/>
                  <a:pt x="10344" y="17214"/>
                </a:cubicBezTo>
                <a:cubicBezTo>
                  <a:pt x="10360" y="17198"/>
                  <a:pt x="10377" y="17181"/>
                  <a:pt x="10393" y="17165"/>
                </a:cubicBezTo>
              </a:path>
              <a:path w="13097" h="1762">
                <a:moveTo>
                  <a:pt x="11832" y="16495"/>
                </a:moveTo>
                <a:cubicBezTo>
                  <a:pt x="12005" y="16703"/>
                  <a:pt x="12382" y="17016"/>
                  <a:pt x="12154" y="17314"/>
                </a:cubicBezTo>
                <a:cubicBezTo>
                  <a:pt x="12113" y="17339"/>
                  <a:pt x="12071" y="17363"/>
                  <a:pt x="12030" y="17388"/>
                </a:cubicBezTo>
              </a:path>
              <a:path w="13097" h="1762">
                <a:moveTo>
                  <a:pt x="12650" y="16966"/>
                </a:moveTo>
                <a:cubicBezTo>
                  <a:pt x="12834" y="16966"/>
                  <a:pt x="12902" y="16964"/>
                  <a:pt x="13022" y="16917"/>
                </a:cubicBezTo>
              </a:path>
              <a:path w="13097" h="1762">
                <a:moveTo>
                  <a:pt x="13022" y="16917"/>
                </a:moveTo>
                <a:lnTo>
                  <a:pt x="13022" y="16917"/>
                </a:lnTo>
              </a:path>
              <a:path w="13097" h="1762">
                <a:moveTo>
                  <a:pt x="13618" y="16570"/>
                </a:moveTo>
                <a:cubicBezTo>
                  <a:pt x="13512" y="16809"/>
                  <a:pt x="13287" y="17184"/>
                  <a:pt x="13543" y="17413"/>
                </a:cubicBezTo>
                <a:cubicBezTo>
                  <a:pt x="13688" y="17442"/>
                  <a:pt x="13748" y="17442"/>
                  <a:pt x="13841" y="17363"/>
                </a:cubicBezTo>
              </a:path>
              <a:path w="13097" h="1762">
                <a:moveTo>
                  <a:pt x="14610" y="16793"/>
                </a:moveTo>
                <a:cubicBezTo>
                  <a:pt x="14723" y="16972"/>
                  <a:pt x="14804" y="17030"/>
                  <a:pt x="15007" y="17090"/>
                </a:cubicBezTo>
              </a:path>
              <a:path w="13097" h="1762">
                <a:moveTo>
                  <a:pt x="14957" y="16619"/>
                </a:moveTo>
                <a:cubicBezTo>
                  <a:pt x="14936" y="16827"/>
                  <a:pt x="14886" y="16982"/>
                  <a:pt x="14784" y="17165"/>
                </a:cubicBezTo>
              </a:path>
              <a:path w="13097" h="1762">
                <a:moveTo>
                  <a:pt x="15478" y="16768"/>
                </a:moveTo>
                <a:cubicBezTo>
                  <a:pt x="15484" y="16924"/>
                  <a:pt x="15474" y="17078"/>
                  <a:pt x="15553" y="17214"/>
                </a:cubicBezTo>
              </a:path>
              <a:path w="13097" h="1762">
                <a:moveTo>
                  <a:pt x="16446" y="16148"/>
                </a:moveTo>
                <a:cubicBezTo>
                  <a:pt x="16667" y="16386"/>
                  <a:pt x="17104" y="16753"/>
                  <a:pt x="17090" y="17115"/>
                </a:cubicBezTo>
                <a:cubicBezTo>
                  <a:pt x="16976" y="17315"/>
                  <a:pt x="16915" y="17383"/>
                  <a:pt x="16718" y="173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581120" y="6045120"/>
            <a:ext cx="357120" cy="214560"/>
          </a:xfrm>
          <a:custGeom>
            <a:avLst/>
            <a:gdLst/>
            <a:ahLst/>
            <a:rect l="l" t="t" r="r" b="b"/>
            <a:pathLst>
              <a:path w="994" h="596">
                <a:moveTo>
                  <a:pt x="4390" y="16793"/>
                </a:moveTo>
                <a:cubicBezTo>
                  <a:pt x="4442" y="16793"/>
                  <a:pt x="4693" y="16764"/>
                  <a:pt x="4713" y="16818"/>
                </a:cubicBezTo>
                <a:cubicBezTo>
                  <a:pt x="4766" y="16959"/>
                  <a:pt x="4626" y="17141"/>
                  <a:pt x="4663" y="17289"/>
                </a:cubicBezTo>
                <a:cubicBezTo>
                  <a:pt x="4671" y="17289"/>
                  <a:pt x="4680" y="17289"/>
                  <a:pt x="4688" y="17289"/>
                </a:cubicBezTo>
              </a:path>
              <a:path w="994" h="596">
                <a:moveTo>
                  <a:pt x="5383" y="16917"/>
                </a:moveTo>
                <a:cubicBezTo>
                  <a:pt x="5279" y="17072"/>
                  <a:pt x="5174" y="17224"/>
                  <a:pt x="5085" y="173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6037200"/>
            <a:ext cx="419040" cy="293760"/>
          </a:xfrm>
          <a:custGeom>
            <a:avLst/>
            <a:gdLst/>
            <a:ahLst/>
            <a:rect l="l" t="t" r="r" b="b"/>
            <a:pathLst>
              <a:path w="1167" h="820">
                <a:moveTo>
                  <a:pt x="5854" y="16991"/>
                </a:moveTo>
                <a:cubicBezTo>
                  <a:pt x="5854" y="17145"/>
                  <a:pt x="5848" y="17287"/>
                  <a:pt x="5829" y="17438"/>
                </a:cubicBezTo>
              </a:path>
              <a:path w="1167" h="820">
                <a:moveTo>
                  <a:pt x="6400" y="17016"/>
                </a:moveTo>
                <a:cubicBezTo>
                  <a:pt x="6228" y="17176"/>
                  <a:pt x="6144" y="17308"/>
                  <a:pt x="6102" y="17537"/>
                </a:cubicBezTo>
                <a:cubicBezTo>
                  <a:pt x="6313" y="17585"/>
                  <a:pt x="6578" y="17604"/>
                  <a:pt x="6623" y="17314"/>
                </a:cubicBezTo>
                <a:cubicBezTo>
                  <a:pt x="6658" y="17089"/>
                  <a:pt x="6469" y="17129"/>
                  <a:pt x="6325" y="17115"/>
                </a:cubicBezTo>
              </a:path>
              <a:path w="1167" h="820">
                <a:moveTo>
                  <a:pt x="6896" y="16768"/>
                </a:moveTo>
                <a:cubicBezTo>
                  <a:pt x="6855" y="16790"/>
                  <a:pt x="6706" y="16861"/>
                  <a:pt x="6697" y="16892"/>
                </a:cubicBezTo>
                <a:cubicBezTo>
                  <a:pt x="6697" y="16937"/>
                  <a:pt x="6701" y="16950"/>
                  <a:pt x="6672" y="16966"/>
                </a:cubicBezTo>
                <a:cubicBezTo>
                  <a:pt x="6773" y="16966"/>
                  <a:pt x="6888" y="16938"/>
                  <a:pt x="6970" y="17016"/>
                </a:cubicBezTo>
                <a:cubicBezTo>
                  <a:pt x="6993" y="17083"/>
                  <a:pt x="7004" y="17101"/>
                  <a:pt x="6970" y="17140"/>
                </a:cubicBezTo>
                <a:cubicBezTo>
                  <a:pt x="6863" y="17169"/>
                  <a:pt x="6837" y="17165"/>
                  <a:pt x="6747" y="171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295800" y="6054840"/>
            <a:ext cx="169560" cy="196560"/>
          </a:xfrm>
          <a:custGeom>
            <a:avLst/>
            <a:gdLst/>
            <a:ahLst/>
            <a:rect l="l" t="t" r="r" b="b"/>
            <a:pathLst>
              <a:path w="472" h="546">
                <a:moveTo>
                  <a:pt x="9227" y="16818"/>
                </a:moveTo>
                <a:cubicBezTo>
                  <a:pt x="9170" y="17007"/>
                  <a:pt x="9159" y="17130"/>
                  <a:pt x="9203" y="17314"/>
                </a:cubicBezTo>
                <a:cubicBezTo>
                  <a:pt x="9346" y="17355"/>
                  <a:pt x="9613" y="17376"/>
                  <a:pt x="9624" y="17140"/>
                </a:cubicBezTo>
                <a:cubicBezTo>
                  <a:pt x="9608" y="17099"/>
                  <a:pt x="9591" y="17057"/>
                  <a:pt x="9575" y="17016"/>
                </a:cubicBezTo>
                <a:cubicBezTo>
                  <a:pt x="9376" y="17047"/>
                  <a:pt x="9311" y="17076"/>
                  <a:pt x="9327" y="1728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633840" y="6072120"/>
            <a:ext cx="81000" cy="169920"/>
          </a:xfrm>
          <a:custGeom>
            <a:avLst/>
            <a:gdLst/>
            <a:ahLst/>
            <a:rect l="l" t="t" r="r" b="b"/>
            <a:pathLst>
              <a:path w="224" h="472">
                <a:moveTo>
                  <a:pt x="10319" y="16867"/>
                </a:moveTo>
                <a:cubicBezTo>
                  <a:pt x="10249" y="17029"/>
                  <a:pt x="10180" y="17183"/>
                  <a:pt x="10096" y="173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875040" y="5973840"/>
            <a:ext cx="366840" cy="285840"/>
          </a:xfrm>
          <a:custGeom>
            <a:avLst/>
            <a:gdLst/>
            <a:ahLst/>
            <a:rect l="l" t="t" r="r" b="b"/>
            <a:pathLst>
              <a:path w="1018" h="795">
                <a:moveTo>
                  <a:pt x="10790" y="16942"/>
                </a:moveTo>
                <a:cubicBezTo>
                  <a:pt x="10778" y="17034"/>
                  <a:pt x="10724" y="17264"/>
                  <a:pt x="10790" y="17264"/>
                </a:cubicBezTo>
              </a:path>
              <a:path w="1018" h="795">
                <a:moveTo>
                  <a:pt x="11088" y="16917"/>
                </a:moveTo>
                <a:cubicBezTo>
                  <a:pt x="11010" y="17086"/>
                  <a:pt x="10996" y="17152"/>
                  <a:pt x="11013" y="17338"/>
                </a:cubicBezTo>
                <a:cubicBezTo>
                  <a:pt x="11195" y="17403"/>
                  <a:pt x="11367" y="17351"/>
                  <a:pt x="11410" y="17115"/>
                </a:cubicBezTo>
                <a:cubicBezTo>
                  <a:pt x="11449" y="16899"/>
                  <a:pt x="11179" y="16857"/>
                  <a:pt x="11038" y="16818"/>
                </a:cubicBezTo>
              </a:path>
              <a:path w="1018" h="795">
                <a:moveTo>
                  <a:pt x="11509" y="16594"/>
                </a:moveTo>
                <a:cubicBezTo>
                  <a:pt x="11605" y="16616"/>
                  <a:pt x="11817" y="16713"/>
                  <a:pt x="11733" y="16867"/>
                </a:cubicBezTo>
                <a:cubicBezTo>
                  <a:pt x="11661" y="16999"/>
                  <a:pt x="11527" y="16880"/>
                  <a:pt x="11460" y="16842"/>
                </a:cubicBezTo>
                <a:cubicBezTo>
                  <a:pt x="11452" y="16834"/>
                  <a:pt x="11443" y="16826"/>
                  <a:pt x="11435" y="16818"/>
                </a:cubicBezTo>
                <a:cubicBezTo>
                  <a:pt x="11563" y="16802"/>
                  <a:pt x="11653" y="16829"/>
                  <a:pt x="11782" y="168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562640" y="6045120"/>
            <a:ext cx="45720" cy="125640"/>
          </a:xfrm>
          <a:custGeom>
            <a:avLst/>
            <a:gdLst/>
            <a:ahLst/>
            <a:rect l="l" t="t" r="r" b="b"/>
            <a:pathLst>
              <a:path w="125" h="348">
                <a:moveTo>
                  <a:pt x="12675" y="16793"/>
                </a:moveTo>
                <a:cubicBezTo>
                  <a:pt x="12714" y="16908"/>
                  <a:pt x="12741" y="17039"/>
                  <a:pt x="12799" y="171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983120" y="6027840"/>
            <a:ext cx="214200" cy="169920"/>
          </a:xfrm>
          <a:custGeom>
            <a:avLst/>
            <a:gdLst/>
            <a:ahLst/>
            <a:rect l="l" t="t" r="r" b="b"/>
            <a:pathLst>
              <a:path w="596" h="472">
                <a:moveTo>
                  <a:pt x="13940" y="16743"/>
                </a:moveTo>
                <a:cubicBezTo>
                  <a:pt x="14197" y="16791"/>
                  <a:pt x="14255" y="16857"/>
                  <a:pt x="14337" y="17090"/>
                </a:cubicBezTo>
                <a:cubicBezTo>
                  <a:pt x="14134" y="17246"/>
                  <a:pt x="14065" y="17220"/>
                  <a:pt x="13841" y="17090"/>
                </a:cubicBezTo>
                <a:cubicBezTo>
                  <a:pt x="13968" y="16949"/>
                  <a:pt x="14120" y="17067"/>
                  <a:pt x="14312" y="17115"/>
                </a:cubicBezTo>
                <a:cubicBezTo>
                  <a:pt x="14353" y="17123"/>
                  <a:pt x="14395" y="17132"/>
                  <a:pt x="14436" y="171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653080" y="5946840"/>
            <a:ext cx="293760" cy="295200"/>
          </a:xfrm>
          <a:custGeom>
            <a:avLst/>
            <a:gdLst/>
            <a:ahLst/>
            <a:rect l="l" t="t" r="r" b="b"/>
            <a:pathLst>
              <a:path w="820" h="819">
                <a:moveTo>
                  <a:pt x="15974" y="16768"/>
                </a:moveTo>
                <a:cubicBezTo>
                  <a:pt x="15879" y="16873"/>
                  <a:pt x="15560" y="17146"/>
                  <a:pt x="15776" y="17289"/>
                </a:cubicBezTo>
                <a:cubicBezTo>
                  <a:pt x="15951" y="17406"/>
                  <a:pt x="16338" y="17339"/>
                  <a:pt x="16297" y="17066"/>
                </a:cubicBezTo>
                <a:cubicBezTo>
                  <a:pt x="16277" y="16932"/>
                  <a:pt x="16121" y="16880"/>
                  <a:pt x="16024" y="16818"/>
                </a:cubicBezTo>
              </a:path>
              <a:path w="820" h="819">
                <a:moveTo>
                  <a:pt x="16446" y="16520"/>
                </a:moveTo>
                <a:cubicBezTo>
                  <a:pt x="16410" y="16556"/>
                  <a:pt x="16247" y="16809"/>
                  <a:pt x="16446" y="16768"/>
                </a:cubicBezTo>
                <a:cubicBezTo>
                  <a:pt x="16604" y="16736"/>
                  <a:pt x="16467" y="16601"/>
                  <a:pt x="16446" y="16570"/>
                </a:cubicBezTo>
                <a:cubicBezTo>
                  <a:pt x="16446" y="16562"/>
                  <a:pt x="16446" y="16553"/>
                  <a:pt x="16446" y="165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04920" y="228600"/>
            <a:ext cx="8153280" cy="6400800"/>
          </a:xfrm>
          <a:prstGeom prst="rect">
            <a:avLst/>
          </a:prstGeom>
          <a:noFill/>
          <a:ln w="0">
            <a:noFill/>
          </a:ln>
        </p:spPr>
        <p:txBody>
          <a:bodyPr lIns="90000" rIns="90000" tIns="46800" bIns="46800" anchor="t">
            <a:normAutofit fontScale="56000"/>
          </a:bodyPr>
          <a:p>
            <a:pPr marL="191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191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99ff"/>
                </a:solidFill>
                <a:latin typeface="Arial"/>
              </a:rPr>
              <a:t>Skill Practice:  Write each number using </a:t>
            </a:r>
            <a:r>
              <a:rPr b="1" lang="en-US" sz="3000" spc="-1" strike="noStrike">
                <a:solidFill>
                  <a:srgbClr val="ff6600"/>
                </a:solidFill>
                <a:latin typeface="Arial"/>
              </a:rPr>
              <a:t>expanded</a:t>
            </a:r>
            <a:r>
              <a:rPr b="1" lang="en-US" sz="3000" spc="-1" strike="noStrike">
                <a:solidFill>
                  <a:srgbClr val="3399ff"/>
                </a:solidFill>
                <a:latin typeface="Arial"/>
              </a:rPr>
              <a:t> and </a:t>
            </a:r>
            <a:r>
              <a:rPr b="1" lang="en-US" sz="3000" spc="-1" strike="noStrike">
                <a:solidFill>
                  <a:srgbClr val="ff6600"/>
                </a:solidFill>
                <a:latin typeface="Arial"/>
              </a:rPr>
              <a:t>exponential</a:t>
            </a:r>
            <a:r>
              <a:rPr b="1" lang="en-US" sz="3000" spc="-1" strike="noStrike">
                <a:solidFill>
                  <a:srgbClr val="3399ff"/>
                </a:solidFill>
                <a:latin typeface="Arial"/>
              </a:rPr>
              <a:t> notation.</a:t>
            </a:r>
            <a:endParaRPr b="0" lang="en-US" sz="3000" spc="-1" strike="noStrike">
              <a:solidFill>
                <a:srgbClr val="000000"/>
              </a:solidFill>
              <a:latin typeface="Arial"/>
            </a:endParaRPr>
          </a:p>
          <a:p>
            <a:pPr marL="191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619 =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39,803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endParaRPr b="0" lang="en-US" sz="26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527,304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1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158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Arial"/>
            </a:endParaRPr>
          </a:p>
          <a:p>
            <a:pPr lvl="1" marL="41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41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66"/>
                </a:solidFill>
                <a:latin typeface="Arial"/>
              </a:rPr>
              <a:t>	</a:t>
            </a:r>
            <a:r>
              <a:rPr b="1" lang="en-US" sz="4400" spc="-1" strike="noStrike">
                <a:solidFill>
                  <a:srgbClr val="00cc66"/>
                </a:solidFill>
                <a:latin typeface="Arial"/>
              </a:rPr>
              <a:t>	</a:t>
            </a:r>
            <a:r>
              <a:rPr b="1" lang="en-US" sz="4400" spc="-1" strike="noStrike">
                <a:solidFill>
                  <a:srgbClr val="00cc66"/>
                </a:solidFill>
                <a:latin typeface="Arial"/>
              </a:rPr>
              <a:t>	</a:t>
            </a:r>
            <a:r>
              <a:rPr b="1" lang="en-US" sz="4400" spc="-1" strike="noStrike">
                <a:solidFill>
                  <a:srgbClr val="00cc66"/>
                </a:solidFill>
                <a:latin typeface="Arial"/>
              </a:rPr>
              <a:t>	</a:t>
            </a:r>
            <a:r>
              <a:rPr b="1" lang="en-US" sz="4400" spc="-1" strike="noStrike">
                <a:solidFill>
                  <a:srgbClr val="00cc66"/>
                </a:solidFill>
                <a:latin typeface="Arial"/>
              </a:rPr>
              <a:t>	</a:t>
            </a:r>
            <a:endParaRPr b="0" lang="en-US" sz="4400" spc="-1" strike="noStrike">
              <a:solidFill>
                <a:srgbClr val="000000"/>
              </a:solidFill>
              <a:latin typeface="Arial"/>
            </a:endParaRPr>
          </a:p>
          <a:p>
            <a:pPr lvl="1" marL="415800" indent="0">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a:p>
            <a:pPr lvl="1" marL="415800" indent="0">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cc66"/>
                </a:solidFill>
                <a:latin typeface="Arial"/>
              </a:rPr>
              <a:t>	</a:t>
            </a:r>
            <a:r>
              <a:rPr b="0" lang="en-US" sz="4100" spc="-1" strike="noStrike">
                <a:solidFill>
                  <a:srgbClr val="00cc66"/>
                </a:solidFill>
                <a:latin typeface="Arial"/>
              </a:rPr>
              <a:t>	</a:t>
            </a:r>
            <a:r>
              <a:rPr b="0" lang="en-US" sz="4100" spc="-1" strike="noStrike">
                <a:solidFill>
                  <a:srgbClr val="00cc66"/>
                </a:solidFill>
                <a:latin typeface="Arial"/>
              </a:rPr>
              <a:t>	</a:t>
            </a:r>
            <a:r>
              <a:rPr b="0" lang="en-US" sz="4100" spc="-1" strike="noStrike">
                <a:solidFill>
                  <a:srgbClr val="00cc66"/>
                </a:solidFill>
                <a:latin typeface="Arial"/>
              </a:rPr>
              <a:t>	</a:t>
            </a:r>
            <a:endParaRPr b="0" lang="en-US" sz="4100" spc="-1" strike="noStrike">
              <a:solidFill>
                <a:srgbClr val="000000"/>
              </a:solidFill>
              <a:latin typeface="Arial"/>
            </a:endParaRPr>
          </a:p>
        </p:txBody>
      </p:sp>
      <p:sp>
        <p:nvSpPr>
          <p:cNvPr id="313" name=""/>
          <p:cNvSpPr/>
          <p:nvPr/>
        </p:nvSpPr>
        <p:spPr>
          <a:xfrm>
            <a:off x="1704960" y="2214720"/>
            <a:ext cx="1947960" cy="268200"/>
          </a:xfrm>
          <a:custGeom>
            <a:avLst/>
            <a:gdLst/>
            <a:ahLst/>
            <a:rect l="l" t="t" r="r" b="b"/>
            <a:pathLst>
              <a:path w="5408" h="745">
                <a:moveTo>
                  <a:pt x="4738" y="6152"/>
                </a:moveTo>
                <a:lnTo>
                  <a:pt x="4738" y="6152"/>
                </a:lnTo>
              </a:path>
              <a:path w="5408" h="745">
                <a:moveTo>
                  <a:pt x="10096" y="6573"/>
                </a:moveTo>
                <a:cubicBezTo>
                  <a:pt x="10099" y="6636"/>
                  <a:pt x="10102" y="6914"/>
                  <a:pt x="10145" y="687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973160" y="2276640"/>
            <a:ext cx="544680" cy="215640"/>
          </a:xfrm>
          <a:custGeom>
            <a:avLst/>
            <a:gdLst/>
            <a:ahLst/>
            <a:rect l="l" t="t" r="r" b="b"/>
            <a:pathLst>
              <a:path w="1514" h="597">
                <a:moveTo>
                  <a:pt x="5705" y="6325"/>
                </a:moveTo>
                <a:cubicBezTo>
                  <a:pt x="5608" y="6451"/>
                  <a:pt x="5413" y="6671"/>
                  <a:pt x="5507" y="6846"/>
                </a:cubicBezTo>
                <a:cubicBezTo>
                  <a:pt x="5620" y="7057"/>
                  <a:pt x="5829" y="6763"/>
                  <a:pt x="5904" y="6697"/>
                </a:cubicBezTo>
                <a:cubicBezTo>
                  <a:pt x="5928" y="6623"/>
                  <a:pt x="5936" y="6598"/>
                  <a:pt x="5854" y="6598"/>
                </a:cubicBezTo>
                <a:cubicBezTo>
                  <a:pt x="5669" y="6772"/>
                  <a:pt x="5515" y="6909"/>
                  <a:pt x="5879" y="6821"/>
                </a:cubicBezTo>
              </a:path>
              <a:path w="1514" h="597">
                <a:moveTo>
                  <a:pt x="6201" y="6350"/>
                </a:moveTo>
                <a:cubicBezTo>
                  <a:pt x="6068" y="6495"/>
                  <a:pt x="6003" y="6630"/>
                  <a:pt x="6003" y="6821"/>
                </a:cubicBezTo>
                <a:cubicBezTo>
                  <a:pt x="6090" y="6809"/>
                  <a:pt x="6718" y="6665"/>
                  <a:pt x="6424" y="6449"/>
                </a:cubicBezTo>
                <a:cubicBezTo>
                  <a:pt x="6259" y="6408"/>
                  <a:pt x="6226" y="6384"/>
                  <a:pt x="6127" y="6424"/>
                </a:cubicBezTo>
              </a:path>
              <a:path w="1514" h="597">
                <a:moveTo>
                  <a:pt x="6747" y="6350"/>
                </a:moveTo>
                <a:cubicBezTo>
                  <a:pt x="6548" y="6470"/>
                  <a:pt x="6538" y="6609"/>
                  <a:pt x="6548" y="6846"/>
                </a:cubicBezTo>
                <a:cubicBezTo>
                  <a:pt x="6714" y="6868"/>
                  <a:pt x="7130" y="6829"/>
                  <a:pt x="6970" y="6524"/>
                </a:cubicBezTo>
                <a:cubicBezTo>
                  <a:pt x="6901" y="6392"/>
                  <a:pt x="6794" y="6412"/>
                  <a:pt x="6697" y="64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768760" y="2241720"/>
            <a:ext cx="561960" cy="223560"/>
          </a:xfrm>
          <a:custGeom>
            <a:avLst/>
            <a:gdLst/>
            <a:ahLst/>
            <a:rect l="l" t="t" r="r" b="b"/>
            <a:pathLst>
              <a:path w="1564" h="621">
                <a:moveTo>
                  <a:pt x="7938" y="6474"/>
                </a:moveTo>
                <a:cubicBezTo>
                  <a:pt x="7938" y="6592"/>
                  <a:pt x="8026" y="6920"/>
                  <a:pt x="7962" y="6821"/>
                </a:cubicBezTo>
                <a:cubicBezTo>
                  <a:pt x="7954" y="6796"/>
                  <a:pt x="7946" y="6772"/>
                  <a:pt x="7938" y="6747"/>
                </a:cubicBezTo>
              </a:path>
              <a:path w="1564" h="621">
                <a:moveTo>
                  <a:pt x="7689" y="6598"/>
                </a:moveTo>
                <a:cubicBezTo>
                  <a:pt x="7872" y="6610"/>
                  <a:pt x="8027" y="6638"/>
                  <a:pt x="8210" y="6623"/>
                </a:cubicBezTo>
              </a:path>
              <a:path w="1564" h="621">
                <a:moveTo>
                  <a:pt x="8359" y="6325"/>
                </a:moveTo>
                <a:cubicBezTo>
                  <a:pt x="8415" y="6452"/>
                  <a:pt x="8465" y="6687"/>
                  <a:pt x="8533" y="6772"/>
                </a:cubicBezTo>
              </a:path>
              <a:path w="1564" h="621">
                <a:moveTo>
                  <a:pt x="8930" y="6226"/>
                </a:moveTo>
                <a:cubicBezTo>
                  <a:pt x="8831" y="6333"/>
                  <a:pt x="8613" y="6640"/>
                  <a:pt x="8781" y="6796"/>
                </a:cubicBezTo>
                <a:cubicBezTo>
                  <a:pt x="8982" y="6982"/>
                  <a:pt x="9344" y="6688"/>
                  <a:pt x="9227" y="6449"/>
                </a:cubicBezTo>
                <a:cubicBezTo>
                  <a:pt x="9202" y="6399"/>
                  <a:pt x="8831" y="6226"/>
                  <a:pt x="9029" y="63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554280" y="2295360"/>
            <a:ext cx="490680" cy="196920"/>
          </a:xfrm>
          <a:custGeom>
            <a:avLst/>
            <a:gdLst/>
            <a:ahLst/>
            <a:rect l="l" t="t" r="r" b="b"/>
            <a:pathLst>
              <a:path w="1366" h="547">
                <a:moveTo>
                  <a:pt x="9872" y="6648"/>
                </a:moveTo>
                <a:cubicBezTo>
                  <a:pt x="10081" y="6668"/>
                  <a:pt x="10282" y="6672"/>
                  <a:pt x="10492" y="6672"/>
                </a:cubicBezTo>
              </a:path>
              <a:path w="1366" h="547">
                <a:moveTo>
                  <a:pt x="11187" y="6449"/>
                </a:moveTo>
                <a:cubicBezTo>
                  <a:pt x="11030" y="6309"/>
                  <a:pt x="10868" y="6403"/>
                  <a:pt x="10765" y="6598"/>
                </a:cubicBezTo>
                <a:cubicBezTo>
                  <a:pt x="10765" y="6623"/>
                  <a:pt x="10765" y="6647"/>
                  <a:pt x="10765" y="6672"/>
                </a:cubicBezTo>
                <a:cubicBezTo>
                  <a:pt x="10957" y="6662"/>
                  <a:pt x="11033" y="6611"/>
                  <a:pt x="11137" y="6424"/>
                </a:cubicBezTo>
                <a:cubicBezTo>
                  <a:pt x="11166" y="6588"/>
                  <a:pt x="11172" y="6774"/>
                  <a:pt x="11237" y="692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455840" y="2670120"/>
            <a:ext cx="4554360" cy="500040"/>
          </a:xfrm>
          <a:custGeom>
            <a:avLst/>
            <a:gdLst/>
            <a:ahLst/>
            <a:rect l="l" t="t" r="r" b="b"/>
            <a:pathLst>
              <a:path w="12652" h="1390">
                <a:moveTo>
                  <a:pt x="4366" y="7789"/>
                </a:moveTo>
                <a:cubicBezTo>
                  <a:pt x="4201" y="7997"/>
                  <a:pt x="3978" y="8319"/>
                  <a:pt x="4043" y="8607"/>
                </a:cubicBezTo>
                <a:cubicBezTo>
                  <a:pt x="4111" y="8908"/>
                  <a:pt x="4388" y="8755"/>
                  <a:pt x="4539" y="8706"/>
                </a:cubicBezTo>
              </a:path>
              <a:path w="12652" h="1390">
                <a:moveTo>
                  <a:pt x="6722" y="7565"/>
                </a:moveTo>
                <a:cubicBezTo>
                  <a:pt x="6987" y="7878"/>
                  <a:pt x="7171" y="8151"/>
                  <a:pt x="7045" y="8582"/>
                </a:cubicBezTo>
                <a:cubicBezTo>
                  <a:pt x="6953" y="8718"/>
                  <a:pt x="6934" y="8762"/>
                  <a:pt x="6821" y="8781"/>
                </a:cubicBezTo>
              </a:path>
              <a:path w="12652" h="1390">
                <a:moveTo>
                  <a:pt x="7268" y="8285"/>
                </a:moveTo>
                <a:cubicBezTo>
                  <a:pt x="7474" y="8257"/>
                  <a:pt x="7681" y="8233"/>
                  <a:pt x="7888" y="8210"/>
                </a:cubicBezTo>
              </a:path>
              <a:path w="12652" h="1390">
                <a:moveTo>
                  <a:pt x="8384" y="7665"/>
                </a:moveTo>
                <a:cubicBezTo>
                  <a:pt x="8162" y="7932"/>
                  <a:pt x="7914" y="8242"/>
                  <a:pt x="8136" y="8607"/>
                </a:cubicBezTo>
                <a:cubicBezTo>
                  <a:pt x="8229" y="8760"/>
                  <a:pt x="8418" y="8669"/>
                  <a:pt x="8533" y="8632"/>
                </a:cubicBezTo>
              </a:path>
              <a:path w="12652" h="1390">
                <a:moveTo>
                  <a:pt x="10864" y="7491"/>
                </a:moveTo>
                <a:cubicBezTo>
                  <a:pt x="11114" y="7741"/>
                  <a:pt x="11316" y="8028"/>
                  <a:pt x="11286" y="8409"/>
                </a:cubicBezTo>
                <a:cubicBezTo>
                  <a:pt x="11218" y="8591"/>
                  <a:pt x="11207" y="8646"/>
                  <a:pt x="11088" y="8706"/>
                </a:cubicBezTo>
              </a:path>
              <a:path w="12652" h="1390">
                <a:moveTo>
                  <a:pt x="11807" y="8012"/>
                </a:moveTo>
                <a:cubicBezTo>
                  <a:pt x="11845" y="8143"/>
                  <a:pt x="11904" y="8269"/>
                  <a:pt x="11931" y="8409"/>
                </a:cubicBezTo>
                <a:cubicBezTo>
                  <a:pt x="11931" y="8417"/>
                  <a:pt x="11931" y="8426"/>
                  <a:pt x="11931" y="8434"/>
                </a:cubicBezTo>
              </a:path>
              <a:path w="12652" h="1390">
                <a:moveTo>
                  <a:pt x="11807" y="8136"/>
                </a:moveTo>
                <a:cubicBezTo>
                  <a:pt x="12055" y="8136"/>
                  <a:pt x="12139" y="8136"/>
                  <a:pt x="12303" y="8111"/>
                </a:cubicBezTo>
              </a:path>
              <a:path w="12652" h="1390">
                <a:moveTo>
                  <a:pt x="12898" y="7640"/>
                </a:moveTo>
                <a:cubicBezTo>
                  <a:pt x="12820" y="7893"/>
                  <a:pt x="12543" y="8478"/>
                  <a:pt x="12998" y="8558"/>
                </a:cubicBezTo>
                <a:cubicBezTo>
                  <a:pt x="13056" y="8550"/>
                  <a:pt x="13113" y="8541"/>
                  <a:pt x="13171" y="8533"/>
                </a:cubicBezTo>
              </a:path>
              <a:path w="12652" h="1390">
                <a:moveTo>
                  <a:pt x="14412" y="7962"/>
                </a:moveTo>
                <a:cubicBezTo>
                  <a:pt x="14281" y="8106"/>
                  <a:pt x="14113" y="8249"/>
                  <a:pt x="14114" y="8434"/>
                </a:cubicBezTo>
              </a:path>
              <a:path w="12652" h="1390">
                <a:moveTo>
                  <a:pt x="15974" y="7689"/>
                </a:moveTo>
                <a:cubicBezTo>
                  <a:pt x="15901" y="7763"/>
                  <a:pt x="15876" y="7787"/>
                  <a:pt x="15875" y="7863"/>
                </a:cubicBezTo>
                <a:cubicBezTo>
                  <a:pt x="15938" y="7900"/>
                  <a:pt x="16224" y="8015"/>
                  <a:pt x="16173" y="7813"/>
                </a:cubicBezTo>
                <a:cubicBezTo>
                  <a:pt x="16123" y="7739"/>
                  <a:pt x="16106" y="7714"/>
                  <a:pt x="16049" y="7689"/>
                </a:cubicBezTo>
              </a:path>
              <a:path w="12652" h="1390">
                <a:moveTo>
                  <a:pt x="16148" y="7417"/>
                </a:moveTo>
                <a:cubicBezTo>
                  <a:pt x="16483" y="7545"/>
                  <a:pt x="16736" y="7800"/>
                  <a:pt x="16694" y="8210"/>
                </a:cubicBezTo>
                <a:cubicBezTo>
                  <a:pt x="16670" y="8443"/>
                  <a:pt x="16544" y="8515"/>
                  <a:pt x="16371" y="86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25760" y="2820960"/>
            <a:ext cx="820440" cy="358920"/>
          </a:xfrm>
          <a:custGeom>
            <a:avLst/>
            <a:gdLst/>
            <a:ahLst/>
            <a:rect l="l" t="t" r="r" b="b"/>
            <a:pathLst>
              <a:path w="2283" h="993">
                <a:moveTo>
                  <a:pt x="4663" y="8037"/>
                </a:moveTo>
                <a:cubicBezTo>
                  <a:pt x="4616" y="8203"/>
                  <a:pt x="4499" y="8374"/>
                  <a:pt x="4514" y="8558"/>
                </a:cubicBezTo>
                <a:cubicBezTo>
                  <a:pt x="4531" y="8591"/>
                  <a:pt x="4547" y="8624"/>
                  <a:pt x="4564" y="8657"/>
                </a:cubicBezTo>
                <a:cubicBezTo>
                  <a:pt x="4821" y="8595"/>
                  <a:pt x="4937" y="8587"/>
                  <a:pt x="4936" y="8310"/>
                </a:cubicBezTo>
                <a:cubicBezTo>
                  <a:pt x="4738" y="8360"/>
                  <a:pt x="4685" y="8434"/>
                  <a:pt x="4738" y="8632"/>
                </a:cubicBezTo>
              </a:path>
              <a:path w="2283" h="993">
                <a:moveTo>
                  <a:pt x="5135" y="8260"/>
                </a:moveTo>
                <a:cubicBezTo>
                  <a:pt x="5168" y="8300"/>
                  <a:pt x="5375" y="8626"/>
                  <a:pt x="5432" y="8607"/>
                </a:cubicBezTo>
                <a:cubicBezTo>
                  <a:pt x="5440" y="8582"/>
                  <a:pt x="5449" y="8558"/>
                  <a:pt x="5457" y="8533"/>
                </a:cubicBezTo>
              </a:path>
              <a:path w="2283" h="993">
                <a:moveTo>
                  <a:pt x="5432" y="8136"/>
                </a:moveTo>
                <a:cubicBezTo>
                  <a:pt x="5380" y="8267"/>
                  <a:pt x="5052" y="8900"/>
                  <a:pt x="5159" y="8756"/>
                </a:cubicBezTo>
              </a:path>
              <a:path w="2283" h="993">
                <a:moveTo>
                  <a:pt x="5730" y="8161"/>
                </a:moveTo>
                <a:cubicBezTo>
                  <a:pt x="5730" y="8337"/>
                  <a:pt x="5719" y="8508"/>
                  <a:pt x="5705" y="8682"/>
                </a:cubicBezTo>
                <a:cubicBezTo>
                  <a:pt x="5705" y="8698"/>
                  <a:pt x="5705" y="8715"/>
                  <a:pt x="5705" y="8731"/>
                </a:cubicBezTo>
              </a:path>
              <a:path w="2283" h="993">
                <a:moveTo>
                  <a:pt x="6077" y="8186"/>
                </a:moveTo>
                <a:cubicBezTo>
                  <a:pt x="5912" y="8305"/>
                  <a:pt x="5904" y="8455"/>
                  <a:pt x="5904" y="8657"/>
                </a:cubicBezTo>
                <a:cubicBezTo>
                  <a:pt x="6047" y="8741"/>
                  <a:pt x="6441" y="8734"/>
                  <a:pt x="6375" y="8409"/>
                </a:cubicBezTo>
                <a:cubicBezTo>
                  <a:pt x="6342" y="8244"/>
                  <a:pt x="6127" y="8243"/>
                  <a:pt x="6003" y="8210"/>
                </a:cubicBezTo>
              </a:path>
              <a:path w="2283" h="993">
                <a:moveTo>
                  <a:pt x="6400" y="7863"/>
                </a:moveTo>
                <a:cubicBezTo>
                  <a:pt x="6464" y="7847"/>
                  <a:pt x="6460" y="7850"/>
                  <a:pt x="6524" y="7863"/>
                </a:cubicBezTo>
                <a:cubicBezTo>
                  <a:pt x="6495" y="8026"/>
                  <a:pt x="6448" y="8089"/>
                  <a:pt x="6325" y="8210"/>
                </a:cubicBezTo>
                <a:cubicBezTo>
                  <a:pt x="6513" y="8176"/>
                  <a:pt x="6638" y="8133"/>
                  <a:pt x="6796" y="803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697120" y="2919240"/>
            <a:ext cx="1800" cy="152640"/>
          </a:xfrm>
          <a:custGeom>
            <a:avLst/>
            <a:gdLst/>
            <a:ahLst/>
            <a:rect l="l" t="t" r="r" b="b"/>
            <a:pathLst>
              <a:path w="1" h="423">
                <a:moveTo>
                  <a:pt x="7491" y="8111"/>
                </a:moveTo>
                <a:cubicBezTo>
                  <a:pt x="7491" y="8252"/>
                  <a:pt x="7491" y="8392"/>
                  <a:pt x="7491" y="853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170160" y="2840040"/>
            <a:ext cx="768600" cy="258840"/>
          </a:xfrm>
          <a:custGeom>
            <a:avLst/>
            <a:gdLst/>
            <a:ahLst/>
            <a:rect l="l" t="t" r="r" b="b"/>
            <a:pathLst>
              <a:path w="2134" h="720">
                <a:moveTo>
                  <a:pt x="8830" y="8037"/>
                </a:moveTo>
                <a:cubicBezTo>
                  <a:pt x="8801" y="8166"/>
                  <a:pt x="8781" y="8377"/>
                  <a:pt x="8830" y="8508"/>
                </a:cubicBezTo>
                <a:cubicBezTo>
                  <a:pt x="8838" y="8508"/>
                  <a:pt x="8847" y="8508"/>
                  <a:pt x="8855" y="8508"/>
                </a:cubicBezTo>
              </a:path>
              <a:path w="2134" h="720">
                <a:moveTo>
                  <a:pt x="9153" y="8037"/>
                </a:moveTo>
                <a:cubicBezTo>
                  <a:pt x="9205" y="8146"/>
                  <a:pt x="9293" y="8476"/>
                  <a:pt x="9451" y="8483"/>
                </a:cubicBezTo>
                <a:cubicBezTo>
                  <a:pt x="9467" y="8467"/>
                  <a:pt x="9484" y="8450"/>
                  <a:pt x="9500" y="8434"/>
                </a:cubicBezTo>
              </a:path>
              <a:path w="2134" h="720">
                <a:moveTo>
                  <a:pt x="9525" y="8012"/>
                </a:moveTo>
                <a:cubicBezTo>
                  <a:pt x="9408" y="8146"/>
                  <a:pt x="9238" y="8312"/>
                  <a:pt x="9178" y="8483"/>
                </a:cubicBezTo>
                <a:cubicBezTo>
                  <a:pt x="9178" y="8500"/>
                  <a:pt x="9178" y="8516"/>
                  <a:pt x="9178" y="8533"/>
                </a:cubicBezTo>
              </a:path>
              <a:path w="2134" h="720">
                <a:moveTo>
                  <a:pt x="9872" y="8062"/>
                </a:moveTo>
                <a:cubicBezTo>
                  <a:pt x="9872" y="8248"/>
                  <a:pt x="9874" y="8424"/>
                  <a:pt x="9897" y="8607"/>
                </a:cubicBezTo>
              </a:path>
              <a:path w="2134" h="720">
                <a:moveTo>
                  <a:pt x="10393" y="8037"/>
                </a:moveTo>
                <a:cubicBezTo>
                  <a:pt x="10336" y="8142"/>
                  <a:pt x="10097" y="8479"/>
                  <a:pt x="10269" y="8582"/>
                </a:cubicBezTo>
                <a:cubicBezTo>
                  <a:pt x="10440" y="8685"/>
                  <a:pt x="10731" y="8508"/>
                  <a:pt x="10716" y="8310"/>
                </a:cubicBezTo>
                <a:cubicBezTo>
                  <a:pt x="10705" y="8166"/>
                  <a:pt x="10500" y="8113"/>
                  <a:pt x="10393" y="8086"/>
                </a:cubicBezTo>
              </a:path>
              <a:path w="2134" h="720">
                <a:moveTo>
                  <a:pt x="10864" y="7888"/>
                </a:moveTo>
                <a:cubicBezTo>
                  <a:pt x="10877" y="7966"/>
                  <a:pt x="10901" y="8045"/>
                  <a:pt x="10939" y="81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768920" y="2813040"/>
            <a:ext cx="428400" cy="250920"/>
          </a:xfrm>
          <a:custGeom>
            <a:avLst/>
            <a:gdLst/>
            <a:ahLst/>
            <a:rect l="l" t="t" r="r" b="b"/>
            <a:pathLst>
              <a:path w="1191" h="696">
                <a:moveTo>
                  <a:pt x="13717" y="7913"/>
                </a:moveTo>
                <a:cubicBezTo>
                  <a:pt x="13552" y="7793"/>
                  <a:pt x="13397" y="7766"/>
                  <a:pt x="13271" y="7987"/>
                </a:cubicBezTo>
                <a:cubicBezTo>
                  <a:pt x="13263" y="8037"/>
                  <a:pt x="13254" y="8086"/>
                  <a:pt x="13246" y="8136"/>
                </a:cubicBezTo>
                <a:cubicBezTo>
                  <a:pt x="13483" y="8239"/>
                  <a:pt x="13487" y="8120"/>
                  <a:pt x="13667" y="7962"/>
                </a:cubicBezTo>
                <a:cubicBezTo>
                  <a:pt x="13675" y="7962"/>
                  <a:pt x="13684" y="7962"/>
                  <a:pt x="13692" y="7962"/>
                </a:cubicBezTo>
                <a:cubicBezTo>
                  <a:pt x="13711" y="8129"/>
                  <a:pt x="13717" y="8289"/>
                  <a:pt x="13717" y="8458"/>
                </a:cubicBezTo>
                <a:cubicBezTo>
                  <a:pt x="13717" y="8517"/>
                  <a:pt x="13720" y="8525"/>
                  <a:pt x="13742" y="8434"/>
                </a:cubicBezTo>
              </a:path>
              <a:path w="1191" h="696">
                <a:moveTo>
                  <a:pt x="14064" y="8012"/>
                </a:moveTo>
                <a:cubicBezTo>
                  <a:pt x="14184" y="8139"/>
                  <a:pt x="14280" y="8294"/>
                  <a:pt x="14436" y="83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392800" y="2803680"/>
            <a:ext cx="314280" cy="277560"/>
          </a:xfrm>
          <a:custGeom>
            <a:avLst/>
            <a:gdLst/>
            <a:ahLst/>
            <a:rect l="l" t="t" r="r" b="b"/>
            <a:pathLst>
              <a:path w="869" h="770">
                <a:moveTo>
                  <a:pt x="14982" y="7888"/>
                </a:moveTo>
                <a:cubicBezTo>
                  <a:pt x="14982" y="8065"/>
                  <a:pt x="14937" y="8388"/>
                  <a:pt x="15032" y="8483"/>
                </a:cubicBezTo>
              </a:path>
              <a:path w="869" h="770">
                <a:moveTo>
                  <a:pt x="15528" y="7789"/>
                </a:moveTo>
                <a:cubicBezTo>
                  <a:pt x="15341" y="8054"/>
                  <a:pt x="15234" y="8205"/>
                  <a:pt x="15304" y="8508"/>
                </a:cubicBezTo>
                <a:cubicBezTo>
                  <a:pt x="15515" y="8537"/>
                  <a:pt x="15920" y="8551"/>
                  <a:pt x="15850" y="8186"/>
                </a:cubicBezTo>
                <a:cubicBezTo>
                  <a:pt x="15821" y="8033"/>
                  <a:pt x="15643" y="7956"/>
                  <a:pt x="15528" y="78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411360" y="3848040"/>
            <a:ext cx="2517840" cy="135000"/>
          </a:xfrm>
          <a:custGeom>
            <a:avLst/>
            <a:gdLst/>
            <a:ahLst/>
            <a:rect l="l" t="t" r="r" b="b"/>
            <a:pathLst>
              <a:path w="6996" h="373">
                <a:moveTo>
                  <a:pt x="9475" y="10840"/>
                </a:moveTo>
                <a:cubicBezTo>
                  <a:pt x="9676" y="10816"/>
                  <a:pt x="9869" y="10797"/>
                  <a:pt x="10071" y="10790"/>
                </a:cubicBezTo>
              </a:path>
              <a:path w="6996" h="373">
                <a:moveTo>
                  <a:pt x="13097" y="10691"/>
                </a:moveTo>
                <a:cubicBezTo>
                  <a:pt x="13143" y="10810"/>
                  <a:pt x="13190" y="10940"/>
                  <a:pt x="13221" y="11063"/>
                </a:cubicBezTo>
              </a:path>
              <a:path w="6996" h="373">
                <a:moveTo>
                  <a:pt x="16098" y="10691"/>
                </a:moveTo>
                <a:cubicBezTo>
                  <a:pt x="16104" y="10785"/>
                  <a:pt x="16144" y="11006"/>
                  <a:pt x="16148" y="11013"/>
                </a:cubicBezTo>
              </a:path>
              <a:path w="6996" h="373">
                <a:moveTo>
                  <a:pt x="15949" y="10790"/>
                </a:moveTo>
                <a:cubicBezTo>
                  <a:pt x="16205" y="10816"/>
                  <a:pt x="16296" y="10823"/>
                  <a:pt x="16470" y="10790"/>
                </a:cubicBezTo>
              </a:path>
              <a:path w="6996" h="373">
                <a:moveTo>
                  <a:pt x="16470" y="10790"/>
                </a:moveTo>
                <a:lnTo>
                  <a:pt x="16470" y="10790"/>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313000" y="3786120"/>
            <a:ext cx="1179360" cy="374760"/>
          </a:xfrm>
          <a:custGeom>
            <a:avLst/>
            <a:gdLst/>
            <a:ahLst/>
            <a:rect l="l" t="t" r="r" b="b"/>
            <a:pathLst>
              <a:path w="3276" h="1043">
                <a:moveTo>
                  <a:pt x="6573" y="10592"/>
                </a:moveTo>
                <a:cubicBezTo>
                  <a:pt x="6614" y="10573"/>
                  <a:pt x="6995" y="10413"/>
                  <a:pt x="6945" y="10592"/>
                </a:cubicBezTo>
                <a:cubicBezTo>
                  <a:pt x="6837" y="10700"/>
                  <a:pt x="6793" y="10740"/>
                  <a:pt x="6697" y="10790"/>
                </a:cubicBezTo>
                <a:cubicBezTo>
                  <a:pt x="6672" y="10807"/>
                  <a:pt x="6648" y="10823"/>
                  <a:pt x="6623" y="10840"/>
                </a:cubicBezTo>
                <a:cubicBezTo>
                  <a:pt x="6926" y="10704"/>
                  <a:pt x="7064" y="10990"/>
                  <a:pt x="6747" y="11162"/>
                </a:cubicBezTo>
                <a:cubicBezTo>
                  <a:pt x="6578" y="11211"/>
                  <a:pt x="6524" y="11229"/>
                  <a:pt x="6424" y="11137"/>
                </a:cubicBezTo>
              </a:path>
              <a:path w="3276" h="1043">
                <a:moveTo>
                  <a:pt x="6945" y="10641"/>
                </a:moveTo>
                <a:cubicBezTo>
                  <a:pt x="6904" y="10938"/>
                  <a:pt x="6886" y="10973"/>
                  <a:pt x="7045" y="11212"/>
                </a:cubicBezTo>
                <a:cubicBezTo>
                  <a:pt x="7320" y="11089"/>
                  <a:pt x="7539" y="10911"/>
                  <a:pt x="7243" y="10616"/>
                </a:cubicBezTo>
                <a:cubicBezTo>
                  <a:pt x="7099" y="10544"/>
                  <a:pt x="7054" y="10519"/>
                  <a:pt x="6945" y="10567"/>
                </a:cubicBezTo>
              </a:path>
              <a:path w="3276" h="1043">
                <a:moveTo>
                  <a:pt x="7441" y="11237"/>
                </a:moveTo>
                <a:cubicBezTo>
                  <a:pt x="7457" y="11387"/>
                  <a:pt x="7434" y="11529"/>
                  <a:pt x="7491" y="11509"/>
                </a:cubicBezTo>
              </a:path>
              <a:path w="3276" h="1043">
                <a:moveTo>
                  <a:pt x="7962" y="10666"/>
                </a:moveTo>
                <a:cubicBezTo>
                  <a:pt x="7746" y="10766"/>
                  <a:pt x="7723" y="10955"/>
                  <a:pt x="7714" y="11187"/>
                </a:cubicBezTo>
                <a:cubicBezTo>
                  <a:pt x="7888" y="11180"/>
                  <a:pt x="8361" y="11078"/>
                  <a:pt x="8086" y="10790"/>
                </a:cubicBezTo>
                <a:cubicBezTo>
                  <a:pt x="7936" y="10726"/>
                  <a:pt x="7902" y="10713"/>
                  <a:pt x="7813" y="10666"/>
                </a:cubicBezTo>
              </a:path>
              <a:path w="3276" h="1043">
                <a:moveTo>
                  <a:pt x="8359" y="10616"/>
                </a:moveTo>
                <a:cubicBezTo>
                  <a:pt x="8218" y="10852"/>
                  <a:pt x="8173" y="10887"/>
                  <a:pt x="8235" y="11137"/>
                </a:cubicBezTo>
                <a:cubicBezTo>
                  <a:pt x="8410" y="11113"/>
                  <a:pt x="9023" y="10998"/>
                  <a:pt x="8632" y="10716"/>
                </a:cubicBezTo>
                <a:cubicBezTo>
                  <a:pt x="8475" y="10671"/>
                  <a:pt x="8435" y="10658"/>
                  <a:pt x="8334" y="10641"/>
                </a:cubicBezTo>
              </a:path>
              <a:path w="3276" h="1043">
                <a:moveTo>
                  <a:pt x="8830" y="10567"/>
                </a:moveTo>
                <a:cubicBezTo>
                  <a:pt x="8722" y="10816"/>
                  <a:pt x="8705" y="10857"/>
                  <a:pt x="8781" y="11112"/>
                </a:cubicBezTo>
                <a:cubicBezTo>
                  <a:pt x="8965" y="11138"/>
                  <a:pt x="9449" y="11130"/>
                  <a:pt x="9277" y="10765"/>
                </a:cubicBezTo>
                <a:cubicBezTo>
                  <a:pt x="9196" y="10593"/>
                  <a:pt x="9019" y="10624"/>
                  <a:pt x="8880" y="10641"/>
                </a:cubicBezTo>
              </a:path>
              <a:path w="3276" h="1043">
                <a:moveTo>
                  <a:pt x="9624" y="10616"/>
                </a:moveTo>
                <a:cubicBezTo>
                  <a:pt x="9638" y="10731"/>
                  <a:pt x="9729" y="10958"/>
                  <a:pt x="9699" y="11063"/>
                </a:cubicBezTo>
                <a:cubicBezTo>
                  <a:pt x="9691" y="11055"/>
                  <a:pt x="9682" y="11046"/>
                  <a:pt x="9674"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741840" y="3768840"/>
            <a:ext cx="1795320" cy="347400"/>
          </a:xfrm>
          <a:custGeom>
            <a:avLst/>
            <a:gdLst/>
            <a:ahLst/>
            <a:rect l="l" t="t" r="r" b="b"/>
            <a:pathLst>
              <a:path w="4987" h="968">
                <a:moveTo>
                  <a:pt x="10840" y="10666"/>
                </a:moveTo>
                <a:cubicBezTo>
                  <a:pt x="10872" y="10583"/>
                  <a:pt x="10799" y="10435"/>
                  <a:pt x="10666" y="10468"/>
                </a:cubicBezTo>
                <a:cubicBezTo>
                  <a:pt x="10428" y="10527"/>
                  <a:pt x="10425" y="10669"/>
                  <a:pt x="10443" y="10840"/>
                </a:cubicBezTo>
                <a:cubicBezTo>
                  <a:pt x="10672" y="10812"/>
                  <a:pt x="10806" y="10862"/>
                  <a:pt x="10840" y="10592"/>
                </a:cubicBezTo>
                <a:cubicBezTo>
                  <a:pt x="10857" y="10782"/>
                  <a:pt x="10873" y="10971"/>
                  <a:pt x="10889" y="11162"/>
                </a:cubicBezTo>
                <a:cubicBezTo>
                  <a:pt x="10889" y="11170"/>
                  <a:pt x="10889" y="11179"/>
                  <a:pt x="10889" y="11187"/>
                </a:cubicBezTo>
              </a:path>
              <a:path w="4987" h="968">
                <a:moveTo>
                  <a:pt x="11435" y="10641"/>
                </a:moveTo>
                <a:cubicBezTo>
                  <a:pt x="11333" y="10540"/>
                  <a:pt x="11232" y="10591"/>
                  <a:pt x="11137" y="10691"/>
                </a:cubicBezTo>
                <a:cubicBezTo>
                  <a:pt x="11043" y="10832"/>
                  <a:pt x="11009" y="10872"/>
                  <a:pt x="11063" y="10988"/>
                </a:cubicBezTo>
                <a:cubicBezTo>
                  <a:pt x="11243" y="11023"/>
                  <a:pt x="11667" y="11058"/>
                  <a:pt x="11509" y="10716"/>
                </a:cubicBezTo>
                <a:cubicBezTo>
                  <a:pt x="11468" y="10626"/>
                  <a:pt x="11337" y="10626"/>
                  <a:pt x="11261" y="10616"/>
                </a:cubicBezTo>
              </a:path>
              <a:path w="4987" h="968">
                <a:moveTo>
                  <a:pt x="11708" y="10517"/>
                </a:moveTo>
                <a:cubicBezTo>
                  <a:pt x="11603" y="10749"/>
                  <a:pt x="11543" y="10869"/>
                  <a:pt x="11658" y="11088"/>
                </a:cubicBezTo>
                <a:cubicBezTo>
                  <a:pt x="11841" y="11034"/>
                  <a:pt x="12172" y="10910"/>
                  <a:pt x="11906" y="10666"/>
                </a:cubicBezTo>
                <a:cubicBezTo>
                  <a:pt x="11785" y="10606"/>
                  <a:pt x="11766" y="10581"/>
                  <a:pt x="11683" y="10592"/>
                </a:cubicBezTo>
              </a:path>
              <a:path w="4987" h="968">
                <a:moveTo>
                  <a:pt x="12303" y="10517"/>
                </a:moveTo>
                <a:cubicBezTo>
                  <a:pt x="12131" y="10715"/>
                  <a:pt x="12097" y="10763"/>
                  <a:pt x="12080" y="11013"/>
                </a:cubicBezTo>
                <a:cubicBezTo>
                  <a:pt x="12196" y="11025"/>
                  <a:pt x="12809" y="10970"/>
                  <a:pt x="12526" y="10666"/>
                </a:cubicBezTo>
                <a:cubicBezTo>
                  <a:pt x="12298" y="10581"/>
                  <a:pt x="12201" y="10564"/>
                  <a:pt x="12030" y="10666"/>
                </a:cubicBezTo>
              </a:path>
              <a:path w="4987" h="968">
                <a:moveTo>
                  <a:pt x="11137" y="11212"/>
                </a:moveTo>
                <a:cubicBezTo>
                  <a:pt x="11137" y="11303"/>
                  <a:pt x="11157" y="11365"/>
                  <a:pt x="11088" y="11435"/>
                </a:cubicBezTo>
                <a:cubicBezTo>
                  <a:pt x="11088" y="11427"/>
                  <a:pt x="11088" y="11418"/>
                  <a:pt x="11088" y="11410"/>
                </a:cubicBezTo>
              </a:path>
              <a:path w="4987" h="968">
                <a:moveTo>
                  <a:pt x="12923" y="10815"/>
                </a:moveTo>
                <a:cubicBezTo>
                  <a:pt x="13126" y="10815"/>
                  <a:pt x="13317" y="10809"/>
                  <a:pt x="13519" y="10790"/>
                </a:cubicBezTo>
              </a:path>
              <a:path w="4987" h="968">
                <a:moveTo>
                  <a:pt x="13891" y="10517"/>
                </a:moveTo>
                <a:cubicBezTo>
                  <a:pt x="13495" y="10616"/>
                  <a:pt x="13587" y="10689"/>
                  <a:pt x="13891" y="10914"/>
                </a:cubicBezTo>
                <a:cubicBezTo>
                  <a:pt x="13949" y="10955"/>
                  <a:pt x="14006" y="10997"/>
                  <a:pt x="14064" y="11038"/>
                </a:cubicBezTo>
                <a:cubicBezTo>
                  <a:pt x="14064" y="11055"/>
                  <a:pt x="14064" y="11071"/>
                  <a:pt x="14064" y="11088"/>
                </a:cubicBezTo>
                <a:cubicBezTo>
                  <a:pt x="13740" y="11100"/>
                  <a:pt x="13616" y="10996"/>
                  <a:pt x="13940" y="10765"/>
                </a:cubicBezTo>
                <a:cubicBezTo>
                  <a:pt x="14105" y="10648"/>
                  <a:pt x="14167" y="10695"/>
                  <a:pt x="13990" y="10567"/>
                </a:cubicBezTo>
              </a:path>
              <a:path w="4987" h="968">
                <a:moveTo>
                  <a:pt x="14486" y="10592"/>
                </a:moveTo>
                <a:cubicBezTo>
                  <a:pt x="14285" y="10649"/>
                  <a:pt x="14269" y="10788"/>
                  <a:pt x="14213" y="10964"/>
                </a:cubicBezTo>
                <a:cubicBezTo>
                  <a:pt x="14360" y="11034"/>
                  <a:pt x="14882" y="11193"/>
                  <a:pt x="14784" y="10815"/>
                </a:cubicBezTo>
                <a:cubicBezTo>
                  <a:pt x="14755" y="10703"/>
                  <a:pt x="14591" y="10647"/>
                  <a:pt x="14536" y="10592"/>
                </a:cubicBezTo>
              </a:path>
              <a:path w="4987" h="968">
                <a:moveTo>
                  <a:pt x="14982" y="10567"/>
                </a:moveTo>
                <a:cubicBezTo>
                  <a:pt x="14836" y="10729"/>
                  <a:pt x="14663" y="11026"/>
                  <a:pt x="15056" y="11038"/>
                </a:cubicBezTo>
                <a:cubicBezTo>
                  <a:pt x="15332" y="11046"/>
                  <a:pt x="15479" y="10843"/>
                  <a:pt x="15205" y="10691"/>
                </a:cubicBezTo>
                <a:cubicBezTo>
                  <a:pt x="15155" y="10674"/>
                  <a:pt x="15106" y="10658"/>
                  <a:pt x="15056" y="106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973840" y="3795840"/>
            <a:ext cx="206280" cy="187200"/>
          </a:xfrm>
          <a:custGeom>
            <a:avLst/>
            <a:gdLst/>
            <a:ahLst/>
            <a:rect l="l" t="t" r="r" b="b"/>
            <a:pathLst>
              <a:path w="572" h="522">
                <a:moveTo>
                  <a:pt x="16669" y="10542"/>
                </a:moveTo>
                <a:cubicBezTo>
                  <a:pt x="16775" y="10547"/>
                  <a:pt x="17150" y="10523"/>
                  <a:pt x="16892" y="10691"/>
                </a:cubicBezTo>
                <a:cubicBezTo>
                  <a:pt x="16798" y="10728"/>
                  <a:pt x="16780" y="10721"/>
                  <a:pt x="16743" y="10765"/>
                </a:cubicBezTo>
                <a:cubicBezTo>
                  <a:pt x="16958" y="10776"/>
                  <a:pt x="16996" y="10796"/>
                  <a:pt x="17165" y="10914"/>
                </a:cubicBezTo>
                <a:cubicBezTo>
                  <a:pt x="16975" y="11179"/>
                  <a:pt x="16812" y="11042"/>
                  <a:pt x="16594" y="108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062000" y="4276800"/>
            <a:ext cx="5430960" cy="420480"/>
          </a:xfrm>
          <a:custGeom>
            <a:avLst/>
            <a:gdLst/>
            <a:ahLst/>
            <a:rect l="l" t="t" r="r" b="b"/>
            <a:pathLst>
              <a:path w="15082" h="1167">
                <a:moveTo>
                  <a:pt x="3249" y="12080"/>
                </a:moveTo>
                <a:cubicBezTo>
                  <a:pt x="3077" y="12289"/>
                  <a:pt x="2873" y="12580"/>
                  <a:pt x="2952" y="12874"/>
                </a:cubicBezTo>
                <a:cubicBezTo>
                  <a:pt x="3065" y="12987"/>
                  <a:pt x="3117" y="13020"/>
                  <a:pt x="3249" y="12973"/>
                </a:cubicBezTo>
              </a:path>
              <a:path w="15082" h="1167">
                <a:moveTo>
                  <a:pt x="5829" y="11881"/>
                </a:moveTo>
                <a:cubicBezTo>
                  <a:pt x="6031" y="12193"/>
                  <a:pt x="6284" y="12516"/>
                  <a:pt x="6077" y="12898"/>
                </a:cubicBezTo>
                <a:cubicBezTo>
                  <a:pt x="5981" y="12994"/>
                  <a:pt x="5976" y="13053"/>
                  <a:pt x="5904" y="12998"/>
                </a:cubicBezTo>
              </a:path>
              <a:path w="15082" h="1167">
                <a:moveTo>
                  <a:pt x="6474" y="12576"/>
                </a:moveTo>
                <a:cubicBezTo>
                  <a:pt x="6715" y="12549"/>
                  <a:pt x="6806" y="12538"/>
                  <a:pt x="6970" y="12502"/>
                </a:cubicBezTo>
              </a:path>
              <a:path w="15082" h="1167">
                <a:moveTo>
                  <a:pt x="6970" y="12502"/>
                </a:moveTo>
                <a:lnTo>
                  <a:pt x="6970" y="12502"/>
                </a:lnTo>
              </a:path>
              <a:path w="15082" h="1167">
                <a:moveTo>
                  <a:pt x="7491" y="12105"/>
                </a:moveTo>
                <a:cubicBezTo>
                  <a:pt x="7406" y="12489"/>
                  <a:pt x="7240" y="12773"/>
                  <a:pt x="7640" y="12923"/>
                </a:cubicBezTo>
              </a:path>
              <a:path w="15082" h="1167">
                <a:moveTo>
                  <a:pt x="8409" y="12278"/>
                </a:moveTo>
                <a:cubicBezTo>
                  <a:pt x="8518" y="12450"/>
                  <a:pt x="8604" y="12632"/>
                  <a:pt x="8781" y="12700"/>
                </a:cubicBezTo>
              </a:path>
              <a:path w="15082" h="1167">
                <a:moveTo>
                  <a:pt x="9847" y="11906"/>
                </a:moveTo>
                <a:cubicBezTo>
                  <a:pt x="10124" y="12079"/>
                  <a:pt x="10419" y="12342"/>
                  <a:pt x="10319" y="12725"/>
                </a:cubicBezTo>
                <a:cubicBezTo>
                  <a:pt x="10202" y="12888"/>
                  <a:pt x="10173" y="12944"/>
                  <a:pt x="10021" y="12923"/>
                </a:cubicBezTo>
              </a:path>
              <a:path w="15082" h="1167">
                <a:moveTo>
                  <a:pt x="10740" y="12526"/>
                </a:moveTo>
                <a:cubicBezTo>
                  <a:pt x="10888" y="12497"/>
                  <a:pt x="10954" y="12486"/>
                  <a:pt x="11063" y="12477"/>
                </a:cubicBezTo>
              </a:path>
              <a:path w="15082" h="1167">
                <a:moveTo>
                  <a:pt x="11063" y="12477"/>
                </a:moveTo>
                <a:lnTo>
                  <a:pt x="11063" y="12477"/>
                </a:lnTo>
              </a:path>
              <a:path w="15082" h="1167">
                <a:moveTo>
                  <a:pt x="11609" y="12129"/>
                </a:moveTo>
                <a:cubicBezTo>
                  <a:pt x="11538" y="12389"/>
                  <a:pt x="11306" y="12939"/>
                  <a:pt x="11782" y="12998"/>
                </a:cubicBezTo>
                <a:cubicBezTo>
                  <a:pt x="11856" y="12981"/>
                  <a:pt x="11931" y="12965"/>
                  <a:pt x="12005" y="12948"/>
                </a:cubicBezTo>
              </a:path>
              <a:path w="15082" h="1167">
                <a:moveTo>
                  <a:pt x="12750" y="12378"/>
                </a:moveTo>
                <a:cubicBezTo>
                  <a:pt x="12679" y="12494"/>
                  <a:pt x="12562" y="12666"/>
                  <a:pt x="12551" y="12774"/>
                </a:cubicBezTo>
              </a:path>
              <a:path w="15082" h="1167">
                <a:moveTo>
                  <a:pt x="14288" y="11931"/>
                </a:moveTo>
                <a:cubicBezTo>
                  <a:pt x="14514" y="12184"/>
                  <a:pt x="14861" y="12517"/>
                  <a:pt x="14660" y="12898"/>
                </a:cubicBezTo>
                <a:cubicBezTo>
                  <a:pt x="14602" y="12948"/>
                  <a:pt x="14544" y="12997"/>
                  <a:pt x="14486" y="13047"/>
                </a:cubicBezTo>
              </a:path>
              <a:path w="15082" h="1167">
                <a:moveTo>
                  <a:pt x="14908" y="12551"/>
                </a:moveTo>
                <a:cubicBezTo>
                  <a:pt x="15087" y="12540"/>
                  <a:pt x="15208" y="12505"/>
                  <a:pt x="15379" y="12452"/>
                </a:cubicBezTo>
              </a:path>
              <a:path w="15082" h="1167">
                <a:moveTo>
                  <a:pt x="15379" y="12452"/>
                </a:moveTo>
                <a:lnTo>
                  <a:pt x="15379" y="12452"/>
                </a:lnTo>
              </a:path>
              <a:path w="15082" h="1167">
                <a:moveTo>
                  <a:pt x="15701" y="12229"/>
                </a:moveTo>
                <a:cubicBezTo>
                  <a:pt x="15602" y="12571"/>
                  <a:pt x="15404" y="12888"/>
                  <a:pt x="15825" y="12923"/>
                </a:cubicBezTo>
              </a:path>
              <a:path w="15082" h="1167">
                <a:moveTo>
                  <a:pt x="16371" y="12378"/>
                </a:moveTo>
                <a:cubicBezTo>
                  <a:pt x="16451" y="12425"/>
                  <a:pt x="16496" y="12536"/>
                  <a:pt x="16545" y="12626"/>
                </a:cubicBezTo>
              </a:path>
              <a:path w="15082" h="1167">
                <a:moveTo>
                  <a:pt x="16917" y="12328"/>
                </a:moveTo>
                <a:cubicBezTo>
                  <a:pt x="16935" y="12521"/>
                  <a:pt x="16941" y="12683"/>
                  <a:pt x="16917" y="12874"/>
                </a:cubicBezTo>
              </a:path>
              <a:path w="15082" h="1167">
                <a:moveTo>
                  <a:pt x="17735" y="12055"/>
                </a:moveTo>
                <a:cubicBezTo>
                  <a:pt x="17988" y="12451"/>
                  <a:pt x="18164" y="12641"/>
                  <a:pt x="17785" y="129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7920" y="4348080"/>
            <a:ext cx="930240" cy="304920"/>
          </a:xfrm>
          <a:custGeom>
            <a:avLst/>
            <a:gdLst/>
            <a:ahLst/>
            <a:rect l="l" t="t" r="r" b="b"/>
            <a:pathLst>
              <a:path w="2581" h="844">
                <a:moveTo>
                  <a:pt x="3299" y="12303"/>
                </a:moveTo>
                <a:cubicBezTo>
                  <a:pt x="3443" y="12298"/>
                  <a:pt x="3842" y="12297"/>
                  <a:pt x="3522" y="12502"/>
                </a:cubicBezTo>
                <a:cubicBezTo>
                  <a:pt x="3432" y="12538"/>
                  <a:pt x="3426" y="12554"/>
                  <a:pt x="3373" y="12551"/>
                </a:cubicBezTo>
                <a:cubicBezTo>
                  <a:pt x="3598" y="12530"/>
                  <a:pt x="3603" y="12534"/>
                  <a:pt x="3770" y="12675"/>
                </a:cubicBezTo>
                <a:cubicBezTo>
                  <a:pt x="3548" y="12898"/>
                  <a:pt x="3466" y="12875"/>
                  <a:pt x="3274" y="12650"/>
                </a:cubicBezTo>
              </a:path>
              <a:path w="2581" h="844">
                <a:moveTo>
                  <a:pt x="3845" y="12328"/>
                </a:moveTo>
                <a:cubicBezTo>
                  <a:pt x="4014" y="12441"/>
                  <a:pt x="4117" y="12630"/>
                  <a:pt x="4266" y="12774"/>
                </a:cubicBezTo>
                <a:cubicBezTo>
                  <a:pt x="4314" y="12798"/>
                  <a:pt x="4331" y="12809"/>
                  <a:pt x="4316" y="12750"/>
                </a:cubicBezTo>
              </a:path>
              <a:path w="2581" h="844">
                <a:moveTo>
                  <a:pt x="4192" y="12378"/>
                </a:moveTo>
                <a:cubicBezTo>
                  <a:pt x="4057" y="12549"/>
                  <a:pt x="3808" y="12871"/>
                  <a:pt x="3944" y="12700"/>
                </a:cubicBezTo>
              </a:path>
              <a:path w="2581" h="844">
                <a:moveTo>
                  <a:pt x="4663" y="12353"/>
                </a:moveTo>
                <a:cubicBezTo>
                  <a:pt x="4708" y="12531"/>
                  <a:pt x="4535" y="12850"/>
                  <a:pt x="4713" y="12898"/>
                </a:cubicBezTo>
                <a:cubicBezTo>
                  <a:pt x="4738" y="12882"/>
                  <a:pt x="4762" y="12865"/>
                  <a:pt x="4787" y="12849"/>
                </a:cubicBezTo>
              </a:path>
              <a:path w="2581" h="844">
                <a:moveTo>
                  <a:pt x="5110" y="12278"/>
                </a:moveTo>
                <a:cubicBezTo>
                  <a:pt x="5013" y="12542"/>
                  <a:pt x="4921" y="12704"/>
                  <a:pt x="5085" y="12923"/>
                </a:cubicBezTo>
                <a:cubicBezTo>
                  <a:pt x="5269" y="12870"/>
                  <a:pt x="5669" y="12708"/>
                  <a:pt x="5407" y="12427"/>
                </a:cubicBezTo>
                <a:cubicBezTo>
                  <a:pt x="5260" y="12364"/>
                  <a:pt x="5231" y="12347"/>
                  <a:pt x="5135" y="12328"/>
                </a:cubicBezTo>
              </a:path>
              <a:path w="2581" h="844">
                <a:moveTo>
                  <a:pt x="5556" y="12204"/>
                </a:moveTo>
                <a:cubicBezTo>
                  <a:pt x="5545" y="12292"/>
                  <a:pt x="5498" y="12363"/>
                  <a:pt x="5631" y="12353"/>
                </a:cubicBezTo>
                <a:cubicBezTo>
                  <a:pt x="5756" y="12332"/>
                  <a:pt x="5783" y="12331"/>
                  <a:pt x="5854" y="12303"/>
                </a:cubicBezTo>
              </a:path>
              <a:path w="2581" h="844">
                <a:moveTo>
                  <a:pt x="5755" y="12080"/>
                </a:moveTo>
                <a:cubicBezTo>
                  <a:pt x="5755" y="12209"/>
                  <a:pt x="5759" y="12326"/>
                  <a:pt x="5779" y="124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394000" y="4429080"/>
            <a:ext cx="17280" cy="169920"/>
          </a:xfrm>
          <a:custGeom>
            <a:avLst/>
            <a:gdLst/>
            <a:ahLst/>
            <a:rect l="l" t="t" r="r" b="b"/>
            <a:pathLst>
              <a:path w="50" h="472">
                <a:moveTo>
                  <a:pt x="6648" y="12303"/>
                </a:moveTo>
                <a:cubicBezTo>
                  <a:pt x="6665" y="12463"/>
                  <a:pt x="6697" y="12611"/>
                  <a:pt x="6697" y="1277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759040" y="4367160"/>
            <a:ext cx="822240" cy="276120"/>
          </a:xfrm>
          <a:custGeom>
            <a:avLst/>
            <a:gdLst/>
            <a:ahLst/>
            <a:rect l="l" t="t" r="r" b="b"/>
            <a:pathLst>
              <a:path w="2283" h="770">
                <a:moveTo>
                  <a:pt x="8111" y="12303"/>
                </a:moveTo>
                <a:cubicBezTo>
                  <a:pt x="8021" y="12169"/>
                  <a:pt x="7911" y="12089"/>
                  <a:pt x="7764" y="12229"/>
                </a:cubicBezTo>
                <a:cubicBezTo>
                  <a:pt x="7554" y="12430"/>
                  <a:pt x="7748" y="12717"/>
                  <a:pt x="7987" y="12502"/>
                </a:cubicBezTo>
                <a:cubicBezTo>
                  <a:pt x="8041" y="12395"/>
                  <a:pt x="8066" y="12393"/>
                  <a:pt x="8062" y="12328"/>
                </a:cubicBezTo>
                <a:cubicBezTo>
                  <a:pt x="8091" y="12450"/>
                  <a:pt x="8142" y="12590"/>
                  <a:pt x="8161" y="12725"/>
                </a:cubicBezTo>
                <a:cubicBezTo>
                  <a:pt x="8161" y="12741"/>
                  <a:pt x="8161" y="12758"/>
                  <a:pt x="8161" y="12774"/>
                </a:cubicBezTo>
              </a:path>
              <a:path w="2283" h="770">
                <a:moveTo>
                  <a:pt x="8657" y="12328"/>
                </a:moveTo>
                <a:cubicBezTo>
                  <a:pt x="8557" y="12468"/>
                  <a:pt x="8457" y="12608"/>
                  <a:pt x="8359" y="12750"/>
                </a:cubicBezTo>
              </a:path>
              <a:path w="2283" h="770">
                <a:moveTo>
                  <a:pt x="8979" y="12278"/>
                </a:moveTo>
                <a:cubicBezTo>
                  <a:pt x="8979" y="12459"/>
                  <a:pt x="8943" y="12675"/>
                  <a:pt x="9004" y="12849"/>
                </a:cubicBezTo>
                <a:cubicBezTo>
                  <a:pt x="9012" y="12849"/>
                  <a:pt x="9021" y="12849"/>
                  <a:pt x="9029" y="12849"/>
                </a:cubicBezTo>
              </a:path>
              <a:path w="2283" h="770">
                <a:moveTo>
                  <a:pt x="9376" y="12328"/>
                </a:moveTo>
                <a:cubicBezTo>
                  <a:pt x="9293" y="12529"/>
                  <a:pt x="9252" y="12640"/>
                  <a:pt x="9252" y="12849"/>
                </a:cubicBezTo>
                <a:cubicBezTo>
                  <a:pt x="9448" y="12875"/>
                  <a:pt x="9773" y="12814"/>
                  <a:pt x="9674" y="12502"/>
                </a:cubicBezTo>
                <a:cubicBezTo>
                  <a:pt x="9571" y="12398"/>
                  <a:pt x="9533" y="12363"/>
                  <a:pt x="9426" y="12353"/>
                </a:cubicBezTo>
              </a:path>
              <a:path w="2283" h="770">
                <a:moveTo>
                  <a:pt x="9699" y="12129"/>
                </a:moveTo>
                <a:cubicBezTo>
                  <a:pt x="9747" y="12129"/>
                  <a:pt x="9917" y="12147"/>
                  <a:pt x="9823" y="12229"/>
                </a:cubicBezTo>
                <a:cubicBezTo>
                  <a:pt x="9798" y="12237"/>
                  <a:pt x="9773" y="12246"/>
                  <a:pt x="9748" y="12254"/>
                </a:cubicBezTo>
                <a:cubicBezTo>
                  <a:pt x="9822" y="12282"/>
                  <a:pt x="9873" y="12254"/>
                  <a:pt x="9947" y="12328"/>
                </a:cubicBezTo>
                <a:cubicBezTo>
                  <a:pt x="9812" y="12463"/>
                  <a:pt x="9814" y="12462"/>
                  <a:pt x="9624" y="124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884760" y="4456080"/>
            <a:ext cx="9360" cy="98280"/>
          </a:xfrm>
          <a:custGeom>
            <a:avLst/>
            <a:gdLst/>
            <a:ahLst/>
            <a:rect l="l" t="t" r="r" b="b"/>
            <a:pathLst>
              <a:path w="26" h="273">
                <a:moveTo>
                  <a:pt x="10790" y="12378"/>
                </a:moveTo>
                <a:cubicBezTo>
                  <a:pt x="10804" y="12473"/>
                  <a:pt x="10815" y="12552"/>
                  <a:pt x="10815" y="126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241880" y="4384800"/>
            <a:ext cx="901800" cy="258480"/>
          </a:xfrm>
          <a:custGeom>
            <a:avLst/>
            <a:gdLst/>
            <a:ahLst/>
            <a:rect l="l" t="t" r="r" b="b"/>
            <a:pathLst>
              <a:path w="2507" h="720">
                <a:moveTo>
                  <a:pt x="12204" y="12229"/>
                </a:moveTo>
                <a:cubicBezTo>
                  <a:pt x="12081" y="12267"/>
                  <a:pt x="11620" y="12377"/>
                  <a:pt x="11881" y="12526"/>
                </a:cubicBezTo>
                <a:cubicBezTo>
                  <a:pt x="12053" y="12624"/>
                  <a:pt x="12257" y="12603"/>
                  <a:pt x="12154" y="12725"/>
                </a:cubicBezTo>
                <a:cubicBezTo>
                  <a:pt x="11727" y="12694"/>
                  <a:pt x="11908" y="12610"/>
                  <a:pt x="12154" y="12378"/>
                </a:cubicBezTo>
                <a:cubicBezTo>
                  <a:pt x="12240" y="12297"/>
                  <a:pt x="12178" y="12312"/>
                  <a:pt x="12105" y="12303"/>
                </a:cubicBezTo>
              </a:path>
              <a:path w="2507" h="720">
                <a:moveTo>
                  <a:pt x="12576" y="12378"/>
                </a:moveTo>
                <a:cubicBezTo>
                  <a:pt x="12689" y="12515"/>
                  <a:pt x="12781" y="12664"/>
                  <a:pt x="12898" y="12799"/>
                </a:cubicBezTo>
              </a:path>
              <a:path w="2507" h="720">
                <a:moveTo>
                  <a:pt x="13221" y="12254"/>
                </a:moveTo>
                <a:cubicBezTo>
                  <a:pt x="13252" y="12470"/>
                  <a:pt x="13263" y="12658"/>
                  <a:pt x="13246" y="12874"/>
                </a:cubicBezTo>
              </a:path>
              <a:path w="2507" h="720">
                <a:moveTo>
                  <a:pt x="13618" y="12179"/>
                </a:moveTo>
                <a:cubicBezTo>
                  <a:pt x="13525" y="12416"/>
                  <a:pt x="13468" y="12597"/>
                  <a:pt x="13444" y="12849"/>
                </a:cubicBezTo>
                <a:cubicBezTo>
                  <a:pt x="13636" y="12864"/>
                  <a:pt x="14042" y="12790"/>
                  <a:pt x="13841" y="12477"/>
                </a:cubicBezTo>
                <a:cubicBezTo>
                  <a:pt x="13717" y="12283"/>
                  <a:pt x="13572" y="12406"/>
                  <a:pt x="13667" y="12254"/>
                </a:cubicBezTo>
              </a:path>
              <a:path w="2507" h="720">
                <a:moveTo>
                  <a:pt x="14064" y="12229"/>
                </a:moveTo>
                <a:cubicBezTo>
                  <a:pt x="14090" y="12233"/>
                  <a:pt x="14293" y="12256"/>
                  <a:pt x="14188" y="12328"/>
                </a:cubicBezTo>
                <a:cubicBezTo>
                  <a:pt x="14062" y="12391"/>
                  <a:pt x="14034" y="12401"/>
                  <a:pt x="13965" y="12452"/>
                </a:cubicBezTo>
                <a:cubicBezTo>
                  <a:pt x="14111" y="12466"/>
                  <a:pt x="14163" y="12475"/>
                  <a:pt x="14288" y="124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02160" y="4438800"/>
            <a:ext cx="27000" cy="142560"/>
          </a:xfrm>
          <a:custGeom>
            <a:avLst/>
            <a:gdLst/>
            <a:ahLst/>
            <a:rect l="l" t="t" r="r" b="b"/>
            <a:pathLst>
              <a:path w="75" h="398">
                <a:moveTo>
                  <a:pt x="15081" y="12328"/>
                </a:moveTo>
                <a:cubicBezTo>
                  <a:pt x="15081" y="12477"/>
                  <a:pt x="15167" y="12747"/>
                  <a:pt x="15007" y="126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697360" y="4411800"/>
            <a:ext cx="231840" cy="187200"/>
          </a:xfrm>
          <a:custGeom>
            <a:avLst/>
            <a:gdLst/>
            <a:ahLst/>
            <a:rect l="l" t="t" r="r" b="b"/>
            <a:pathLst>
              <a:path w="646" h="521">
                <a:moveTo>
                  <a:pt x="15825" y="12378"/>
                </a:moveTo>
                <a:cubicBezTo>
                  <a:pt x="15866" y="12378"/>
                  <a:pt x="16097" y="12343"/>
                  <a:pt x="16049" y="12427"/>
                </a:cubicBezTo>
                <a:cubicBezTo>
                  <a:pt x="15978" y="12498"/>
                  <a:pt x="15958" y="12520"/>
                  <a:pt x="15900" y="12551"/>
                </a:cubicBezTo>
                <a:cubicBezTo>
                  <a:pt x="16052" y="12551"/>
                  <a:pt x="16075" y="12570"/>
                  <a:pt x="16197" y="12675"/>
                </a:cubicBezTo>
                <a:cubicBezTo>
                  <a:pt x="16050" y="12781"/>
                  <a:pt x="16054" y="12769"/>
                  <a:pt x="15875" y="12725"/>
                </a:cubicBezTo>
              </a:path>
              <a:path w="646" h="521">
                <a:moveTo>
                  <a:pt x="16470" y="12254"/>
                </a:moveTo>
                <a:cubicBezTo>
                  <a:pt x="16412" y="12411"/>
                  <a:pt x="16088" y="12648"/>
                  <a:pt x="16247" y="12700"/>
                </a:cubicBezTo>
                <a:cubicBezTo>
                  <a:pt x="16272" y="12683"/>
                  <a:pt x="16296" y="12667"/>
                  <a:pt x="16321" y="126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53120" y="4394160"/>
            <a:ext cx="196920" cy="222120"/>
          </a:xfrm>
          <a:custGeom>
            <a:avLst/>
            <a:gdLst/>
            <a:ahLst/>
            <a:rect l="l" t="t" r="r" b="b"/>
            <a:pathLst>
              <a:path w="547" h="621">
                <a:moveTo>
                  <a:pt x="17289" y="12353"/>
                </a:moveTo>
                <a:cubicBezTo>
                  <a:pt x="17137" y="12483"/>
                  <a:pt x="17115" y="12609"/>
                  <a:pt x="17115" y="12799"/>
                </a:cubicBezTo>
                <a:cubicBezTo>
                  <a:pt x="17296" y="12809"/>
                  <a:pt x="17484" y="12791"/>
                  <a:pt x="17413" y="12551"/>
                </a:cubicBezTo>
                <a:cubicBezTo>
                  <a:pt x="17359" y="12471"/>
                  <a:pt x="17336" y="12443"/>
                  <a:pt x="17264" y="12427"/>
                </a:cubicBezTo>
              </a:path>
              <a:path w="547" h="621">
                <a:moveTo>
                  <a:pt x="17487" y="12229"/>
                </a:moveTo>
                <a:cubicBezTo>
                  <a:pt x="17472" y="12276"/>
                  <a:pt x="17359" y="12442"/>
                  <a:pt x="17487" y="12452"/>
                </a:cubicBezTo>
                <a:cubicBezTo>
                  <a:pt x="17576" y="12430"/>
                  <a:pt x="17601" y="12429"/>
                  <a:pt x="17636" y="12378"/>
                </a:cubicBezTo>
                <a:cubicBezTo>
                  <a:pt x="17599" y="12284"/>
                  <a:pt x="17572" y="12288"/>
                  <a:pt x="17487" y="1220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616200" y="5483160"/>
            <a:ext cx="3697560" cy="196920"/>
          </a:xfrm>
          <a:custGeom>
            <a:avLst/>
            <a:gdLst/>
            <a:ahLst/>
            <a:rect l="l" t="t" r="r" b="b"/>
            <a:pathLst>
              <a:path w="10270" h="547">
                <a:moveTo>
                  <a:pt x="10220" y="15230"/>
                </a:moveTo>
                <a:cubicBezTo>
                  <a:pt x="10140" y="15372"/>
                  <a:pt x="9862" y="15892"/>
                  <a:pt x="10319" y="15776"/>
                </a:cubicBezTo>
                <a:cubicBezTo>
                  <a:pt x="10853" y="15641"/>
                  <a:pt x="10497" y="15345"/>
                  <a:pt x="10244" y="15230"/>
                </a:cubicBezTo>
              </a:path>
              <a:path w="10270" h="547">
                <a:moveTo>
                  <a:pt x="10864" y="15528"/>
                </a:moveTo>
                <a:cubicBezTo>
                  <a:pt x="11088" y="15503"/>
                  <a:pt x="11162" y="15495"/>
                  <a:pt x="11311" y="15478"/>
                </a:cubicBezTo>
              </a:path>
              <a:path w="10270" h="547">
                <a:moveTo>
                  <a:pt x="17462" y="15478"/>
                </a:moveTo>
                <a:cubicBezTo>
                  <a:pt x="17677" y="15425"/>
                  <a:pt x="17759" y="15406"/>
                  <a:pt x="17909" y="15379"/>
                </a:cubicBezTo>
              </a:path>
              <a:path w="10270" h="547">
                <a:moveTo>
                  <a:pt x="17909" y="15379"/>
                </a:moveTo>
                <a:lnTo>
                  <a:pt x="17909" y="15379"/>
                </a:lnTo>
              </a:path>
              <a:path w="10270" h="547">
                <a:moveTo>
                  <a:pt x="20117" y="15478"/>
                </a:moveTo>
                <a:cubicBezTo>
                  <a:pt x="20127" y="15568"/>
                  <a:pt x="20175" y="15648"/>
                  <a:pt x="20092" y="15627"/>
                </a:cubicBezTo>
              </a:path>
              <a:path w="10270" h="547">
                <a:moveTo>
                  <a:pt x="19968" y="15453"/>
                </a:moveTo>
                <a:cubicBezTo>
                  <a:pt x="20158" y="15433"/>
                  <a:pt x="20199" y="15425"/>
                  <a:pt x="20315" y="154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517840" y="5446800"/>
            <a:ext cx="1108080" cy="339480"/>
          </a:xfrm>
          <a:custGeom>
            <a:avLst/>
            <a:gdLst/>
            <a:ahLst/>
            <a:rect l="l" t="t" r="r" b="b"/>
            <a:pathLst>
              <a:path w="3077" h="943">
                <a:moveTo>
                  <a:pt x="7491" y="15131"/>
                </a:moveTo>
                <a:cubicBezTo>
                  <a:pt x="7303" y="15179"/>
                  <a:pt x="7236" y="15146"/>
                  <a:pt x="7193" y="15280"/>
                </a:cubicBezTo>
                <a:cubicBezTo>
                  <a:pt x="7151" y="15387"/>
                  <a:pt x="7140" y="15411"/>
                  <a:pt x="7119" y="15478"/>
                </a:cubicBezTo>
                <a:cubicBezTo>
                  <a:pt x="7254" y="15433"/>
                  <a:pt x="7445" y="15301"/>
                  <a:pt x="7590" y="15429"/>
                </a:cubicBezTo>
                <a:cubicBezTo>
                  <a:pt x="7853" y="15661"/>
                  <a:pt x="7285" y="15842"/>
                  <a:pt x="7144" y="15825"/>
                </a:cubicBezTo>
                <a:cubicBezTo>
                  <a:pt x="6995" y="15751"/>
                  <a:pt x="6945" y="15726"/>
                  <a:pt x="7069" y="15602"/>
                </a:cubicBezTo>
              </a:path>
              <a:path w="3077" h="943">
                <a:moveTo>
                  <a:pt x="7888" y="15180"/>
                </a:moveTo>
                <a:cubicBezTo>
                  <a:pt x="7747" y="15264"/>
                  <a:pt x="7572" y="15558"/>
                  <a:pt x="7689" y="15751"/>
                </a:cubicBezTo>
                <a:cubicBezTo>
                  <a:pt x="7802" y="15937"/>
                  <a:pt x="8037" y="15684"/>
                  <a:pt x="8111" y="15627"/>
                </a:cubicBezTo>
                <a:cubicBezTo>
                  <a:pt x="8044" y="15507"/>
                  <a:pt x="7832" y="15331"/>
                  <a:pt x="7813" y="15280"/>
                </a:cubicBezTo>
              </a:path>
              <a:path w="3077" h="943">
                <a:moveTo>
                  <a:pt x="8458" y="15180"/>
                </a:moveTo>
                <a:cubicBezTo>
                  <a:pt x="8263" y="15318"/>
                  <a:pt x="8260" y="15516"/>
                  <a:pt x="8260" y="15751"/>
                </a:cubicBezTo>
                <a:cubicBezTo>
                  <a:pt x="8456" y="15745"/>
                  <a:pt x="9015" y="15683"/>
                  <a:pt x="8781" y="15329"/>
                </a:cubicBezTo>
                <a:cubicBezTo>
                  <a:pt x="8631" y="15222"/>
                  <a:pt x="8601" y="15186"/>
                  <a:pt x="8483" y="15180"/>
                </a:cubicBezTo>
              </a:path>
              <a:path w="3077" h="943">
                <a:moveTo>
                  <a:pt x="8930" y="15776"/>
                </a:moveTo>
                <a:cubicBezTo>
                  <a:pt x="8930" y="15933"/>
                  <a:pt x="8930" y="15974"/>
                  <a:pt x="8930" y="16073"/>
                </a:cubicBezTo>
              </a:path>
              <a:path w="3077" h="943">
                <a:moveTo>
                  <a:pt x="9327" y="15280"/>
                </a:moveTo>
                <a:cubicBezTo>
                  <a:pt x="9093" y="15424"/>
                  <a:pt x="9090" y="15551"/>
                  <a:pt x="9178" y="15801"/>
                </a:cubicBezTo>
                <a:cubicBezTo>
                  <a:pt x="9328" y="15777"/>
                  <a:pt x="9854" y="15602"/>
                  <a:pt x="9475" y="15379"/>
                </a:cubicBezTo>
                <a:cubicBezTo>
                  <a:pt x="9351" y="15361"/>
                  <a:pt x="9344" y="15353"/>
                  <a:pt x="9277" y="15354"/>
                </a:cubicBezTo>
              </a:path>
              <a:path w="3077" h="943">
                <a:moveTo>
                  <a:pt x="9748" y="15304"/>
                </a:moveTo>
                <a:cubicBezTo>
                  <a:pt x="9610" y="15508"/>
                  <a:pt x="9582" y="15517"/>
                  <a:pt x="9624" y="15751"/>
                </a:cubicBezTo>
                <a:cubicBezTo>
                  <a:pt x="9802" y="15727"/>
                  <a:pt x="10289" y="15617"/>
                  <a:pt x="9971" y="15354"/>
                </a:cubicBezTo>
                <a:cubicBezTo>
                  <a:pt x="9841" y="15310"/>
                  <a:pt x="9810" y="15293"/>
                  <a:pt x="9723" y="1530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963960" y="5537160"/>
            <a:ext cx="9720" cy="142920"/>
          </a:xfrm>
          <a:custGeom>
            <a:avLst/>
            <a:gdLst/>
            <a:ahLst/>
            <a:rect l="l" t="t" r="r" b="b"/>
            <a:pathLst>
              <a:path w="26" h="398">
                <a:moveTo>
                  <a:pt x="11013" y="15379"/>
                </a:moveTo>
                <a:cubicBezTo>
                  <a:pt x="11031" y="15514"/>
                  <a:pt x="11038" y="15639"/>
                  <a:pt x="11038" y="157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187880" y="5456160"/>
            <a:ext cx="2840040" cy="339840"/>
          </a:xfrm>
          <a:custGeom>
            <a:avLst/>
            <a:gdLst/>
            <a:ahLst/>
            <a:rect l="l" t="t" r="r" b="b"/>
            <a:pathLst>
              <a:path w="7889" h="943">
                <a:moveTo>
                  <a:pt x="11708" y="15255"/>
                </a:moveTo>
                <a:cubicBezTo>
                  <a:pt x="11954" y="15308"/>
                  <a:pt x="12311" y="15492"/>
                  <a:pt x="11956" y="15751"/>
                </a:cubicBezTo>
                <a:cubicBezTo>
                  <a:pt x="11784" y="15815"/>
                  <a:pt x="11746" y="15845"/>
                  <a:pt x="11633" y="15801"/>
                </a:cubicBezTo>
                <a:cubicBezTo>
                  <a:pt x="11710" y="15506"/>
                  <a:pt x="11806" y="15579"/>
                  <a:pt x="12030" y="15726"/>
                </a:cubicBezTo>
                <a:cubicBezTo>
                  <a:pt x="12047" y="15734"/>
                  <a:pt x="12063" y="15743"/>
                  <a:pt x="12080" y="15751"/>
                </a:cubicBezTo>
              </a:path>
              <a:path w="7889" h="943">
                <a:moveTo>
                  <a:pt x="12303" y="15255"/>
                </a:moveTo>
                <a:cubicBezTo>
                  <a:pt x="12175" y="15422"/>
                  <a:pt x="12149" y="15522"/>
                  <a:pt x="12105" y="15726"/>
                </a:cubicBezTo>
                <a:cubicBezTo>
                  <a:pt x="12391" y="15822"/>
                  <a:pt x="12508" y="15749"/>
                  <a:pt x="12626" y="15478"/>
                </a:cubicBezTo>
                <a:cubicBezTo>
                  <a:pt x="12437" y="15327"/>
                  <a:pt x="12514" y="15326"/>
                  <a:pt x="12278" y="15280"/>
                </a:cubicBezTo>
              </a:path>
              <a:path w="7889" h="943">
                <a:moveTo>
                  <a:pt x="12750" y="15801"/>
                </a:moveTo>
                <a:cubicBezTo>
                  <a:pt x="12750" y="15916"/>
                  <a:pt x="12750" y="16164"/>
                  <a:pt x="12750" y="16049"/>
                </a:cubicBezTo>
              </a:path>
              <a:path w="7889" h="943">
                <a:moveTo>
                  <a:pt x="13047" y="15304"/>
                </a:moveTo>
                <a:cubicBezTo>
                  <a:pt x="12838" y="15367"/>
                  <a:pt x="12846" y="15387"/>
                  <a:pt x="12774" y="15602"/>
                </a:cubicBezTo>
                <a:cubicBezTo>
                  <a:pt x="12932" y="15705"/>
                  <a:pt x="13317" y="15861"/>
                  <a:pt x="13246" y="15478"/>
                </a:cubicBezTo>
                <a:cubicBezTo>
                  <a:pt x="13213" y="15298"/>
                  <a:pt x="12845" y="15301"/>
                  <a:pt x="12973" y="15429"/>
                </a:cubicBezTo>
              </a:path>
              <a:path w="7889" h="943">
                <a:moveTo>
                  <a:pt x="13519" y="15304"/>
                </a:moveTo>
                <a:cubicBezTo>
                  <a:pt x="13337" y="15458"/>
                  <a:pt x="13329" y="15490"/>
                  <a:pt x="13295" y="15726"/>
                </a:cubicBezTo>
                <a:cubicBezTo>
                  <a:pt x="13561" y="15798"/>
                  <a:pt x="13568" y="15773"/>
                  <a:pt x="13816" y="15627"/>
                </a:cubicBezTo>
                <a:cubicBezTo>
                  <a:pt x="13720" y="15387"/>
                  <a:pt x="13632" y="15386"/>
                  <a:pt x="13469" y="15304"/>
                </a:cubicBezTo>
              </a:path>
              <a:path w="7889" h="943">
                <a:moveTo>
                  <a:pt x="14015" y="15280"/>
                </a:moveTo>
                <a:cubicBezTo>
                  <a:pt x="13802" y="15456"/>
                  <a:pt x="13786" y="15461"/>
                  <a:pt x="13767" y="15726"/>
                </a:cubicBezTo>
                <a:cubicBezTo>
                  <a:pt x="13927" y="15771"/>
                  <a:pt x="14465" y="15837"/>
                  <a:pt x="14288" y="15453"/>
                </a:cubicBezTo>
                <a:cubicBezTo>
                  <a:pt x="14189" y="15239"/>
                  <a:pt x="13915" y="15316"/>
                  <a:pt x="13742" y="15329"/>
                </a:cubicBezTo>
              </a:path>
              <a:path w="7889" h="943">
                <a:moveTo>
                  <a:pt x="14635" y="15329"/>
                </a:moveTo>
                <a:cubicBezTo>
                  <a:pt x="14635" y="15445"/>
                  <a:pt x="14635" y="15561"/>
                  <a:pt x="14635" y="15677"/>
                </a:cubicBezTo>
              </a:path>
              <a:path w="7889" h="943">
                <a:moveTo>
                  <a:pt x="14461" y="15379"/>
                </a:moveTo>
                <a:cubicBezTo>
                  <a:pt x="14585" y="15365"/>
                  <a:pt x="14878" y="15339"/>
                  <a:pt x="14759" y="15379"/>
                </a:cubicBezTo>
              </a:path>
              <a:path w="7889" h="943">
                <a:moveTo>
                  <a:pt x="14610" y="15156"/>
                </a:moveTo>
                <a:cubicBezTo>
                  <a:pt x="14610" y="15251"/>
                  <a:pt x="14595" y="15350"/>
                  <a:pt x="14635" y="15429"/>
                </a:cubicBezTo>
              </a:path>
              <a:path w="7889" h="943">
                <a:moveTo>
                  <a:pt x="15131" y="15354"/>
                </a:moveTo>
                <a:cubicBezTo>
                  <a:pt x="15250" y="15314"/>
                  <a:pt x="15417" y="15313"/>
                  <a:pt x="15553" y="15304"/>
                </a:cubicBezTo>
                <a:cubicBezTo>
                  <a:pt x="15514" y="15445"/>
                  <a:pt x="15412" y="15695"/>
                  <a:pt x="15453" y="15801"/>
                </a:cubicBezTo>
              </a:path>
              <a:path w="7889" h="943">
                <a:moveTo>
                  <a:pt x="15726" y="15701"/>
                </a:moveTo>
                <a:cubicBezTo>
                  <a:pt x="15726" y="15762"/>
                  <a:pt x="15712" y="15947"/>
                  <a:pt x="15726" y="15974"/>
                </a:cubicBezTo>
                <a:cubicBezTo>
                  <a:pt x="15734" y="15966"/>
                  <a:pt x="15743" y="15957"/>
                  <a:pt x="15751" y="15949"/>
                </a:cubicBezTo>
              </a:path>
              <a:path w="7889" h="943">
                <a:moveTo>
                  <a:pt x="16098" y="15304"/>
                </a:moveTo>
                <a:cubicBezTo>
                  <a:pt x="15927" y="15436"/>
                  <a:pt x="15909" y="15495"/>
                  <a:pt x="15850" y="15701"/>
                </a:cubicBezTo>
                <a:cubicBezTo>
                  <a:pt x="15986" y="15735"/>
                  <a:pt x="16417" y="15776"/>
                  <a:pt x="16297" y="15478"/>
                </a:cubicBezTo>
                <a:cubicBezTo>
                  <a:pt x="16233" y="15320"/>
                  <a:pt x="16147" y="15354"/>
                  <a:pt x="16024" y="15354"/>
                </a:cubicBezTo>
              </a:path>
              <a:path w="7889" h="943">
                <a:moveTo>
                  <a:pt x="16570" y="15255"/>
                </a:moveTo>
                <a:cubicBezTo>
                  <a:pt x="16438" y="15436"/>
                  <a:pt x="16404" y="15487"/>
                  <a:pt x="16396" y="15701"/>
                </a:cubicBezTo>
                <a:cubicBezTo>
                  <a:pt x="16554" y="15720"/>
                  <a:pt x="16989" y="15705"/>
                  <a:pt x="16768" y="15404"/>
                </a:cubicBezTo>
                <a:cubicBezTo>
                  <a:pt x="16657" y="15337"/>
                  <a:pt x="16631" y="15312"/>
                  <a:pt x="16545" y="15329"/>
                </a:cubicBezTo>
              </a:path>
              <a:path w="7889" h="943">
                <a:moveTo>
                  <a:pt x="17016" y="15329"/>
                </a:moveTo>
                <a:cubicBezTo>
                  <a:pt x="16897" y="15491"/>
                  <a:pt x="16876" y="15509"/>
                  <a:pt x="16917" y="15701"/>
                </a:cubicBezTo>
                <a:cubicBezTo>
                  <a:pt x="16985" y="15698"/>
                  <a:pt x="17554" y="15580"/>
                  <a:pt x="17314" y="15379"/>
                </a:cubicBezTo>
                <a:cubicBezTo>
                  <a:pt x="17198" y="15379"/>
                  <a:pt x="17165" y="15379"/>
                  <a:pt x="17090" y="15379"/>
                </a:cubicBezTo>
              </a:path>
              <a:path w="7889" h="943">
                <a:moveTo>
                  <a:pt x="17611" y="15329"/>
                </a:moveTo>
                <a:cubicBezTo>
                  <a:pt x="17711" y="15409"/>
                  <a:pt x="17686" y="15522"/>
                  <a:pt x="17686" y="15652"/>
                </a:cubicBezTo>
                <a:cubicBezTo>
                  <a:pt x="17686" y="15644"/>
                  <a:pt x="17686" y="15635"/>
                  <a:pt x="17686" y="15627"/>
                </a:cubicBezTo>
              </a:path>
              <a:path w="7889" h="943">
                <a:moveTo>
                  <a:pt x="18107" y="15255"/>
                </a:moveTo>
                <a:cubicBezTo>
                  <a:pt x="18197" y="15246"/>
                  <a:pt x="18579" y="15239"/>
                  <a:pt x="18331" y="15404"/>
                </a:cubicBezTo>
                <a:cubicBezTo>
                  <a:pt x="18237" y="15441"/>
                  <a:pt x="18219" y="15434"/>
                  <a:pt x="18182" y="15478"/>
                </a:cubicBezTo>
                <a:cubicBezTo>
                  <a:pt x="18353" y="15443"/>
                  <a:pt x="18374" y="15496"/>
                  <a:pt x="18529" y="15577"/>
                </a:cubicBezTo>
                <a:cubicBezTo>
                  <a:pt x="18357" y="15776"/>
                  <a:pt x="18259" y="15790"/>
                  <a:pt x="18058" y="15627"/>
                </a:cubicBezTo>
              </a:path>
              <a:path w="7889" h="943">
                <a:moveTo>
                  <a:pt x="18777" y="15329"/>
                </a:moveTo>
                <a:cubicBezTo>
                  <a:pt x="18599" y="15393"/>
                  <a:pt x="18598" y="15454"/>
                  <a:pt x="18504" y="15627"/>
                </a:cubicBezTo>
                <a:cubicBezTo>
                  <a:pt x="18693" y="15771"/>
                  <a:pt x="18728" y="15740"/>
                  <a:pt x="18976" y="15701"/>
                </a:cubicBezTo>
                <a:cubicBezTo>
                  <a:pt x="18994" y="15482"/>
                  <a:pt x="18975" y="15347"/>
                  <a:pt x="18728" y="15329"/>
                </a:cubicBezTo>
              </a:path>
              <a:path w="7889" h="943">
                <a:moveTo>
                  <a:pt x="19224" y="15205"/>
                </a:moveTo>
                <a:cubicBezTo>
                  <a:pt x="19120" y="15318"/>
                  <a:pt x="18921" y="15582"/>
                  <a:pt x="19149" y="15701"/>
                </a:cubicBezTo>
                <a:cubicBezTo>
                  <a:pt x="19361" y="15812"/>
                  <a:pt x="19665" y="15537"/>
                  <a:pt x="19447" y="15354"/>
                </a:cubicBezTo>
                <a:cubicBezTo>
                  <a:pt x="19313" y="15309"/>
                  <a:pt x="19277" y="15299"/>
                  <a:pt x="19199" y="1525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215120" y="5491080"/>
            <a:ext cx="27000" cy="90720"/>
          </a:xfrm>
          <a:custGeom>
            <a:avLst/>
            <a:gdLst/>
            <a:ahLst/>
            <a:rect l="l" t="t" r="r" b="b"/>
            <a:pathLst>
              <a:path w="76" h="249">
                <a:moveTo>
                  <a:pt x="20042" y="15280"/>
                </a:moveTo>
                <a:cubicBezTo>
                  <a:pt x="20042" y="15201"/>
                  <a:pt x="20066" y="15379"/>
                  <a:pt x="20092" y="15453"/>
                </a:cubicBezTo>
                <a:cubicBezTo>
                  <a:pt x="20100" y="15470"/>
                  <a:pt x="20109" y="15486"/>
                  <a:pt x="20117" y="15503"/>
                </a:cubicBezTo>
              </a:path>
            </a:pathLst>
          </a:custGeom>
          <a:noFill/>
          <a:ln cap="rnd" w="1908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41" name=""/>
          <p:cNvSpPr/>
          <p:nvPr/>
        </p:nvSpPr>
        <p:spPr>
          <a:xfrm>
            <a:off x="7429680" y="5411880"/>
            <a:ext cx="179280" cy="231840"/>
          </a:xfrm>
          <a:custGeom>
            <a:avLst/>
            <a:gdLst/>
            <a:ahLst/>
            <a:rect l="l" t="t" r="r" b="b"/>
            <a:pathLst>
              <a:path w="497" h="646">
                <a:moveTo>
                  <a:pt x="20638" y="15180"/>
                </a:moveTo>
                <a:cubicBezTo>
                  <a:pt x="20713" y="15238"/>
                  <a:pt x="20636" y="15376"/>
                  <a:pt x="20712" y="15429"/>
                </a:cubicBezTo>
                <a:cubicBezTo>
                  <a:pt x="20836" y="15515"/>
                  <a:pt x="21014" y="15416"/>
                  <a:pt x="21134" y="15379"/>
                </a:cubicBezTo>
              </a:path>
              <a:path w="497" h="646">
                <a:moveTo>
                  <a:pt x="20985" y="15032"/>
                </a:moveTo>
                <a:cubicBezTo>
                  <a:pt x="21002" y="15158"/>
                  <a:pt x="21091" y="15565"/>
                  <a:pt x="21010" y="15677"/>
                </a:cubicBezTo>
                <a:cubicBezTo>
                  <a:pt x="21002" y="15660"/>
                  <a:pt x="20993" y="15644"/>
                  <a:pt x="20985" y="1562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009880" y="5956200"/>
            <a:ext cx="5249880" cy="455760"/>
          </a:xfrm>
          <a:custGeom>
            <a:avLst/>
            <a:gdLst/>
            <a:ahLst/>
            <a:rect l="l" t="t" r="r" b="b"/>
            <a:pathLst>
              <a:path w="14586" h="1266">
                <a:moveTo>
                  <a:pt x="5680" y="17115"/>
                </a:moveTo>
                <a:cubicBezTo>
                  <a:pt x="5729" y="17233"/>
                  <a:pt x="5747" y="17310"/>
                  <a:pt x="5755" y="17438"/>
                </a:cubicBezTo>
              </a:path>
              <a:path w="14586" h="1266">
                <a:moveTo>
                  <a:pt x="5581" y="17314"/>
                </a:moveTo>
                <a:cubicBezTo>
                  <a:pt x="5713" y="17289"/>
                  <a:pt x="5846" y="17264"/>
                  <a:pt x="5978" y="17239"/>
                </a:cubicBezTo>
              </a:path>
              <a:path w="14586" h="1266">
                <a:moveTo>
                  <a:pt x="6375" y="16768"/>
                </a:moveTo>
                <a:cubicBezTo>
                  <a:pt x="6270" y="17055"/>
                  <a:pt x="6118" y="17338"/>
                  <a:pt x="6325" y="17611"/>
                </a:cubicBezTo>
                <a:cubicBezTo>
                  <a:pt x="6405" y="17717"/>
                  <a:pt x="6473" y="17691"/>
                  <a:pt x="6573" y="17661"/>
                </a:cubicBezTo>
              </a:path>
              <a:path w="14586" h="1266">
                <a:moveTo>
                  <a:pt x="8607" y="16594"/>
                </a:moveTo>
                <a:cubicBezTo>
                  <a:pt x="8792" y="16852"/>
                  <a:pt x="8991" y="17120"/>
                  <a:pt x="8930" y="17462"/>
                </a:cubicBezTo>
                <a:cubicBezTo>
                  <a:pt x="8858" y="17604"/>
                  <a:pt x="8840" y="17650"/>
                  <a:pt x="8731" y="17686"/>
                </a:cubicBezTo>
              </a:path>
              <a:path w="14586" h="1266">
                <a:moveTo>
                  <a:pt x="9203" y="17115"/>
                </a:moveTo>
                <a:cubicBezTo>
                  <a:pt x="9229" y="17233"/>
                  <a:pt x="9245" y="17342"/>
                  <a:pt x="9252" y="17462"/>
                </a:cubicBezTo>
              </a:path>
              <a:path w="14586" h="1266">
                <a:moveTo>
                  <a:pt x="9128" y="17338"/>
                </a:moveTo>
                <a:cubicBezTo>
                  <a:pt x="9260" y="17313"/>
                  <a:pt x="9393" y="17289"/>
                  <a:pt x="9525" y="17264"/>
                </a:cubicBezTo>
              </a:path>
              <a:path w="14586" h="1266">
                <a:moveTo>
                  <a:pt x="9922" y="16867"/>
                </a:moveTo>
                <a:cubicBezTo>
                  <a:pt x="9814" y="17063"/>
                  <a:pt x="9706" y="17330"/>
                  <a:pt x="9798" y="17562"/>
                </a:cubicBezTo>
                <a:cubicBezTo>
                  <a:pt x="9869" y="17742"/>
                  <a:pt x="10019" y="17585"/>
                  <a:pt x="10096" y="17537"/>
                </a:cubicBezTo>
              </a:path>
              <a:path w="14586" h="1266">
                <a:moveTo>
                  <a:pt x="10889" y="17115"/>
                </a:moveTo>
                <a:cubicBezTo>
                  <a:pt x="10796" y="17225"/>
                  <a:pt x="10762" y="17273"/>
                  <a:pt x="10691" y="17388"/>
                </a:cubicBezTo>
              </a:path>
              <a:path w="14586" h="1266">
                <a:moveTo>
                  <a:pt x="11956" y="16669"/>
                </a:moveTo>
                <a:cubicBezTo>
                  <a:pt x="12189" y="16912"/>
                  <a:pt x="12446" y="17194"/>
                  <a:pt x="12353" y="17562"/>
                </a:cubicBezTo>
                <a:cubicBezTo>
                  <a:pt x="12254" y="17711"/>
                  <a:pt x="12221" y="17761"/>
                  <a:pt x="12105" y="17810"/>
                </a:cubicBezTo>
              </a:path>
              <a:path w="14586" h="1266">
                <a:moveTo>
                  <a:pt x="12799" y="17140"/>
                </a:moveTo>
                <a:cubicBezTo>
                  <a:pt x="12850" y="17254"/>
                  <a:pt x="12860" y="17344"/>
                  <a:pt x="12824" y="17462"/>
                </a:cubicBezTo>
              </a:path>
              <a:path w="14586" h="1266">
                <a:moveTo>
                  <a:pt x="12750" y="17289"/>
                </a:moveTo>
                <a:cubicBezTo>
                  <a:pt x="12915" y="17265"/>
                  <a:pt x="12965" y="17258"/>
                  <a:pt x="13072" y="17239"/>
                </a:cubicBezTo>
              </a:path>
              <a:path w="14586" h="1266">
                <a:moveTo>
                  <a:pt x="13444" y="16743"/>
                </a:moveTo>
                <a:cubicBezTo>
                  <a:pt x="13350" y="16976"/>
                  <a:pt x="13080" y="17480"/>
                  <a:pt x="13419" y="17661"/>
                </a:cubicBezTo>
                <a:cubicBezTo>
                  <a:pt x="13485" y="17669"/>
                  <a:pt x="13552" y="17678"/>
                  <a:pt x="13618" y="17686"/>
                </a:cubicBezTo>
              </a:path>
              <a:path w="14586" h="1266">
                <a:moveTo>
                  <a:pt x="14610" y="17041"/>
                </a:moveTo>
                <a:cubicBezTo>
                  <a:pt x="14530" y="17141"/>
                  <a:pt x="14307" y="17300"/>
                  <a:pt x="14461" y="17338"/>
                </a:cubicBezTo>
              </a:path>
              <a:path w="14586" h="1266">
                <a:moveTo>
                  <a:pt x="15875" y="16545"/>
                </a:moveTo>
                <a:cubicBezTo>
                  <a:pt x="16153" y="16777"/>
                  <a:pt x="16478" y="17024"/>
                  <a:pt x="16297" y="17438"/>
                </a:cubicBezTo>
                <a:cubicBezTo>
                  <a:pt x="16183" y="17552"/>
                  <a:pt x="16155" y="17588"/>
                  <a:pt x="16049" y="17611"/>
                </a:cubicBezTo>
              </a:path>
              <a:path w="14586" h="1266">
                <a:moveTo>
                  <a:pt x="16991" y="17115"/>
                </a:moveTo>
                <a:lnTo>
                  <a:pt x="16991" y="17115"/>
                </a:lnTo>
              </a:path>
              <a:path w="14586" h="1266">
                <a:moveTo>
                  <a:pt x="17537" y="16768"/>
                </a:moveTo>
                <a:cubicBezTo>
                  <a:pt x="17537" y="16920"/>
                  <a:pt x="17352" y="17179"/>
                  <a:pt x="17338" y="17388"/>
                </a:cubicBezTo>
                <a:cubicBezTo>
                  <a:pt x="17327" y="17556"/>
                  <a:pt x="17415" y="17662"/>
                  <a:pt x="17562" y="17711"/>
                </a:cubicBezTo>
              </a:path>
              <a:path w="14586" h="1266">
                <a:moveTo>
                  <a:pt x="19621" y="16570"/>
                </a:moveTo>
                <a:cubicBezTo>
                  <a:pt x="19925" y="16742"/>
                  <a:pt x="20219" y="16932"/>
                  <a:pt x="20166" y="17338"/>
                </a:cubicBezTo>
                <a:cubicBezTo>
                  <a:pt x="20153" y="17435"/>
                  <a:pt x="20093" y="17507"/>
                  <a:pt x="20017" y="1753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19080" y="5973840"/>
            <a:ext cx="1001880" cy="411120"/>
          </a:xfrm>
          <a:custGeom>
            <a:avLst/>
            <a:gdLst/>
            <a:ahLst/>
            <a:rect l="l" t="t" r="r" b="b"/>
            <a:pathLst>
              <a:path w="2779" h="1142">
                <a:moveTo>
                  <a:pt x="2803" y="16892"/>
                </a:moveTo>
                <a:cubicBezTo>
                  <a:pt x="2713" y="16910"/>
                  <a:pt x="2570" y="17274"/>
                  <a:pt x="2555" y="17413"/>
                </a:cubicBezTo>
                <a:cubicBezTo>
                  <a:pt x="2538" y="17566"/>
                  <a:pt x="2606" y="17673"/>
                  <a:pt x="2753" y="17686"/>
                </a:cubicBezTo>
                <a:cubicBezTo>
                  <a:pt x="2761" y="17686"/>
                  <a:pt x="2770" y="17686"/>
                  <a:pt x="2778" y="17686"/>
                </a:cubicBezTo>
              </a:path>
              <a:path w="2779" h="1142">
                <a:moveTo>
                  <a:pt x="3076" y="17115"/>
                </a:moveTo>
                <a:cubicBezTo>
                  <a:pt x="3030" y="17123"/>
                  <a:pt x="2882" y="17140"/>
                  <a:pt x="2853" y="17165"/>
                </a:cubicBezTo>
                <a:cubicBezTo>
                  <a:pt x="2813" y="17199"/>
                  <a:pt x="2803" y="17304"/>
                  <a:pt x="2803" y="17363"/>
                </a:cubicBezTo>
                <a:cubicBezTo>
                  <a:pt x="2912" y="17327"/>
                  <a:pt x="2986" y="17270"/>
                  <a:pt x="3101" y="17363"/>
                </a:cubicBezTo>
                <a:cubicBezTo>
                  <a:pt x="3257" y="17489"/>
                  <a:pt x="3012" y="17617"/>
                  <a:pt x="2902" y="17611"/>
                </a:cubicBezTo>
                <a:cubicBezTo>
                  <a:pt x="2795" y="17605"/>
                  <a:pt x="2775" y="17582"/>
                  <a:pt x="2803" y="17512"/>
                </a:cubicBezTo>
              </a:path>
              <a:path w="2779" h="1142">
                <a:moveTo>
                  <a:pt x="3274" y="17165"/>
                </a:moveTo>
                <a:cubicBezTo>
                  <a:pt x="3362" y="17242"/>
                  <a:pt x="3499" y="17326"/>
                  <a:pt x="3572" y="17413"/>
                </a:cubicBezTo>
                <a:cubicBezTo>
                  <a:pt x="3572" y="17421"/>
                  <a:pt x="3572" y="17430"/>
                  <a:pt x="3572" y="17438"/>
                </a:cubicBezTo>
              </a:path>
              <a:path w="2779" h="1142">
                <a:moveTo>
                  <a:pt x="3621" y="17115"/>
                </a:moveTo>
                <a:cubicBezTo>
                  <a:pt x="3593" y="17155"/>
                  <a:pt x="3389" y="17496"/>
                  <a:pt x="3349" y="17487"/>
                </a:cubicBezTo>
                <a:cubicBezTo>
                  <a:pt x="3349" y="17479"/>
                  <a:pt x="3349" y="17470"/>
                  <a:pt x="3349" y="17462"/>
                </a:cubicBezTo>
              </a:path>
              <a:path w="2779" h="1142">
                <a:moveTo>
                  <a:pt x="3919" y="17041"/>
                </a:moveTo>
                <a:cubicBezTo>
                  <a:pt x="3972" y="17199"/>
                  <a:pt x="3928" y="17359"/>
                  <a:pt x="3969" y="17512"/>
                </a:cubicBezTo>
                <a:cubicBezTo>
                  <a:pt x="3977" y="17512"/>
                  <a:pt x="3986" y="17512"/>
                  <a:pt x="3994" y="17512"/>
                </a:cubicBezTo>
              </a:path>
              <a:path w="2779" h="1142">
                <a:moveTo>
                  <a:pt x="4316" y="17016"/>
                </a:moveTo>
                <a:cubicBezTo>
                  <a:pt x="4225" y="17208"/>
                  <a:pt x="4177" y="17351"/>
                  <a:pt x="4167" y="17562"/>
                </a:cubicBezTo>
                <a:cubicBezTo>
                  <a:pt x="4346" y="17582"/>
                  <a:pt x="4557" y="17575"/>
                  <a:pt x="4589" y="17338"/>
                </a:cubicBezTo>
                <a:cubicBezTo>
                  <a:pt x="4613" y="17161"/>
                  <a:pt x="4444" y="17110"/>
                  <a:pt x="4316" y="17090"/>
                </a:cubicBezTo>
              </a:path>
              <a:path w="2779" h="1142">
                <a:moveTo>
                  <a:pt x="4986" y="16842"/>
                </a:moveTo>
                <a:cubicBezTo>
                  <a:pt x="4951" y="16845"/>
                  <a:pt x="4785" y="16844"/>
                  <a:pt x="4762" y="16867"/>
                </a:cubicBezTo>
                <a:cubicBezTo>
                  <a:pt x="4737" y="16892"/>
                  <a:pt x="4751" y="16934"/>
                  <a:pt x="4738" y="16966"/>
                </a:cubicBezTo>
                <a:cubicBezTo>
                  <a:pt x="4813" y="16966"/>
                  <a:pt x="4920" y="16948"/>
                  <a:pt x="4986" y="16991"/>
                </a:cubicBezTo>
                <a:cubicBezTo>
                  <a:pt x="4994" y="17008"/>
                  <a:pt x="5003" y="17024"/>
                  <a:pt x="5011" y="17041"/>
                </a:cubicBezTo>
                <a:cubicBezTo>
                  <a:pt x="4977" y="17109"/>
                  <a:pt x="4779" y="17360"/>
                  <a:pt x="4738" y="17140"/>
                </a:cubicBezTo>
                <a:cubicBezTo>
                  <a:pt x="4746" y="17099"/>
                  <a:pt x="4754" y="17057"/>
                  <a:pt x="4762" y="17016"/>
                </a:cubicBezTo>
              </a:path>
              <a:path w="2779" h="1142">
                <a:moveTo>
                  <a:pt x="4887" y="16594"/>
                </a:moveTo>
                <a:cubicBezTo>
                  <a:pt x="5153" y="16728"/>
                  <a:pt x="5383" y="16991"/>
                  <a:pt x="5333" y="17338"/>
                </a:cubicBezTo>
                <a:cubicBezTo>
                  <a:pt x="5310" y="17499"/>
                  <a:pt x="5053" y="17777"/>
                  <a:pt x="4961" y="176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347920" y="6072120"/>
            <a:ext cx="777960" cy="250920"/>
          </a:xfrm>
          <a:custGeom>
            <a:avLst/>
            <a:gdLst/>
            <a:ahLst/>
            <a:rect l="l" t="t" r="r" b="b"/>
            <a:pathLst>
              <a:path w="2159" h="696">
                <a:moveTo>
                  <a:pt x="6672" y="17016"/>
                </a:moveTo>
                <a:cubicBezTo>
                  <a:pt x="6839" y="17052"/>
                  <a:pt x="7000" y="17152"/>
                  <a:pt x="6896" y="17363"/>
                </a:cubicBezTo>
                <a:cubicBezTo>
                  <a:pt x="6778" y="17602"/>
                  <a:pt x="6593" y="17464"/>
                  <a:pt x="6524" y="17314"/>
                </a:cubicBezTo>
                <a:cubicBezTo>
                  <a:pt x="6670" y="17265"/>
                  <a:pt x="6707" y="17352"/>
                  <a:pt x="6846" y="17388"/>
                </a:cubicBezTo>
                <a:cubicBezTo>
                  <a:pt x="6871" y="17388"/>
                  <a:pt x="6896" y="17388"/>
                  <a:pt x="6921" y="17388"/>
                </a:cubicBezTo>
              </a:path>
              <a:path w="2159" h="696">
                <a:moveTo>
                  <a:pt x="7119" y="17066"/>
                </a:moveTo>
                <a:cubicBezTo>
                  <a:pt x="7210" y="17201"/>
                  <a:pt x="7316" y="17333"/>
                  <a:pt x="7417" y="17462"/>
                </a:cubicBezTo>
                <a:cubicBezTo>
                  <a:pt x="7425" y="17470"/>
                  <a:pt x="7433" y="17479"/>
                  <a:pt x="7441" y="17487"/>
                </a:cubicBezTo>
              </a:path>
              <a:path w="2159" h="696">
                <a:moveTo>
                  <a:pt x="7417" y="17066"/>
                </a:moveTo>
                <a:cubicBezTo>
                  <a:pt x="7321" y="17216"/>
                  <a:pt x="7000" y="17638"/>
                  <a:pt x="7094" y="17487"/>
                </a:cubicBezTo>
                <a:cubicBezTo>
                  <a:pt x="7119" y="17454"/>
                  <a:pt x="7144" y="17421"/>
                  <a:pt x="7169" y="17388"/>
                </a:cubicBezTo>
              </a:path>
              <a:path w="2159" h="696">
                <a:moveTo>
                  <a:pt x="7689" y="17066"/>
                </a:moveTo>
                <a:cubicBezTo>
                  <a:pt x="7698" y="17184"/>
                  <a:pt x="7682" y="17458"/>
                  <a:pt x="7739" y="17562"/>
                </a:cubicBezTo>
                <a:cubicBezTo>
                  <a:pt x="7747" y="17554"/>
                  <a:pt x="7756" y="17545"/>
                  <a:pt x="7764" y="17537"/>
                </a:cubicBezTo>
              </a:path>
              <a:path w="2159" h="696">
                <a:moveTo>
                  <a:pt x="8210" y="17041"/>
                </a:moveTo>
                <a:cubicBezTo>
                  <a:pt x="8021" y="17211"/>
                  <a:pt x="7907" y="17288"/>
                  <a:pt x="7962" y="17537"/>
                </a:cubicBezTo>
                <a:cubicBezTo>
                  <a:pt x="8143" y="17546"/>
                  <a:pt x="8415" y="17525"/>
                  <a:pt x="8409" y="17264"/>
                </a:cubicBezTo>
                <a:cubicBezTo>
                  <a:pt x="8406" y="17133"/>
                  <a:pt x="8289" y="17086"/>
                  <a:pt x="8186" y="17066"/>
                </a:cubicBezTo>
              </a:path>
              <a:path w="2159" h="696">
                <a:moveTo>
                  <a:pt x="8533" y="16867"/>
                </a:moveTo>
                <a:cubicBezTo>
                  <a:pt x="8491" y="16946"/>
                  <a:pt x="8452" y="17008"/>
                  <a:pt x="8434" y="17090"/>
                </a:cubicBezTo>
                <a:cubicBezTo>
                  <a:pt x="8523" y="17078"/>
                  <a:pt x="8607" y="17059"/>
                  <a:pt x="8682" y="17016"/>
                </a:cubicBezTo>
              </a:path>
              <a:path w="2159" h="696">
                <a:moveTo>
                  <a:pt x="8632" y="16867"/>
                </a:moveTo>
                <a:cubicBezTo>
                  <a:pt x="8616" y="16976"/>
                  <a:pt x="8588" y="17079"/>
                  <a:pt x="8582" y="17190"/>
                </a:cubicBezTo>
                <a:cubicBezTo>
                  <a:pt x="8582" y="17224"/>
                  <a:pt x="8587" y="17223"/>
                  <a:pt x="8607" y="171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633840" y="6099120"/>
            <a:ext cx="696960" cy="204840"/>
          </a:xfrm>
          <a:custGeom>
            <a:avLst/>
            <a:gdLst/>
            <a:ahLst/>
            <a:rect l="l" t="t" r="r" b="b"/>
            <a:pathLst>
              <a:path w="1935" h="571">
                <a:moveTo>
                  <a:pt x="10096" y="16942"/>
                </a:moveTo>
                <a:cubicBezTo>
                  <a:pt x="10189" y="16965"/>
                  <a:pt x="10291" y="16951"/>
                  <a:pt x="10393" y="16966"/>
                </a:cubicBezTo>
                <a:cubicBezTo>
                  <a:pt x="10560" y="16990"/>
                  <a:pt x="10471" y="17181"/>
                  <a:pt x="10443" y="17289"/>
                </a:cubicBezTo>
                <a:cubicBezTo>
                  <a:pt x="10414" y="17402"/>
                  <a:pt x="10421" y="17371"/>
                  <a:pt x="10517" y="17314"/>
                </a:cubicBezTo>
              </a:path>
              <a:path w="1935" h="571">
                <a:moveTo>
                  <a:pt x="10716" y="17016"/>
                </a:moveTo>
                <a:cubicBezTo>
                  <a:pt x="10784" y="17136"/>
                  <a:pt x="10866" y="17311"/>
                  <a:pt x="10964" y="17388"/>
                </a:cubicBezTo>
              </a:path>
              <a:path w="1935" h="571">
                <a:moveTo>
                  <a:pt x="11187" y="16991"/>
                </a:moveTo>
                <a:cubicBezTo>
                  <a:pt x="11230" y="17128"/>
                  <a:pt x="11223" y="17404"/>
                  <a:pt x="11286" y="17512"/>
                </a:cubicBezTo>
                <a:cubicBezTo>
                  <a:pt x="11303" y="17512"/>
                  <a:pt x="11319" y="17512"/>
                  <a:pt x="11336" y="17512"/>
                </a:cubicBezTo>
              </a:path>
              <a:path w="1935" h="571">
                <a:moveTo>
                  <a:pt x="11708" y="17016"/>
                </a:moveTo>
                <a:cubicBezTo>
                  <a:pt x="11564" y="17119"/>
                  <a:pt x="11514" y="17270"/>
                  <a:pt x="11460" y="17438"/>
                </a:cubicBezTo>
                <a:cubicBezTo>
                  <a:pt x="11608" y="17549"/>
                  <a:pt x="11806" y="17526"/>
                  <a:pt x="11906" y="17314"/>
                </a:cubicBezTo>
                <a:cubicBezTo>
                  <a:pt x="11977" y="17163"/>
                  <a:pt x="11671" y="17060"/>
                  <a:pt x="11584" y="16991"/>
                </a:cubicBezTo>
              </a:path>
              <a:path w="1935" h="571">
                <a:moveTo>
                  <a:pt x="11782" y="16942"/>
                </a:moveTo>
                <a:cubicBezTo>
                  <a:pt x="11858" y="16947"/>
                  <a:pt x="11930" y="16957"/>
                  <a:pt x="12005" y="16966"/>
                </a:cubicBezTo>
                <a:cubicBezTo>
                  <a:pt x="11982" y="17027"/>
                  <a:pt x="11907" y="17070"/>
                  <a:pt x="11931" y="17090"/>
                </a:cubicBezTo>
                <a:cubicBezTo>
                  <a:pt x="11976" y="17128"/>
                  <a:pt x="11996" y="17142"/>
                  <a:pt x="12030" y="17190"/>
                </a:cubicBezTo>
                <a:cubicBezTo>
                  <a:pt x="11896" y="17243"/>
                  <a:pt x="11923" y="17236"/>
                  <a:pt x="11807" y="171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919760" y="6062760"/>
            <a:ext cx="822240" cy="241200"/>
          </a:xfrm>
          <a:custGeom>
            <a:avLst/>
            <a:gdLst/>
            <a:ahLst/>
            <a:rect l="l" t="t" r="r" b="b"/>
            <a:pathLst>
              <a:path w="2283" h="671">
                <a:moveTo>
                  <a:pt x="13667" y="16966"/>
                </a:moveTo>
                <a:cubicBezTo>
                  <a:pt x="13806" y="16996"/>
                  <a:pt x="13936" y="16984"/>
                  <a:pt x="14039" y="17066"/>
                </a:cubicBezTo>
                <a:cubicBezTo>
                  <a:pt x="13955" y="17158"/>
                  <a:pt x="13880" y="17204"/>
                  <a:pt x="13767" y="17264"/>
                </a:cubicBezTo>
                <a:cubicBezTo>
                  <a:pt x="13840" y="17227"/>
                  <a:pt x="13986" y="17259"/>
                  <a:pt x="14114" y="17338"/>
                </a:cubicBezTo>
                <a:cubicBezTo>
                  <a:pt x="13944" y="17443"/>
                  <a:pt x="13843" y="17479"/>
                  <a:pt x="13717" y="17338"/>
                </a:cubicBezTo>
              </a:path>
              <a:path w="2283" h="671">
                <a:moveTo>
                  <a:pt x="14362" y="16991"/>
                </a:moveTo>
                <a:cubicBezTo>
                  <a:pt x="14464" y="17121"/>
                  <a:pt x="14563" y="17265"/>
                  <a:pt x="14709" y="17338"/>
                </a:cubicBezTo>
              </a:path>
              <a:path w="2283" h="671">
                <a:moveTo>
                  <a:pt x="14932" y="17016"/>
                </a:moveTo>
                <a:cubicBezTo>
                  <a:pt x="14975" y="17162"/>
                  <a:pt x="15025" y="17411"/>
                  <a:pt x="15106" y="17512"/>
                </a:cubicBezTo>
              </a:path>
              <a:path w="2283" h="671">
                <a:moveTo>
                  <a:pt x="15453" y="16942"/>
                </a:moveTo>
                <a:cubicBezTo>
                  <a:pt x="15353" y="17037"/>
                  <a:pt x="15024" y="17311"/>
                  <a:pt x="15255" y="17462"/>
                </a:cubicBezTo>
                <a:cubicBezTo>
                  <a:pt x="15391" y="17551"/>
                  <a:pt x="15548" y="17383"/>
                  <a:pt x="15627" y="17314"/>
                </a:cubicBezTo>
                <a:cubicBezTo>
                  <a:pt x="15557" y="17157"/>
                  <a:pt x="15540" y="17151"/>
                  <a:pt x="15379" y="17066"/>
                </a:cubicBezTo>
              </a:path>
              <a:path w="2283" h="671">
                <a:moveTo>
                  <a:pt x="15602" y="16842"/>
                </a:moveTo>
                <a:cubicBezTo>
                  <a:pt x="15630" y="16845"/>
                  <a:pt x="15847" y="16860"/>
                  <a:pt x="15776" y="16942"/>
                </a:cubicBezTo>
                <a:cubicBezTo>
                  <a:pt x="15686" y="17009"/>
                  <a:pt x="15662" y="17028"/>
                  <a:pt x="15602" y="17066"/>
                </a:cubicBezTo>
                <a:cubicBezTo>
                  <a:pt x="15726" y="17083"/>
                  <a:pt x="15821" y="17057"/>
                  <a:pt x="15949" y="170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973840" y="6116760"/>
            <a:ext cx="142920" cy="125280"/>
          </a:xfrm>
          <a:custGeom>
            <a:avLst/>
            <a:gdLst/>
            <a:ahLst/>
            <a:rect l="l" t="t" r="r" b="b"/>
            <a:pathLst>
              <a:path w="398" h="348">
                <a:moveTo>
                  <a:pt x="16818" y="16991"/>
                </a:moveTo>
                <a:cubicBezTo>
                  <a:pt x="16838" y="17108"/>
                  <a:pt x="16859" y="17221"/>
                  <a:pt x="16867" y="17338"/>
                </a:cubicBezTo>
              </a:path>
              <a:path w="398" h="348">
                <a:moveTo>
                  <a:pt x="16594" y="17115"/>
                </a:moveTo>
                <a:cubicBezTo>
                  <a:pt x="16784" y="17115"/>
                  <a:pt x="16859" y="17115"/>
                  <a:pt x="16991" y="171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330960" y="6045120"/>
            <a:ext cx="785880" cy="241560"/>
          </a:xfrm>
          <a:custGeom>
            <a:avLst/>
            <a:gdLst/>
            <a:ahLst/>
            <a:rect l="l" t="t" r="r" b="b"/>
            <a:pathLst>
              <a:path w="2183" h="670">
                <a:moveTo>
                  <a:pt x="17661" y="16966"/>
                </a:moveTo>
                <a:cubicBezTo>
                  <a:pt x="17728" y="16988"/>
                  <a:pt x="17636" y="17122"/>
                  <a:pt x="17611" y="17165"/>
                </a:cubicBezTo>
                <a:cubicBezTo>
                  <a:pt x="17565" y="17242"/>
                  <a:pt x="17789" y="17210"/>
                  <a:pt x="17859" y="17214"/>
                </a:cubicBezTo>
              </a:path>
              <a:path w="2183" h="670">
                <a:moveTo>
                  <a:pt x="17760" y="16892"/>
                </a:moveTo>
                <a:cubicBezTo>
                  <a:pt x="17775" y="17057"/>
                  <a:pt x="17773" y="17198"/>
                  <a:pt x="17760" y="17363"/>
                </a:cubicBezTo>
                <a:cubicBezTo>
                  <a:pt x="17751" y="17469"/>
                  <a:pt x="17742" y="17469"/>
                  <a:pt x="17810" y="17413"/>
                </a:cubicBezTo>
              </a:path>
              <a:path w="2183" h="670">
                <a:moveTo>
                  <a:pt x="18157" y="17016"/>
                </a:moveTo>
                <a:cubicBezTo>
                  <a:pt x="18216" y="17115"/>
                  <a:pt x="18363" y="17222"/>
                  <a:pt x="18455" y="17314"/>
                </a:cubicBezTo>
              </a:path>
              <a:path w="2183" h="670">
                <a:moveTo>
                  <a:pt x="18405" y="16991"/>
                </a:moveTo>
                <a:cubicBezTo>
                  <a:pt x="18315" y="17133"/>
                  <a:pt x="18132" y="17581"/>
                  <a:pt x="18132" y="17413"/>
                </a:cubicBezTo>
                <a:cubicBezTo>
                  <a:pt x="18140" y="17396"/>
                  <a:pt x="18149" y="17380"/>
                  <a:pt x="18157" y="17363"/>
                </a:cubicBezTo>
              </a:path>
              <a:path w="2183" h="670">
                <a:moveTo>
                  <a:pt x="18752" y="16917"/>
                </a:moveTo>
                <a:cubicBezTo>
                  <a:pt x="18787" y="17097"/>
                  <a:pt x="18622" y="17425"/>
                  <a:pt x="18802" y="17462"/>
                </a:cubicBezTo>
                <a:cubicBezTo>
                  <a:pt x="18810" y="17446"/>
                  <a:pt x="18819" y="17429"/>
                  <a:pt x="18827" y="17413"/>
                </a:cubicBezTo>
              </a:path>
              <a:path w="2183" h="670">
                <a:moveTo>
                  <a:pt x="19224" y="16942"/>
                </a:moveTo>
                <a:cubicBezTo>
                  <a:pt x="19084" y="17103"/>
                  <a:pt x="19021" y="17204"/>
                  <a:pt x="19000" y="17413"/>
                </a:cubicBezTo>
                <a:cubicBezTo>
                  <a:pt x="19165" y="17458"/>
                  <a:pt x="19384" y="17477"/>
                  <a:pt x="19422" y="17239"/>
                </a:cubicBezTo>
                <a:cubicBezTo>
                  <a:pt x="19448" y="17075"/>
                  <a:pt x="19293" y="17006"/>
                  <a:pt x="19174" y="16966"/>
                </a:cubicBezTo>
              </a:path>
              <a:path w="2183" h="670">
                <a:moveTo>
                  <a:pt x="19596" y="16818"/>
                </a:moveTo>
                <a:cubicBezTo>
                  <a:pt x="19596" y="16766"/>
                  <a:pt x="19582" y="16868"/>
                  <a:pt x="19571" y="16892"/>
                </a:cubicBezTo>
                <a:cubicBezTo>
                  <a:pt x="19516" y="17009"/>
                  <a:pt x="19629" y="17015"/>
                  <a:pt x="19720" y="16966"/>
                </a:cubicBezTo>
                <a:cubicBezTo>
                  <a:pt x="19791" y="16928"/>
                  <a:pt x="19787" y="16867"/>
                  <a:pt x="19720" y="16842"/>
                </a:cubicBezTo>
                <a:cubicBezTo>
                  <a:pt x="19692" y="16842"/>
                  <a:pt x="19681" y="16840"/>
                  <a:pt x="19670" y="168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80880" y="228600"/>
            <a:ext cx="8305920" cy="6400800"/>
          </a:xfrm>
          <a:prstGeom prst="rect">
            <a:avLst/>
          </a:prstGeom>
          <a:noFill/>
          <a:ln w="0">
            <a:noFill/>
          </a:ln>
        </p:spPr>
        <p:txBody>
          <a:bodyPr lIns="90000" rIns="90000" tIns="46800" bIns="46800" anchor="t">
            <a:normAutofit fontScale="87000"/>
          </a:bodyPr>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pplication:</a:t>
            </a:r>
            <a:r>
              <a:rPr b="0" lang="en-US" sz="3200" spc="-1" strike="noStrike">
                <a:solidFill>
                  <a:srgbClr val="66ffff"/>
                </a:solidFill>
                <a:latin typeface="Arial"/>
              </a:rPr>
              <a:t>  </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r>
              <a:rPr b="0" lang="en-US" sz="2800" spc="-1" strike="noStrike">
                <a:solidFill>
                  <a:srgbClr val="ff6600"/>
                </a:solidFill>
                <a:latin typeface="Arial"/>
              </a:rPr>
              <a:t>Your friend tries to impress his little sister by telling her that he’s learning how to use exponential notation.  You hear him as he tells her that the larger the number, the harder it will be to write the number in exponential notation.  Is he right?  Why or why not?</a:t>
            </a:r>
            <a:r>
              <a:rPr b="0" lang="en-US" sz="2800" spc="-1" strike="noStrike">
                <a:solidFill>
                  <a:srgbClr val="3399ff"/>
                </a:solidFill>
                <a:latin typeface="Arial"/>
              </a:rPr>
              <a:t> </a:t>
            </a:r>
            <a:endParaRPr b="0" lang="en-US" sz="2800" spc="-1" strike="noStrike">
              <a:solidFill>
                <a:srgbClr val="000000"/>
              </a:solidFill>
              <a:latin typeface="Arial"/>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462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646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46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4620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lvl="1" marL="64620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cc66"/>
                </a:solidFill>
                <a:latin typeface="Arial"/>
              </a:rPr>
              <a:t>	</a:t>
            </a:r>
            <a:r>
              <a:rPr b="0" lang="en-US" sz="3700" spc="-1" strike="noStrike">
                <a:solidFill>
                  <a:srgbClr val="00cc66"/>
                </a:solidFill>
                <a:latin typeface="Arial"/>
              </a:rPr>
              <a:t>	</a:t>
            </a:r>
            <a:r>
              <a:rPr b="0" lang="en-US" sz="3700" spc="-1" strike="noStrike">
                <a:solidFill>
                  <a:srgbClr val="00cc66"/>
                </a:solidFill>
                <a:latin typeface="Arial"/>
              </a:rPr>
              <a:t>	</a:t>
            </a:r>
            <a:r>
              <a:rPr b="0" lang="en-US" sz="3700" spc="-1" strike="noStrike">
                <a:solidFill>
                  <a:srgbClr val="00cc66"/>
                </a:solidFill>
                <a:latin typeface="Arial"/>
              </a:rPr>
              <a:t>	</a:t>
            </a:r>
            <a:endParaRPr b="0" lang="en-US" sz="37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ponential Form using Powers of 10  WS</a:t>
            </a:r>
            <a:endParaRPr b="0" lang="en-US" sz="32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0T14:18:38Z</dcterms:created>
  <dc:creator>ccps</dc:creator>
  <dc:description/>
  <dc:language>en-US</dc:language>
  <cp:lastModifiedBy>deanne e mcgrath</cp:lastModifiedBy>
  <dcterms:modified xsi:type="dcterms:W3CDTF">2011-10-04T19:31:13Z</dcterms:modified>
  <cp:revision>47</cp:revision>
  <dc:subject/>
  <dc:title>Unit 1 – Variables and Equations </dc:title>
</cp:coreProperties>
</file>